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B2BF-0AF0-4671-B80C-66F7A80FB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644C-3726-49DF-AFF9-023604C89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2A71-9083-48C9-A2A9-ADA49AA03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275D-06AC-44FF-819C-E164D3784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5DF3-98B9-4611-94B7-FC80CA0395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448A-7465-40ED-8CE8-CA5AEEB857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78F0-1F03-4A94-BB0C-C45328A75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C269-4FBB-4E18-B8AB-73CBAB8BB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2295-4342-4089-8BAD-627E6C825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0"/>
            <a:ext cx="82440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9CD2-3C1C-4C9E-8575-7C1F54C8B0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6BE8-5BD1-40B1-92CF-BA18398C9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351B-F938-4F0D-9E6A-2E8C63F6F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5996-4E9D-4DD9-96BD-FF10727A9E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3F70-1706-433B-80EE-96BF5032E5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135B-C305-4CBA-907E-9990C99D22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AE52-E028-4B42-9365-0A8410A7F4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DFED-3994-4D61-AA43-EE922EECDA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E54D-21AB-4012-8208-E61F213C9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7937-605F-424B-9C8D-B67083816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80A8-1792-4909-A1A7-9213895F3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42800" y="0"/>
            <a:ext cx="82440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C052-D88E-4DCB-81E2-E82CB3161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99A4-DAF4-42E5-BDA9-1ADBE33DB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78DC-1AB9-4F1A-BDF8-68E6E9B49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3D10-9DB7-4A13-B39D-15909833C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55920" y="0"/>
            <a:ext cx="6192720" cy="4178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8680" y="4279680"/>
            <a:ext cx="61470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2000"/>
          </a:bodyPr>
          <a:p>
            <a:pPr marL="212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70720" y="6408360"/>
            <a:ext cx="3160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1A8-0061-4D43-8471-99A1439C8F96}" type="slidenum">
              <a: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370720" y="6408360"/>
            <a:ext cx="3160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7FCE-6E98-4CAC-BFE2-16556FDF4E58}" type="slidenum">
              <a: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79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80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7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3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94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97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98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1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102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5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106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7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8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9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110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1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13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574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575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6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7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8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9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0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1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582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88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589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0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1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92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593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4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5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96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597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8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9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0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601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2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605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7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08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9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0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16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618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9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620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1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2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3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24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625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7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8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9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630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631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32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33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634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635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36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37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38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639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0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1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2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643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4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5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46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7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2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3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. . . because a squid would get ink on the pages.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61" name="Picture 45" descr=""/>
          <p:cNvPicPr/>
          <p:nvPr/>
        </p:nvPicPr>
        <p:blipFill>
          <a:blip r:embed="rId1"/>
          <a:stretch/>
        </p:blipFill>
        <p:spPr>
          <a:xfrm>
            <a:off x="3886200" y="1836720"/>
            <a:ext cx="4608360" cy="4341960"/>
          </a:xfrm>
          <a:prstGeom prst="rect">
            <a:avLst/>
          </a:prstGeom>
          <a:ln w="0">
            <a:noFill/>
          </a:ln>
        </p:spPr>
      </p:pic>
      <p:pic>
        <p:nvPicPr>
          <p:cNvPr id="662" name="F322603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664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5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666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7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8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69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70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671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2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3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4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5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676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677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78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79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680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681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2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3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4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685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6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7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8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689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0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1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92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4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6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7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9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0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2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3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22096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Remember, don't write or color in the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book!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07" name="Picture 45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781520" cy="4505400"/>
          </a:xfrm>
          <a:prstGeom prst="rect">
            <a:avLst/>
          </a:prstGeom>
          <a:ln w="0">
            <a:noFill/>
          </a:ln>
        </p:spPr>
      </p:pic>
      <p:pic>
        <p:nvPicPr>
          <p:cNvPr id="708" name="00C2A85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710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711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2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3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5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6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7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18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724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725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26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27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28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729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0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1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32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733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4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5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36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737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8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9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40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741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2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3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44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52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754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755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756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57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58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59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760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761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2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3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4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5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766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767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768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769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770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771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2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3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74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775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6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7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78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779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0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1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82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6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8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9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1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2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4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5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96" name="Picture 44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4619520" cy="451008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because a squirrel would bury it for winter and forget where he put it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98" name="E0D40DDF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800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01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802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3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4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05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06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807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9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0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812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813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14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15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816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817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8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9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821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2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825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7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28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9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0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2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3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5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6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7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8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9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0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1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819520" y="13712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Remember, you must bring your book back on time.  Don</a:t>
            </a:r>
            <a:r>
              <a:rPr b="0" lang="ja-JP" sz="4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t forget where you put it!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843" name="Picture 45" descr=""/>
          <p:cNvPicPr/>
          <p:nvPr/>
        </p:nvPicPr>
        <p:blipFill>
          <a:blip r:embed="rId1"/>
          <a:stretch/>
        </p:blipFill>
        <p:spPr>
          <a:xfrm>
            <a:off x="2209680" y="3733920"/>
            <a:ext cx="2766960" cy="2701800"/>
          </a:xfrm>
          <a:prstGeom prst="rect">
            <a:avLst/>
          </a:prstGeom>
          <a:ln w="0">
            <a:noFill/>
          </a:ln>
        </p:spPr>
      </p:pic>
      <p:pic>
        <p:nvPicPr>
          <p:cNvPr id="844" name="4DDBD19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846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47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848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51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52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853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858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859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60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61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862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863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5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6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867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8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9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70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871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72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73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74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3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5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6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762120"/>
            <a:ext cx="412920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. . .most of all because there wouldn't be as many books for kids!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889" name="Picture 45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890" name="C90E52E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123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24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125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6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7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28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29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130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1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3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4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135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136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37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38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139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140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1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2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43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144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47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148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9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0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51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2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8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9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1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440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 because books would always get wet with a whale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6" name="Picture 45" descr=""/>
          <p:cNvPicPr/>
          <p:nvPr/>
        </p:nvPicPr>
        <p:blipFill>
          <a:blip r:embed="rId1"/>
          <a:stretch/>
        </p:blipFill>
        <p:spPr>
          <a:xfrm>
            <a:off x="2235240" y="2503440"/>
            <a:ext cx="6527880" cy="3702240"/>
          </a:xfrm>
          <a:prstGeom prst="rect">
            <a:avLst/>
          </a:prstGeom>
          <a:ln w="0">
            <a:noFill/>
          </a:ln>
        </p:spPr>
      </p:pic>
      <p:pic>
        <p:nvPicPr>
          <p:cNvPr id="167" name="482D86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169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70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171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2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74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75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176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181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182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3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4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185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186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89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190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93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194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97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1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2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3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4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7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9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0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Don</a:t>
            </a:r>
            <a:r>
              <a:rPr b="0" lang="ja-JP" sz="40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t ever leave your book in the rain or read in the bathtub!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45" descr=""/>
          <p:cNvPicPr/>
          <p:nvPr/>
        </p:nvPicPr>
        <p:blipFill>
          <a:blip r:embed="rId1"/>
          <a:stretch/>
        </p:blipFill>
        <p:spPr>
          <a:xfrm>
            <a:off x="2235240" y="2503440"/>
            <a:ext cx="6451560" cy="3659400"/>
          </a:xfrm>
          <a:prstGeom prst="rect">
            <a:avLst/>
          </a:prstGeom>
          <a:ln w="0">
            <a:noFill/>
          </a:ln>
        </p:spPr>
      </p:pic>
      <p:pic>
        <p:nvPicPr>
          <p:cNvPr id="213" name="C9FB458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215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216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7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8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9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0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1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2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23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29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230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1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2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33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234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5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6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37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238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9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0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41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242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3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4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45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246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7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8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49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7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259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60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261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2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3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64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65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266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7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8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9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0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271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272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73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74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275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276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7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8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79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280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1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2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83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284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5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6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87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8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0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3747960" cy="332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because a snake could never turn the pages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02" name="Picture 45" descr=""/>
          <p:cNvPicPr/>
          <p:nvPr/>
        </p:nvPicPr>
        <p:blipFill>
          <a:blip r:embed="rId1"/>
          <a:stretch/>
        </p:blipFill>
        <p:spPr>
          <a:xfrm>
            <a:off x="2209680" y="2589120"/>
            <a:ext cx="6629400" cy="3679920"/>
          </a:xfrm>
          <a:prstGeom prst="rect">
            <a:avLst/>
          </a:prstGeom>
          <a:ln w="0">
            <a:noFill/>
          </a:ln>
        </p:spPr>
      </p:pic>
      <p:pic>
        <p:nvPicPr>
          <p:cNvPr id="303" name="3DFA9BDB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305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06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307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8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9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10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11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312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3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4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5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6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317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318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9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0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321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322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3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4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25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326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7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8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29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330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31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32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33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243640" cy="3173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Turn pages carefully from the top.  Never turn down corners!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8" name="Picture 45" descr=""/>
          <p:cNvPicPr/>
          <p:nvPr/>
        </p:nvPicPr>
        <p:blipFill>
          <a:blip r:embed="rId1"/>
          <a:stretch/>
        </p:blipFill>
        <p:spPr>
          <a:xfrm>
            <a:off x="2665440" y="762120"/>
            <a:ext cx="4191120" cy="2325600"/>
          </a:xfrm>
          <a:prstGeom prst="rect">
            <a:avLst/>
          </a:prstGeom>
          <a:ln w="0">
            <a:noFill/>
          </a:ln>
        </p:spPr>
      </p:pic>
      <p:pic>
        <p:nvPicPr>
          <p:cNvPr id="349" name="A7CEE146.WAV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351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352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3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4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7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8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59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65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366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7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8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69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370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1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2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73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374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5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6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77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378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9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0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81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382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3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4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85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93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395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96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397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8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9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400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401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402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3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4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5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6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407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408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09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10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411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412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3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4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15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416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7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8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19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420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1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2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423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4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5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6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7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8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9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0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1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2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3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4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5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4952880"/>
            <a:ext cx="4129200" cy="13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 because a mouse could never manage to carry it home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38" name="Group 45"/>
          <p:cNvGrpSpPr/>
          <p:nvPr/>
        </p:nvGrpSpPr>
        <p:grpSpPr>
          <a:xfrm>
            <a:off x="3357720" y="919080"/>
            <a:ext cx="5530680" cy="4557600"/>
            <a:chOff x="3357720" y="919080"/>
            <a:chExt cx="5530680" cy="4557600"/>
          </a:xfrm>
        </p:grpSpPr>
        <p:sp>
          <p:nvSpPr>
            <p:cNvPr id="439" name="Freeform 46"/>
            <p:cNvSpPr/>
            <p:nvPr/>
          </p:nvSpPr>
          <p:spPr>
            <a:xfrm>
              <a:off x="3357720" y="1554120"/>
              <a:ext cx="189072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91" y="12804"/>
                  </a:moveTo>
                  <a:lnTo>
                    <a:pt x="21491" y="12648"/>
                  </a:lnTo>
                  <a:lnTo>
                    <a:pt x="21437" y="12492"/>
                  </a:lnTo>
                  <a:lnTo>
                    <a:pt x="21437" y="12335"/>
                  </a:lnTo>
                  <a:lnTo>
                    <a:pt x="21437" y="12179"/>
                  </a:lnTo>
                  <a:lnTo>
                    <a:pt x="21491" y="11867"/>
                  </a:lnTo>
                  <a:lnTo>
                    <a:pt x="21491" y="11711"/>
                  </a:lnTo>
                  <a:lnTo>
                    <a:pt x="21491" y="11555"/>
                  </a:lnTo>
                  <a:lnTo>
                    <a:pt x="21491" y="11399"/>
                  </a:lnTo>
                  <a:lnTo>
                    <a:pt x="21491" y="11190"/>
                  </a:lnTo>
                  <a:lnTo>
                    <a:pt x="21491" y="11034"/>
                  </a:lnTo>
                  <a:lnTo>
                    <a:pt x="21437" y="10722"/>
                  </a:lnTo>
                  <a:lnTo>
                    <a:pt x="21382" y="10097"/>
                  </a:lnTo>
                  <a:lnTo>
                    <a:pt x="21274" y="9629"/>
                  </a:lnTo>
                  <a:lnTo>
                    <a:pt x="21165" y="9108"/>
                  </a:lnTo>
                  <a:lnTo>
                    <a:pt x="20983" y="8640"/>
                  </a:lnTo>
                  <a:lnTo>
                    <a:pt x="20766" y="8328"/>
                  </a:lnTo>
                  <a:lnTo>
                    <a:pt x="20548" y="8172"/>
                  </a:lnTo>
                  <a:lnTo>
                    <a:pt x="20312" y="8015"/>
                  </a:lnTo>
                  <a:lnTo>
                    <a:pt x="20095" y="8172"/>
                  </a:lnTo>
                  <a:lnTo>
                    <a:pt x="19478" y="8640"/>
                  </a:lnTo>
                  <a:lnTo>
                    <a:pt x="19369" y="8328"/>
                  </a:lnTo>
                  <a:lnTo>
                    <a:pt x="19260" y="7859"/>
                  </a:lnTo>
                  <a:lnTo>
                    <a:pt x="19097" y="7547"/>
                  </a:lnTo>
                  <a:lnTo>
                    <a:pt x="18916" y="7235"/>
                  </a:lnTo>
                  <a:lnTo>
                    <a:pt x="18753" y="7027"/>
                  </a:lnTo>
                  <a:lnTo>
                    <a:pt x="18589" y="6870"/>
                  </a:lnTo>
                  <a:lnTo>
                    <a:pt x="18426" y="6870"/>
                  </a:lnTo>
                  <a:lnTo>
                    <a:pt x="18190" y="6870"/>
                  </a:lnTo>
                  <a:lnTo>
                    <a:pt x="17356" y="7703"/>
                  </a:lnTo>
                  <a:lnTo>
                    <a:pt x="17247" y="7859"/>
                  </a:lnTo>
                  <a:lnTo>
                    <a:pt x="17084" y="8015"/>
                  </a:lnTo>
                  <a:lnTo>
                    <a:pt x="16975" y="8172"/>
                  </a:lnTo>
                  <a:lnTo>
                    <a:pt x="16867" y="8328"/>
                  </a:lnTo>
                  <a:lnTo>
                    <a:pt x="16740" y="8484"/>
                  </a:lnTo>
                  <a:lnTo>
                    <a:pt x="16576" y="8640"/>
                  </a:lnTo>
                  <a:lnTo>
                    <a:pt x="16468" y="8640"/>
                  </a:lnTo>
                  <a:lnTo>
                    <a:pt x="16359" y="8796"/>
                  </a:lnTo>
                  <a:lnTo>
                    <a:pt x="16413" y="8484"/>
                  </a:lnTo>
                  <a:lnTo>
                    <a:pt x="16468" y="8172"/>
                  </a:lnTo>
                  <a:lnTo>
                    <a:pt x="16522" y="7859"/>
                  </a:lnTo>
                  <a:lnTo>
                    <a:pt x="16576" y="7391"/>
                  </a:lnTo>
                  <a:lnTo>
                    <a:pt x="16576" y="7027"/>
                  </a:lnTo>
                  <a:lnTo>
                    <a:pt x="16576" y="6558"/>
                  </a:lnTo>
                  <a:lnTo>
                    <a:pt x="16576" y="6246"/>
                  </a:lnTo>
                  <a:lnTo>
                    <a:pt x="16522" y="5777"/>
                  </a:lnTo>
                  <a:lnTo>
                    <a:pt x="16468" y="5153"/>
                  </a:lnTo>
                  <a:lnTo>
                    <a:pt x="16304" y="4632"/>
                  </a:lnTo>
                  <a:lnTo>
                    <a:pt x="16195" y="4164"/>
                  </a:lnTo>
                  <a:lnTo>
                    <a:pt x="15960" y="3852"/>
                  </a:lnTo>
                  <a:lnTo>
                    <a:pt x="15796" y="3539"/>
                  </a:lnTo>
                  <a:lnTo>
                    <a:pt x="15579" y="3539"/>
                  </a:lnTo>
                  <a:lnTo>
                    <a:pt x="15289" y="3383"/>
                  </a:lnTo>
                  <a:lnTo>
                    <a:pt x="15071" y="3539"/>
                  </a:lnTo>
                  <a:lnTo>
                    <a:pt x="14618" y="4008"/>
                  </a:lnTo>
                  <a:lnTo>
                    <a:pt x="14291" y="4632"/>
                  </a:lnTo>
                  <a:lnTo>
                    <a:pt x="13947" y="5153"/>
                  </a:lnTo>
                  <a:lnTo>
                    <a:pt x="13675" y="5621"/>
                  </a:lnTo>
                  <a:lnTo>
                    <a:pt x="13348" y="6090"/>
                  </a:lnTo>
                  <a:lnTo>
                    <a:pt x="13004" y="6558"/>
                  </a:lnTo>
                  <a:lnTo>
                    <a:pt x="12677" y="7027"/>
                  </a:lnTo>
                  <a:lnTo>
                    <a:pt x="12332" y="7547"/>
                  </a:lnTo>
                  <a:lnTo>
                    <a:pt x="12006" y="7859"/>
                  </a:lnTo>
                  <a:lnTo>
                    <a:pt x="12006" y="7703"/>
                  </a:lnTo>
                  <a:lnTo>
                    <a:pt x="12060" y="7391"/>
                  </a:lnTo>
                  <a:lnTo>
                    <a:pt x="12060" y="7027"/>
                  </a:lnTo>
                  <a:lnTo>
                    <a:pt x="12060" y="6714"/>
                  </a:lnTo>
                  <a:lnTo>
                    <a:pt x="12060" y="6558"/>
                  </a:lnTo>
                  <a:lnTo>
                    <a:pt x="12006" y="6246"/>
                  </a:lnTo>
                  <a:lnTo>
                    <a:pt x="12006" y="5933"/>
                  </a:lnTo>
                  <a:lnTo>
                    <a:pt x="11952" y="5621"/>
                  </a:lnTo>
                  <a:lnTo>
                    <a:pt x="11843" y="5153"/>
                  </a:lnTo>
                  <a:lnTo>
                    <a:pt x="11716" y="4632"/>
                  </a:lnTo>
                  <a:lnTo>
                    <a:pt x="11553" y="4164"/>
                  </a:lnTo>
                  <a:lnTo>
                    <a:pt x="11335" y="3852"/>
                  </a:lnTo>
                  <a:lnTo>
                    <a:pt x="11117" y="3695"/>
                  </a:lnTo>
                  <a:lnTo>
                    <a:pt x="10882" y="3539"/>
                  </a:lnTo>
                  <a:lnTo>
                    <a:pt x="10664" y="3695"/>
                  </a:lnTo>
                  <a:lnTo>
                    <a:pt x="10446" y="3852"/>
                  </a:lnTo>
                  <a:lnTo>
                    <a:pt x="9721" y="4632"/>
                  </a:lnTo>
                  <a:lnTo>
                    <a:pt x="9594" y="4788"/>
                  </a:lnTo>
                  <a:lnTo>
                    <a:pt x="9485" y="4945"/>
                  </a:lnTo>
                  <a:lnTo>
                    <a:pt x="9376" y="5153"/>
                  </a:lnTo>
                  <a:lnTo>
                    <a:pt x="9268" y="5153"/>
                  </a:lnTo>
                  <a:lnTo>
                    <a:pt x="9159" y="5309"/>
                  </a:lnTo>
                  <a:lnTo>
                    <a:pt x="9104" y="5465"/>
                  </a:lnTo>
                  <a:lnTo>
                    <a:pt x="8995" y="5621"/>
                  </a:lnTo>
                  <a:lnTo>
                    <a:pt x="8869" y="5621"/>
                  </a:lnTo>
                  <a:lnTo>
                    <a:pt x="9104" y="4320"/>
                  </a:lnTo>
                  <a:lnTo>
                    <a:pt x="9159" y="4164"/>
                  </a:lnTo>
                  <a:lnTo>
                    <a:pt x="9159" y="3852"/>
                  </a:lnTo>
                  <a:lnTo>
                    <a:pt x="9159" y="3539"/>
                  </a:lnTo>
                  <a:lnTo>
                    <a:pt x="9159" y="3383"/>
                  </a:lnTo>
                  <a:lnTo>
                    <a:pt x="9159" y="3071"/>
                  </a:lnTo>
                  <a:lnTo>
                    <a:pt x="9159" y="2707"/>
                  </a:lnTo>
                  <a:lnTo>
                    <a:pt x="9159" y="2550"/>
                  </a:lnTo>
                  <a:lnTo>
                    <a:pt x="9104" y="2238"/>
                  </a:lnTo>
                  <a:lnTo>
                    <a:pt x="8995" y="1613"/>
                  </a:lnTo>
                  <a:lnTo>
                    <a:pt x="8869" y="1145"/>
                  </a:lnTo>
                  <a:lnTo>
                    <a:pt x="8705" y="625"/>
                  </a:lnTo>
                  <a:lnTo>
                    <a:pt x="8488" y="312"/>
                  </a:lnTo>
                  <a:lnTo>
                    <a:pt x="8324" y="156"/>
                  </a:lnTo>
                  <a:lnTo>
                    <a:pt x="8089" y="0"/>
                  </a:lnTo>
                  <a:lnTo>
                    <a:pt x="7871" y="156"/>
                  </a:lnTo>
                  <a:lnTo>
                    <a:pt x="7653" y="312"/>
                  </a:lnTo>
                  <a:lnTo>
                    <a:pt x="7309" y="625"/>
                  </a:lnTo>
                  <a:lnTo>
                    <a:pt x="7037" y="781"/>
                  </a:lnTo>
                  <a:lnTo>
                    <a:pt x="6747" y="1145"/>
                  </a:lnTo>
                  <a:lnTo>
                    <a:pt x="6529" y="1457"/>
                  </a:lnTo>
                  <a:lnTo>
                    <a:pt x="6257" y="1770"/>
                  </a:lnTo>
                  <a:lnTo>
                    <a:pt x="5967" y="2082"/>
                  </a:lnTo>
                  <a:lnTo>
                    <a:pt x="5749" y="2238"/>
                  </a:lnTo>
                  <a:lnTo>
                    <a:pt x="5477" y="2550"/>
                  </a:lnTo>
                  <a:lnTo>
                    <a:pt x="5187" y="2863"/>
                  </a:lnTo>
                  <a:lnTo>
                    <a:pt x="5078" y="2238"/>
                  </a:lnTo>
                  <a:lnTo>
                    <a:pt x="4969" y="1770"/>
                  </a:lnTo>
                  <a:lnTo>
                    <a:pt x="4752" y="1457"/>
                  </a:lnTo>
                  <a:lnTo>
                    <a:pt x="4570" y="1145"/>
                  </a:lnTo>
                  <a:lnTo>
                    <a:pt x="4353" y="989"/>
                  </a:lnTo>
                  <a:lnTo>
                    <a:pt x="4135" y="989"/>
                  </a:lnTo>
                  <a:lnTo>
                    <a:pt x="3917" y="989"/>
                  </a:lnTo>
                  <a:lnTo>
                    <a:pt x="3736" y="1145"/>
                  </a:lnTo>
                  <a:lnTo>
                    <a:pt x="3301" y="1770"/>
                  </a:lnTo>
                  <a:lnTo>
                    <a:pt x="2847" y="2394"/>
                  </a:lnTo>
                  <a:lnTo>
                    <a:pt x="2394" y="3071"/>
                  </a:lnTo>
                  <a:lnTo>
                    <a:pt x="1959" y="3695"/>
                  </a:lnTo>
                  <a:lnTo>
                    <a:pt x="1560" y="4476"/>
                  </a:lnTo>
                  <a:lnTo>
                    <a:pt x="1179" y="5309"/>
                  </a:lnTo>
                  <a:lnTo>
                    <a:pt x="780" y="6246"/>
                  </a:lnTo>
                  <a:lnTo>
                    <a:pt x="453" y="7235"/>
                  </a:lnTo>
                  <a:lnTo>
                    <a:pt x="272" y="8015"/>
                  </a:lnTo>
                  <a:lnTo>
                    <a:pt x="163" y="8328"/>
                  </a:lnTo>
                  <a:lnTo>
                    <a:pt x="109" y="8640"/>
                  </a:lnTo>
                  <a:lnTo>
                    <a:pt x="54" y="8952"/>
                  </a:lnTo>
                  <a:lnTo>
                    <a:pt x="0" y="9317"/>
                  </a:lnTo>
                  <a:lnTo>
                    <a:pt x="0" y="9785"/>
                  </a:lnTo>
                  <a:lnTo>
                    <a:pt x="0" y="10097"/>
                  </a:lnTo>
                  <a:lnTo>
                    <a:pt x="0" y="10410"/>
                  </a:lnTo>
                  <a:lnTo>
                    <a:pt x="54" y="10878"/>
                  </a:lnTo>
                  <a:lnTo>
                    <a:pt x="109" y="11555"/>
                  </a:lnTo>
                  <a:lnTo>
                    <a:pt x="218" y="12023"/>
                  </a:lnTo>
                  <a:lnTo>
                    <a:pt x="399" y="12492"/>
                  </a:lnTo>
                  <a:lnTo>
                    <a:pt x="562" y="12960"/>
                  </a:lnTo>
                  <a:lnTo>
                    <a:pt x="725" y="13116"/>
                  </a:lnTo>
                  <a:lnTo>
                    <a:pt x="943" y="13272"/>
                  </a:lnTo>
                  <a:lnTo>
                    <a:pt x="1179" y="13480"/>
                  </a:lnTo>
                  <a:lnTo>
                    <a:pt x="1451" y="13272"/>
                  </a:lnTo>
                  <a:lnTo>
                    <a:pt x="2231" y="12804"/>
                  </a:lnTo>
                  <a:lnTo>
                    <a:pt x="2394" y="12648"/>
                  </a:lnTo>
                  <a:lnTo>
                    <a:pt x="2630" y="12335"/>
                  </a:lnTo>
                  <a:lnTo>
                    <a:pt x="2793" y="12179"/>
                  </a:lnTo>
                  <a:lnTo>
                    <a:pt x="3011" y="12023"/>
                  </a:lnTo>
                  <a:lnTo>
                    <a:pt x="3246" y="11867"/>
                  </a:lnTo>
                  <a:lnTo>
                    <a:pt x="3410" y="11711"/>
                  </a:lnTo>
                  <a:lnTo>
                    <a:pt x="3627" y="11399"/>
                  </a:lnTo>
                  <a:lnTo>
                    <a:pt x="3790" y="11190"/>
                  </a:lnTo>
                  <a:lnTo>
                    <a:pt x="3736" y="11555"/>
                  </a:lnTo>
                  <a:lnTo>
                    <a:pt x="3627" y="11711"/>
                  </a:lnTo>
                  <a:lnTo>
                    <a:pt x="3573" y="12023"/>
                  </a:lnTo>
                  <a:lnTo>
                    <a:pt x="3464" y="12179"/>
                  </a:lnTo>
                  <a:lnTo>
                    <a:pt x="3355" y="12492"/>
                  </a:lnTo>
                  <a:lnTo>
                    <a:pt x="3301" y="12804"/>
                  </a:lnTo>
                  <a:lnTo>
                    <a:pt x="3192" y="12960"/>
                  </a:lnTo>
                  <a:lnTo>
                    <a:pt x="3119" y="13272"/>
                  </a:lnTo>
                  <a:lnTo>
                    <a:pt x="2902" y="13793"/>
                  </a:lnTo>
                  <a:lnTo>
                    <a:pt x="2793" y="14105"/>
                  </a:lnTo>
                  <a:lnTo>
                    <a:pt x="2684" y="14573"/>
                  </a:lnTo>
                  <a:lnTo>
                    <a:pt x="2630" y="14886"/>
                  </a:lnTo>
                  <a:lnTo>
                    <a:pt x="2575" y="15354"/>
                  </a:lnTo>
                  <a:lnTo>
                    <a:pt x="2575" y="15719"/>
                  </a:lnTo>
                  <a:lnTo>
                    <a:pt x="2521" y="16187"/>
                  </a:lnTo>
                  <a:lnTo>
                    <a:pt x="2575" y="16655"/>
                  </a:lnTo>
                  <a:lnTo>
                    <a:pt x="2575" y="17124"/>
                  </a:lnTo>
                  <a:lnTo>
                    <a:pt x="2684" y="17800"/>
                  </a:lnTo>
                  <a:lnTo>
                    <a:pt x="2793" y="18269"/>
                  </a:lnTo>
                  <a:lnTo>
                    <a:pt x="2902" y="18737"/>
                  </a:lnTo>
                  <a:lnTo>
                    <a:pt x="3119" y="19206"/>
                  </a:lnTo>
                  <a:lnTo>
                    <a:pt x="3301" y="19362"/>
                  </a:lnTo>
                  <a:lnTo>
                    <a:pt x="3518" y="19518"/>
                  </a:lnTo>
                  <a:lnTo>
                    <a:pt x="3736" y="19518"/>
                  </a:lnTo>
                  <a:lnTo>
                    <a:pt x="3972" y="19518"/>
                  </a:lnTo>
                  <a:lnTo>
                    <a:pt x="4407" y="19206"/>
                  </a:lnTo>
                  <a:lnTo>
                    <a:pt x="4697" y="18737"/>
                  </a:lnTo>
                  <a:lnTo>
                    <a:pt x="5024" y="18269"/>
                  </a:lnTo>
                  <a:lnTo>
                    <a:pt x="5368" y="17800"/>
                  </a:lnTo>
                  <a:lnTo>
                    <a:pt x="5695" y="17436"/>
                  </a:lnTo>
                  <a:lnTo>
                    <a:pt x="6021" y="16968"/>
                  </a:lnTo>
                  <a:lnTo>
                    <a:pt x="6311" y="16499"/>
                  </a:lnTo>
                  <a:lnTo>
                    <a:pt x="6638" y="16031"/>
                  </a:lnTo>
                  <a:lnTo>
                    <a:pt x="6982" y="15562"/>
                  </a:lnTo>
                  <a:lnTo>
                    <a:pt x="6928" y="15719"/>
                  </a:lnTo>
                  <a:lnTo>
                    <a:pt x="6928" y="15875"/>
                  </a:lnTo>
                  <a:lnTo>
                    <a:pt x="6928" y="16031"/>
                  </a:lnTo>
                  <a:lnTo>
                    <a:pt x="6928" y="16343"/>
                  </a:lnTo>
                  <a:lnTo>
                    <a:pt x="6874" y="16499"/>
                  </a:lnTo>
                  <a:lnTo>
                    <a:pt x="6874" y="16655"/>
                  </a:lnTo>
                  <a:lnTo>
                    <a:pt x="6874" y="16812"/>
                  </a:lnTo>
                  <a:lnTo>
                    <a:pt x="6874" y="16968"/>
                  </a:lnTo>
                  <a:lnTo>
                    <a:pt x="6928" y="17800"/>
                  </a:lnTo>
                  <a:lnTo>
                    <a:pt x="6982" y="18269"/>
                  </a:lnTo>
                  <a:lnTo>
                    <a:pt x="7146" y="18893"/>
                  </a:lnTo>
                  <a:lnTo>
                    <a:pt x="7254" y="19362"/>
                  </a:lnTo>
                  <a:lnTo>
                    <a:pt x="7472" y="19726"/>
                  </a:lnTo>
                  <a:lnTo>
                    <a:pt x="7653" y="20039"/>
                  </a:lnTo>
                  <a:lnTo>
                    <a:pt x="7871" y="20195"/>
                  </a:lnTo>
                  <a:lnTo>
                    <a:pt x="8143" y="20195"/>
                  </a:lnTo>
                  <a:lnTo>
                    <a:pt x="8324" y="20039"/>
                  </a:lnTo>
                  <a:lnTo>
                    <a:pt x="8379" y="20039"/>
                  </a:lnTo>
                  <a:lnTo>
                    <a:pt x="8488" y="20039"/>
                  </a:lnTo>
                  <a:lnTo>
                    <a:pt x="8542" y="20039"/>
                  </a:lnTo>
                  <a:lnTo>
                    <a:pt x="8651" y="19882"/>
                  </a:lnTo>
                  <a:lnTo>
                    <a:pt x="8705" y="19882"/>
                  </a:lnTo>
                  <a:lnTo>
                    <a:pt x="8760" y="19726"/>
                  </a:lnTo>
                  <a:lnTo>
                    <a:pt x="8869" y="19518"/>
                  </a:lnTo>
                  <a:lnTo>
                    <a:pt x="8941" y="19362"/>
                  </a:lnTo>
                  <a:lnTo>
                    <a:pt x="9213" y="18737"/>
                  </a:lnTo>
                  <a:lnTo>
                    <a:pt x="9376" y="18581"/>
                  </a:lnTo>
                  <a:lnTo>
                    <a:pt x="9540" y="18269"/>
                  </a:lnTo>
                  <a:lnTo>
                    <a:pt x="9775" y="17957"/>
                  </a:lnTo>
                  <a:lnTo>
                    <a:pt x="9939" y="17644"/>
                  </a:lnTo>
                  <a:lnTo>
                    <a:pt x="10102" y="17436"/>
                  </a:lnTo>
                  <a:lnTo>
                    <a:pt x="10319" y="17124"/>
                  </a:lnTo>
                  <a:lnTo>
                    <a:pt x="10501" y="16812"/>
                  </a:lnTo>
                  <a:lnTo>
                    <a:pt x="10718" y="16655"/>
                  </a:lnTo>
                  <a:lnTo>
                    <a:pt x="10664" y="16812"/>
                  </a:lnTo>
                  <a:lnTo>
                    <a:pt x="10610" y="17124"/>
                  </a:lnTo>
                  <a:lnTo>
                    <a:pt x="10610" y="17280"/>
                  </a:lnTo>
                  <a:lnTo>
                    <a:pt x="10555" y="17644"/>
                  </a:lnTo>
                  <a:lnTo>
                    <a:pt x="10555" y="17957"/>
                  </a:lnTo>
                  <a:lnTo>
                    <a:pt x="10555" y="18113"/>
                  </a:lnTo>
                  <a:lnTo>
                    <a:pt x="10555" y="18425"/>
                  </a:lnTo>
                  <a:lnTo>
                    <a:pt x="10555" y="18737"/>
                  </a:lnTo>
                  <a:lnTo>
                    <a:pt x="10610" y="19362"/>
                  </a:lnTo>
                  <a:lnTo>
                    <a:pt x="10664" y="19882"/>
                  </a:lnTo>
                  <a:lnTo>
                    <a:pt x="10827" y="20507"/>
                  </a:lnTo>
                  <a:lnTo>
                    <a:pt x="10936" y="20975"/>
                  </a:lnTo>
                  <a:lnTo>
                    <a:pt x="11172" y="21288"/>
                  </a:lnTo>
                  <a:lnTo>
                    <a:pt x="11335" y="21444"/>
                  </a:lnTo>
                  <a:lnTo>
                    <a:pt x="11553" y="21600"/>
                  </a:lnTo>
                  <a:lnTo>
                    <a:pt x="11843" y="21600"/>
                  </a:lnTo>
                  <a:lnTo>
                    <a:pt x="12496" y="21132"/>
                  </a:lnTo>
                  <a:lnTo>
                    <a:pt x="12786" y="20663"/>
                  </a:lnTo>
                  <a:lnTo>
                    <a:pt x="13058" y="20195"/>
                  </a:lnTo>
                  <a:lnTo>
                    <a:pt x="13348" y="19726"/>
                  </a:lnTo>
                  <a:lnTo>
                    <a:pt x="13675" y="19362"/>
                  </a:lnTo>
                  <a:lnTo>
                    <a:pt x="13947" y="18893"/>
                  </a:lnTo>
                  <a:lnTo>
                    <a:pt x="14237" y="18425"/>
                  </a:lnTo>
                  <a:lnTo>
                    <a:pt x="14563" y="18113"/>
                  </a:lnTo>
                  <a:lnTo>
                    <a:pt x="14853" y="17800"/>
                  </a:lnTo>
                  <a:lnTo>
                    <a:pt x="14853" y="18113"/>
                  </a:lnTo>
                  <a:lnTo>
                    <a:pt x="14853" y="18425"/>
                  </a:lnTo>
                  <a:lnTo>
                    <a:pt x="14853" y="18893"/>
                  </a:lnTo>
                  <a:lnTo>
                    <a:pt x="14908" y="19206"/>
                  </a:lnTo>
                  <a:lnTo>
                    <a:pt x="14962" y="19518"/>
                  </a:lnTo>
                  <a:lnTo>
                    <a:pt x="15017" y="19882"/>
                  </a:lnTo>
                  <a:lnTo>
                    <a:pt x="15071" y="20195"/>
                  </a:lnTo>
                  <a:lnTo>
                    <a:pt x="15180" y="20507"/>
                  </a:lnTo>
                  <a:lnTo>
                    <a:pt x="15343" y="20975"/>
                  </a:lnTo>
                  <a:lnTo>
                    <a:pt x="15579" y="21288"/>
                  </a:lnTo>
                  <a:lnTo>
                    <a:pt x="15742" y="21444"/>
                  </a:lnTo>
                  <a:lnTo>
                    <a:pt x="15960" y="21600"/>
                  </a:lnTo>
                  <a:lnTo>
                    <a:pt x="16195" y="21444"/>
                  </a:lnTo>
                  <a:lnTo>
                    <a:pt x="16413" y="21288"/>
                  </a:lnTo>
                  <a:lnTo>
                    <a:pt x="16631" y="20975"/>
                  </a:lnTo>
                  <a:lnTo>
                    <a:pt x="16794" y="20663"/>
                  </a:lnTo>
                  <a:lnTo>
                    <a:pt x="16685" y="20663"/>
                  </a:lnTo>
                  <a:lnTo>
                    <a:pt x="16921" y="20351"/>
                  </a:lnTo>
                  <a:lnTo>
                    <a:pt x="17139" y="20039"/>
                  </a:lnTo>
                  <a:lnTo>
                    <a:pt x="17356" y="19726"/>
                  </a:lnTo>
                  <a:lnTo>
                    <a:pt x="17592" y="19362"/>
                  </a:lnTo>
                  <a:lnTo>
                    <a:pt x="17810" y="19050"/>
                  </a:lnTo>
                  <a:lnTo>
                    <a:pt x="18027" y="18737"/>
                  </a:lnTo>
                  <a:lnTo>
                    <a:pt x="18245" y="18425"/>
                  </a:lnTo>
                  <a:lnTo>
                    <a:pt x="18481" y="18113"/>
                  </a:lnTo>
                  <a:lnTo>
                    <a:pt x="18589" y="18269"/>
                  </a:lnTo>
                  <a:lnTo>
                    <a:pt x="18698" y="18425"/>
                  </a:lnTo>
                  <a:lnTo>
                    <a:pt x="18807" y="18581"/>
                  </a:lnTo>
                  <a:lnTo>
                    <a:pt x="18916" y="18737"/>
                  </a:lnTo>
                  <a:lnTo>
                    <a:pt x="19043" y="18893"/>
                  </a:lnTo>
                  <a:lnTo>
                    <a:pt x="19152" y="18893"/>
                  </a:lnTo>
                  <a:lnTo>
                    <a:pt x="19260" y="18893"/>
                  </a:lnTo>
                  <a:lnTo>
                    <a:pt x="19369" y="18893"/>
                  </a:lnTo>
                  <a:lnTo>
                    <a:pt x="20204" y="18425"/>
                  </a:lnTo>
                  <a:lnTo>
                    <a:pt x="20258" y="18113"/>
                  </a:lnTo>
                  <a:lnTo>
                    <a:pt x="20367" y="18113"/>
                  </a:lnTo>
                  <a:lnTo>
                    <a:pt x="20494" y="17957"/>
                  </a:lnTo>
                  <a:lnTo>
                    <a:pt x="20548" y="17800"/>
                  </a:lnTo>
                  <a:lnTo>
                    <a:pt x="20657" y="17644"/>
                  </a:lnTo>
                  <a:lnTo>
                    <a:pt x="20766" y="17436"/>
                  </a:lnTo>
                  <a:lnTo>
                    <a:pt x="20820" y="17280"/>
                  </a:lnTo>
                  <a:lnTo>
                    <a:pt x="20929" y="17124"/>
                  </a:lnTo>
                  <a:lnTo>
                    <a:pt x="21165" y="16812"/>
                  </a:lnTo>
                  <a:lnTo>
                    <a:pt x="21328" y="16343"/>
                  </a:lnTo>
                  <a:lnTo>
                    <a:pt x="21437" y="15875"/>
                  </a:lnTo>
                  <a:lnTo>
                    <a:pt x="21546" y="15354"/>
                  </a:lnTo>
                  <a:lnTo>
                    <a:pt x="21600" y="14730"/>
                  </a:lnTo>
                  <a:lnTo>
                    <a:pt x="21600" y="14105"/>
                  </a:lnTo>
                  <a:lnTo>
                    <a:pt x="21600" y="13480"/>
                  </a:lnTo>
                  <a:lnTo>
                    <a:pt x="21491" y="12804"/>
                  </a:lnTo>
                  <a:close/>
                  <a:moveTo>
                    <a:pt x="21491" y="12804"/>
                  </a:moveTo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Freeform 47"/>
            <p:cNvSpPr/>
            <p:nvPr/>
          </p:nvSpPr>
          <p:spPr>
            <a:xfrm>
              <a:off x="3810240" y="1081080"/>
              <a:ext cx="826920" cy="69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75" y="10702"/>
                  </a:moveTo>
                  <a:lnTo>
                    <a:pt x="21351" y="10260"/>
                  </a:lnTo>
                  <a:lnTo>
                    <a:pt x="21226" y="9965"/>
                  </a:lnTo>
                  <a:lnTo>
                    <a:pt x="21102" y="9475"/>
                  </a:lnTo>
                  <a:lnTo>
                    <a:pt x="20852" y="9180"/>
                  </a:lnTo>
                  <a:lnTo>
                    <a:pt x="20603" y="9033"/>
                  </a:lnTo>
                  <a:lnTo>
                    <a:pt x="20354" y="8738"/>
                  </a:lnTo>
                  <a:lnTo>
                    <a:pt x="19938" y="8591"/>
                  </a:lnTo>
                  <a:lnTo>
                    <a:pt x="19565" y="8444"/>
                  </a:lnTo>
                  <a:lnTo>
                    <a:pt x="19689" y="8149"/>
                  </a:lnTo>
                  <a:lnTo>
                    <a:pt x="19814" y="7707"/>
                  </a:lnTo>
                  <a:lnTo>
                    <a:pt x="19814" y="7216"/>
                  </a:lnTo>
                  <a:lnTo>
                    <a:pt x="19814" y="6627"/>
                  </a:lnTo>
                  <a:lnTo>
                    <a:pt x="19689" y="6185"/>
                  </a:lnTo>
                  <a:lnTo>
                    <a:pt x="19565" y="5744"/>
                  </a:lnTo>
                  <a:lnTo>
                    <a:pt x="19315" y="5253"/>
                  </a:lnTo>
                  <a:lnTo>
                    <a:pt x="18942" y="4958"/>
                  </a:lnTo>
                  <a:lnTo>
                    <a:pt x="18568" y="4664"/>
                  </a:lnTo>
                  <a:lnTo>
                    <a:pt x="18402" y="4516"/>
                  </a:lnTo>
                  <a:lnTo>
                    <a:pt x="18152" y="4516"/>
                  </a:lnTo>
                  <a:lnTo>
                    <a:pt x="18028" y="4369"/>
                  </a:lnTo>
                  <a:lnTo>
                    <a:pt x="17903" y="4369"/>
                  </a:lnTo>
                  <a:lnTo>
                    <a:pt x="17654" y="4222"/>
                  </a:lnTo>
                  <a:lnTo>
                    <a:pt x="17529" y="4222"/>
                  </a:lnTo>
                  <a:lnTo>
                    <a:pt x="17405" y="4222"/>
                  </a:lnTo>
                  <a:lnTo>
                    <a:pt x="17155" y="4222"/>
                  </a:lnTo>
                  <a:lnTo>
                    <a:pt x="17031" y="4222"/>
                  </a:lnTo>
                  <a:lnTo>
                    <a:pt x="16242" y="4369"/>
                  </a:lnTo>
                  <a:lnTo>
                    <a:pt x="16117" y="4369"/>
                  </a:lnTo>
                  <a:lnTo>
                    <a:pt x="15992" y="4369"/>
                  </a:lnTo>
                  <a:lnTo>
                    <a:pt x="15992" y="4222"/>
                  </a:lnTo>
                  <a:lnTo>
                    <a:pt x="15992" y="3927"/>
                  </a:lnTo>
                  <a:lnTo>
                    <a:pt x="15992" y="3584"/>
                  </a:lnTo>
                  <a:lnTo>
                    <a:pt x="15992" y="3289"/>
                  </a:lnTo>
                  <a:lnTo>
                    <a:pt x="15992" y="2995"/>
                  </a:lnTo>
                  <a:lnTo>
                    <a:pt x="15868" y="2847"/>
                  </a:lnTo>
                  <a:lnTo>
                    <a:pt x="15868" y="2553"/>
                  </a:lnTo>
                  <a:lnTo>
                    <a:pt x="15743" y="2258"/>
                  </a:lnTo>
                  <a:lnTo>
                    <a:pt x="15618" y="2111"/>
                  </a:lnTo>
                  <a:lnTo>
                    <a:pt x="15369" y="1620"/>
                  </a:lnTo>
                  <a:lnTo>
                    <a:pt x="14954" y="1178"/>
                  </a:lnTo>
                  <a:lnTo>
                    <a:pt x="14580" y="884"/>
                  </a:lnTo>
                  <a:lnTo>
                    <a:pt x="14206" y="736"/>
                  </a:lnTo>
                  <a:lnTo>
                    <a:pt x="13708" y="589"/>
                  </a:lnTo>
                  <a:lnTo>
                    <a:pt x="13168" y="736"/>
                  </a:lnTo>
                  <a:lnTo>
                    <a:pt x="12794" y="736"/>
                  </a:lnTo>
                  <a:lnTo>
                    <a:pt x="12295" y="1031"/>
                  </a:lnTo>
                  <a:lnTo>
                    <a:pt x="12046" y="1178"/>
                  </a:lnTo>
                  <a:lnTo>
                    <a:pt x="11631" y="736"/>
                  </a:lnTo>
                  <a:lnTo>
                    <a:pt x="11257" y="442"/>
                  </a:lnTo>
                  <a:lnTo>
                    <a:pt x="10883" y="147"/>
                  </a:lnTo>
                  <a:lnTo>
                    <a:pt x="10509" y="0"/>
                  </a:lnTo>
                  <a:lnTo>
                    <a:pt x="9969" y="0"/>
                  </a:lnTo>
                  <a:lnTo>
                    <a:pt x="9595" y="0"/>
                  </a:lnTo>
                  <a:lnTo>
                    <a:pt x="9097" y="147"/>
                  </a:lnTo>
                  <a:lnTo>
                    <a:pt x="8723" y="442"/>
                  </a:lnTo>
                  <a:lnTo>
                    <a:pt x="7934" y="1178"/>
                  </a:lnTo>
                  <a:lnTo>
                    <a:pt x="7186" y="1816"/>
                  </a:lnTo>
                  <a:lnTo>
                    <a:pt x="6397" y="2553"/>
                  </a:lnTo>
                  <a:lnTo>
                    <a:pt x="5525" y="3142"/>
                  </a:lnTo>
                  <a:lnTo>
                    <a:pt x="4735" y="3780"/>
                  </a:lnTo>
                  <a:lnTo>
                    <a:pt x="4112" y="4516"/>
                  </a:lnTo>
                  <a:lnTo>
                    <a:pt x="3323" y="5400"/>
                  </a:lnTo>
                  <a:lnTo>
                    <a:pt x="2825" y="6333"/>
                  </a:lnTo>
                  <a:lnTo>
                    <a:pt x="2575" y="6627"/>
                  </a:lnTo>
                  <a:lnTo>
                    <a:pt x="2451" y="7069"/>
                  </a:lnTo>
                  <a:lnTo>
                    <a:pt x="2326" y="7511"/>
                  </a:lnTo>
                  <a:lnTo>
                    <a:pt x="2202" y="8002"/>
                  </a:lnTo>
                  <a:lnTo>
                    <a:pt x="2202" y="8444"/>
                  </a:lnTo>
                  <a:lnTo>
                    <a:pt x="2202" y="8738"/>
                  </a:lnTo>
                  <a:lnTo>
                    <a:pt x="2326" y="9180"/>
                  </a:lnTo>
                  <a:lnTo>
                    <a:pt x="2575" y="9671"/>
                  </a:lnTo>
                  <a:lnTo>
                    <a:pt x="2575" y="9818"/>
                  </a:lnTo>
                  <a:lnTo>
                    <a:pt x="2700" y="9965"/>
                  </a:lnTo>
                  <a:lnTo>
                    <a:pt x="2825" y="10113"/>
                  </a:lnTo>
                  <a:lnTo>
                    <a:pt x="2700" y="10260"/>
                  </a:lnTo>
                  <a:lnTo>
                    <a:pt x="2575" y="10260"/>
                  </a:lnTo>
                  <a:lnTo>
                    <a:pt x="2451" y="10407"/>
                  </a:lnTo>
                  <a:lnTo>
                    <a:pt x="2326" y="10555"/>
                  </a:lnTo>
                  <a:lnTo>
                    <a:pt x="2202" y="10702"/>
                  </a:lnTo>
                  <a:lnTo>
                    <a:pt x="1786" y="11291"/>
                  </a:lnTo>
                  <a:lnTo>
                    <a:pt x="1412" y="11782"/>
                  </a:lnTo>
                  <a:lnTo>
                    <a:pt x="1163" y="12224"/>
                  </a:lnTo>
                  <a:lnTo>
                    <a:pt x="914" y="12813"/>
                  </a:lnTo>
                  <a:lnTo>
                    <a:pt x="665" y="13402"/>
                  </a:lnTo>
                  <a:lnTo>
                    <a:pt x="540" y="14187"/>
                  </a:lnTo>
                  <a:lnTo>
                    <a:pt x="415" y="14776"/>
                  </a:lnTo>
                  <a:lnTo>
                    <a:pt x="415" y="15709"/>
                  </a:lnTo>
                  <a:lnTo>
                    <a:pt x="540" y="13255"/>
                  </a:lnTo>
                  <a:lnTo>
                    <a:pt x="415" y="13402"/>
                  </a:lnTo>
                  <a:lnTo>
                    <a:pt x="415" y="13598"/>
                  </a:lnTo>
                  <a:lnTo>
                    <a:pt x="249" y="13598"/>
                  </a:lnTo>
                  <a:lnTo>
                    <a:pt x="125" y="14187"/>
                  </a:lnTo>
                  <a:lnTo>
                    <a:pt x="0" y="14629"/>
                  </a:lnTo>
                  <a:lnTo>
                    <a:pt x="125" y="15218"/>
                  </a:lnTo>
                  <a:lnTo>
                    <a:pt x="125" y="15856"/>
                  </a:lnTo>
                  <a:lnTo>
                    <a:pt x="415" y="16298"/>
                  </a:lnTo>
                  <a:lnTo>
                    <a:pt x="665" y="16740"/>
                  </a:lnTo>
                  <a:lnTo>
                    <a:pt x="1038" y="17035"/>
                  </a:lnTo>
                  <a:lnTo>
                    <a:pt x="1412" y="17329"/>
                  </a:lnTo>
                  <a:lnTo>
                    <a:pt x="1412" y="17525"/>
                  </a:lnTo>
                  <a:lnTo>
                    <a:pt x="1412" y="17673"/>
                  </a:lnTo>
                  <a:lnTo>
                    <a:pt x="1412" y="17820"/>
                  </a:lnTo>
                  <a:lnTo>
                    <a:pt x="1288" y="17967"/>
                  </a:lnTo>
                  <a:lnTo>
                    <a:pt x="1288" y="18115"/>
                  </a:lnTo>
                  <a:lnTo>
                    <a:pt x="1288" y="18262"/>
                  </a:lnTo>
                  <a:lnTo>
                    <a:pt x="1412" y="18704"/>
                  </a:lnTo>
                  <a:lnTo>
                    <a:pt x="1537" y="19293"/>
                  </a:lnTo>
                  <a:lnTo>
                    <a:pt x="1786" y="19784"/>
                  </a:lnTo>
                  <a:lnTo>
                    <a:pt x="2077" y="20225"/>
                  </a:lnTo>
                  <a:lnTo>
                    <a:pt x="2451" y="20520"/>
                  </a:lnTo>
                  <a:lnTo>
                    <a:pt x="2825" y="20815"/>
                  </a:lnTo>
                  <a:lnTo>
                    <a:pt x="3198" y="20962"/>
                  </a:lnTo>
                  <a:lnTo>
                    <a:pt x="3738" y="20962"/>
                  </a:lnTo>
                  <a:lnTo>
                    <a:pt x="4237" y="20962"/>
                  </a:lnTo>
                  <a:lnTo>
                    <a:pt x="4611" y="20815"/>
                  </a:lnTo>
                  <a:lnTo>
                    <a:pt x="4985" y="20667"/>
                  </a:lnTo>
                  <a:lnTo>
                    <a:pt x="5234" y="20373"/>
                  </a:lnTo>
                  <a:lnTo>
                    <a:pt x="5525" y="20078"/>
                  </a:lnTo>
                  <a:lnTo>
                    <a:pt x="5774" y="19636"/>
                  </a:lnTo>
                  <a:lnTo>
                    <a:pt x="6023" y="19145"/>
                  </a:lnTo>
                  <a:lnTo>
                    <a:pt x="6023" y="18704"/>
                  </a:lnTo>
                  <a:lnTo>
                    <a:pt x="6148" y="18556"/>
                  </a:lnTo>
                  <a:lnTo>
                    <a:pt x="6272" y="18409"/>
                  </a:lnTo>
                  <a:lnTo>
                    <a:pt x="6272" y="18262"/>
                  </a:lnTo>
                  <a:lnTo>
                    <a:pt x="6397" y="18262"/>
                  </a:lnTo>
                  <a:lnTo>
                    <a:pt x="6522" y="18115"/>
                  </a:lnTo>
                  <a:lnTo>
                    <a:pt x="6522" y="17967"/>
                  </a:lnTo>
                  <a:lnTo>
                    <a:pt x="6646" y="17820"/>
                  </a:lnTo>
                  <a:lnTo>
                    <a:pt x="6771" y="17673"/>
                  </a:lnTo>
                  <a:lnTo>
                    <a:pt x="7934" y="16004"/>
                  </a:lnTo>
                  <a:lnTo>
                    <a:pt x="8058" y="15709"/>
                  </a:lnTo>
                  <a:lnTo>
                    <a:pt x="8058" y="15562"/>
                  </a:lnTo>
                  <a:lnTo>
                    <a:pt x="8183" y="15218"/>
                  </a:lnTo>
                  <a:lnTo>
                    <a:pt x="8183" y="14924"/>
                  </a:lnTo>
                  <a:lnTo>
                    <a:pt x="8183" y="14776"/>
                  </a:lnTo>
                  <a:lnTo>
                    <a:pt x="8183" y="14482"/>
                  </a:lnTo>
                  <a:lnTo>
                    <a:pt x="8183" y="14187"/>
                  </a:lnTo>
                  <a:lnTo>
                    <a:pt x="8183" y="14040"/>
                  </a:lnTo>
                  <a:lnTo>
                    <a:pt x="8058" y="13598"/>
                  </a:lnTo>
                  <a:lnTo>
                    <a:pt x="7934" y="13107"/>
                  </a:lnTo>
                  <a:lnTo>
                    <a:pt x="7809" y="12665"/>
                  </a:lnTo>
                  <a:lnTo>
                    <a:pt x="7560" y="12371"/>
                  </a:lnTo>
                  <a:lnTo>
                    <a:pt x="7186" y="12224"/>
                  </a:lnTo>
                  <a:lnTo>
                    <a:pt x="6895" y="11929"/>
                  </a:lnTo>
                  <a:lnTo>
                    <a:pt x="6522" y="11782"/>
                  </a:lnTo>
                  <a:lnTo>
                    <a:pt x="6148" y="11635"/>
                  </a:lnTo>
                  <a:lnTo>
                    <a:pt x="6148" y="11438"/>
                  </a:lnTo>
                  <a:lnTo>
                    <a:pt x="6023" y="11291"/>
                  </a:lnTo>
                  <a:lnTo>
                    <a:pt x="6023" y="11144"/>
                  </a:lnTo>
                  <a:lnTo>
                    <a:pt x="5898" y="10996"/>
                  </a:lnTo>
                  <a:lnTo>
                    <a:pt x="5774" y="10849"/>
                  </a:lnTo>
                  <a:lnTo>
                    <a:pt x="5774" y="10702"/>
                  </a:lnTo>
                  <a:lnTo>
                    <a:pt x="6148" y="10555"/>
                  </a:lnTo>
                  <a:lnTo>
                    <a:pt x="6646" y="10260"/>
                  </a:lnTo>
                  <a:lnTo>
                    <a:pt x="7062" y="10113"/>
                  </a:lnTo>
                  <a:lnTo>
                    <a:pt x="7435" y="9965"/>
                  </a:lnTo>
                  <a:lnTo>
                    <a:pt x="7934" y="9818"/>
                  </a:lnTo>
                  <a:lnTo>
                    <a:pt x="8308" y="9475"/>
                  </a:lnTo>
                  <a:lnTo>
                    <a:pt x="8723" y="9327"/>
                  </a:lnTo>
                  <a:lnTo>
                    <a:pt x="9097" y="9180"/>
                  </a:lnTo>
                  <a:lnTo>
                    <a:pt x="9222" y="9475"/>
                  </a:lnTo>
                  <a:lnTo>
                    <a:pt x="9471" y="9671"/>
                  </a:lnTo>
                  <a:lnTo>
                    <a:pt x="9595" y="9965"/>
                  </a:lnTo>
                  <a:lnTo>
                    <a:pt x="9720" y="10113"/>
                  </a:lnTo>
                  <a:lnTo>
                    <a:pt x="9969" y="10407"/>
                  </a:lnTo>
                  <a:lnTo>
                    <a:pt x="10260" y="10555"/>
                  </a:lnTo>
                  <a:lnTo>
                    <a:pt x="10509" y="10702"/>
                  </a:lnTo>
                  <a:lnTo>
                    <a:pt x="10758" y="10702"/>
                  </a:lnTo>
                  <a:lnTo>
                    <a:pt x="12046" y="10996"/>
                  </a:lnTo>
                  <a:lnTo>
                    <a:pt x="12171" y="10996"/>
                  </a:lnTo>
                  <a:lnTo>
                    <a:pt x="12295" y="10849"/>
                  </a:lnTo>
                  <a:lnTo>
                    <a:pt x="12420" y="10849"/>
                  </a:lnTo>
                  <a:lnTo>
                    <a:pt x="12545" y="10849"/>
                  </a:lnTo>
                  <a:lnTo>
                    <a:pt x="12669" y="10849"/>
                  </a:lnTo>
                  <a:lnTo>
                    <a:pt x="12794" y="10849"/>
                  </a:lnTo>
                  <a:lnTo>
                    <a:pt x="12669" y="10996"/>
                  </a:lnTo>
                  <a:lnTo>
                    <a:pt x="12545" y="11291"/>
                  </a:lnTo>
                  <a:lnTo>
                    <a:pt x="12420" y="11438"/>
                  </a:lnTo>
                  <a:lnTo>
                    <a:pt x="12420" y="11782"/>
                  </a:lnTo>
                  <a:lnTo>
                    <a:pt x="12420" y="12076"/>
                  </a:lnTo>
                  <a:lnTo>
                    <a:pt x="12295" y="12371"/>
                  </a:lnTo>
                  <a:lnTo>
                    <a:pt x="12295" y="12665"/>
                  </a:lnTo>
                  <a:lnTo>
                    <a:pt x="12295" y="12960"/>
                  </a:lnTo>
                  <a:lnTo>
                    <a:pt x="12420" y="13107"/>
                  </a:lnTo>
                  <a:lnTo>
                    <a:pt x="12545" y="13598"/>
                  </a:lnTo>
                  <a:lnTo>
                    <a:pt x="12669" y="13893"/>
                  </a:lnTo>
                  <a:lnTo>
                    <a:pt x="12794" y="14335"/>
                  </a:lnTo>
                  <a:lnTo>
                    <a:pt x="13043" y="14482"/>
                  </a:lnTo>
                  <a:lnTo>
                    <a:pt x="13292" y="14776"/>
                  </a:lnTo>
                  <a:lnTo>
                    <a:pt x="13583" y="15071"/>
                  </a:lnTo>
                  <a:lnTo>
                    <a:pt x="13957" y="15218"/>
                  </a:lnTo>
                  <a:lnTo>
                    <a:pt x="14206" y="15218"/>
                  </a:lnTo>
                  <a:lnTo>
                    <a:pt x="14082" y="15365"/>
                  </a:lnTo>
                  <a:lnTo>
                    <a:pt x="14082" y="15562"/>
                  </a:lnTo>
                  <a:lnTo>
                    <a:pt x="14082" y="15709"/>
                  </a:lnTo>
                  <a:lnTo>
                    <a:pt x="13957" y="15856"/>
                  </a:lnTo>
                  <a:lnTo>
                    <a:pt x="13957" y="16004"/>
                  </a:lnTo>
                  <a:lnTo>
                    <a:pt x="13832" y="16151"/>
                  </a:lnTo>
                  <a:lnTo>
                    <a:pt x="13832" y="16298"/>
                  </a:lnTo>
                  <a:lnTo>
                    <a:pt x="13832" y="16740"/>
                  </a:lnTo>
                  <a:lnTo>
                    <a:pt x="13832" y="17182"/>
                  </a:lnTo>
                  <a:lnTo>
                    <a:pt x="13832" y="17525"/>
                  </a:lnTo>
                  <a:lnTo>
                    <a:pt x="13957" y="17967"/>
                  </a:lnTo>
                  <a:lnTo>
                    <a:pt x="14082" y="18262"/>
                  </a:lnTo>
                  <a:lnTo>
                    <a:pt x="14206" y="18556"/>
                  </a:lnTo>
                  <a:lnTo>
                    <a:pt x="14455" y="18851"/>
                  </a:lnTo>
                  <a:lnTo>
                    <a:pt x="14705" y="19145"/>
                  </a:lnTo>
                  <a:lnTo>
                    <a:pt x="14829" y="19489"/>
                  </a:lnTo>
                  <a:lnTo>
                    <a:pt x="14829" y="19784"/>
                  </a:lnTo>
                  <a:lnTo>
                    <a:pt x="14954" y="20078"/>
                  </a:lnTo>
                  <a:lnTo>
                    <a:pt x="15078" y="20373"/>
                  </a:lnTo>
                  <a:lnTo>
                    <a:pt x="15369" y="20667"/>
                  </a:lnTo>
                  <a:lnTo>
                    <a:pt x="15494" y="20962"/>
                  </a:lnTo>
                  <a:lnTo>
                    <a:pt x="15743" y="21109"/>
                  </a:lnTo>
                  <a:lnTo>
                    <a:pt x="15992" y="21256"/>
                  </a:lnTo>
                  <a:lnTo>
                    <a:pt x="16366" y="21600"/>
                  </a:lnTo>
                  <a:lnTo>
                    <a:pt x="16906" y="21600"/>
                  </a:lnTo>
                  <a:lnTo>
                    <a:pt x="17405" y="21600"/>
                  </a:lnTo>
                  <a:lnTo>
                    <a:pt x="17778" y="21600"/>
                  </a:lnTo>
                  <a:lnTo>
                    <a:pt x="18152" y="21256"/>
                  </a:lnTo>
                  <a:lnTo>
                    <a:pt x="18568" y="20962"/>
                  </a:lnTo>
                  <a:lnTo>
                    <a:pt x="18942" y="20667"/>
                  </a:lnTo>
                  <a:lnTo>
                    <a:pt x="19191" y="20225"/>
                  </a:lnTo>
                  <a:lnTo>
                    <a:pt x="19066" y="20373"/>
                  </a:lnTo>
                  <a:lnTo>
                    <a:pt x="18942" y="20520"/>
                  </a:lnTo>
                  <a:lnTo>
                    <a:pt x="19066" y="20373"/>
                  </a:lnTo>
                  <a:lnTo>
                    <a:pt x="19191" y="20078"/>
                  </a:lnTo>
                  <a:lnTo>
                    <a:pt x="19315" y="19784"/>
                  </a:lnTo>
                  <a:lnTo>
                    <a:pt x="19440" y="19636"/>
                  </a:lnTo>
                  <a:lnTo>
                    <a:pt x="19689" y="19293"/>
                  </a:lnTo>
                  <a:lnTo>
                    <a:pt x="19814" y="19145"/>
                  </a:lnTo>
                  <a:lnTo>
                    <a:pt x="19938" y="18851"/>
                  </a:lnTo>
                  <a:lnTo>
                    <a:pt x="20229" y="18704"/>
                  </a:lnTo>
                  <a:lnTo>
                    <a:pt x="20603" y="17967"/>
                  </a:lnTo>
                  <a:lnTo>
                    <a:pt x="20728" y="17820"/>
                  </a:lnTo>
                  <a:lnTo>
                    <a:pt x="20852" y="17525"/>
                  </a:lnTo>
                  <a:lnTo>
                    <a:pt x="20977" y="17329"/>
                  </a:lnTo>
                  <a:lnTo>
                    <a:pt x="20977" y="17035"/>
                  </a:lnTo>
                  <a:lnTo>
                    <a:pt x="21102" y="16740"/>
                  </a:lnTo>
                  <a:lnTo>
                    <a:pt x="21102" y="16445"/>
                  </a:lnTo>
                  <a:lnTo>
                    <a:pt x="21102" y="16151"/>
                  </a:lnTo>
                  <a:lnTo>
                    <a:pt x="21102" y="15856"/>
                  </a:lnTo>
                  <a:lnTo>
                    <a:pt x="21102" y="15709"/>
                  </a:lnTo>
                  <a:lnTo>
                    <a:pt x="20977" y="15365"/>
                  </a:lnTo>
                  <a:lnTo>
                    <a:pt x="20977" y="15218"/>
                  </a:lnTo>
                  <a:lnTo>
                    <a:pt x="20852" y="15071"/>
                  </a:lnTo>
                  <a:lnTo>
                    <a:pt x="20852" y="14776"/>
                  </a:lnTo>
                  <a:lnTo>
                    <a:pt x="20728" y="14629"/>
                  </a:lnTo>
                  <a:lnTo>
                    <a:pt x="20603" y="14482"/>
                  </a:lnTo>
                  <a:lnTo>
                    <a:pt x="20478" y="14335"/>
                  </a:lnTo>
                  <a:lnTo>
                    <a:pt x="20977" y="13598"/>
                  </a:lnTo>
                  <a:lnTo>
                    <a:pt x="21102" y="13402"/>
                  </a:lnTo>
                  <a:lnTo>
                    <a:pt x="21226" y="13255"/>
                  </a:lnTo>
                  <a:lnTo>
                    <a:pt x="21226" y="13107"/>
                  </a:lnTo>
                  <a:lnTo>
                    <a:pt x="21351" y="12813"/>
                  </a:lnTo>
                  <a:lnTo>
                    <a:pt x="21351" y="12665"/>
                  </a:lnTo>
                  <a:lnTo>
                    <a:pt x="21475" y="12518"/>
                  </a:lnTo>
                  <a:lnTo>
                    <a:pt x="21475" y="12224"/>
                  </a:lnTo>
                  <a:lnTo>
                    <a:pt x="21475" y="12076"/>
                  </a:lnTo>
                  <a:lnTo>
                    <a:pt x="21600" y="11635"/>
                  </a:lnTo>
                  <a:lnTo>
                    <a:pt x="21600" y="11438"/>
                  </a:lnTo>
                  <a:lnTo>
                    <a:pt x="21600" y="11291"/>
                  </a:lnTo>
                  <a:lnTo>
                    <a:pt x="21600" y="11144"/>
                  </a:lnTo>
                  <a:lnTo>
                    <a:pt x="21600" y="10996"/>
                  </a:lnTo>
                  <a:lnTo>
                    <a:pt x="21475" y="10996"/>
                  </a:lnTo>
                  <a:lnTo>
                    <a:pt x="21475" y="10849"/>
                  </a:lnTo>
                  <a:lnTo>
                    <a:pt x="21475" y="10702"/>
                  </a:lnTo>
                  <a:close/>
                  <a:moveTo>
                    <a:pt x="21475" y="10702"/>
                  </a:moveTo>
                </a:path>
              </a:pathLst>
            </a:custGeom>
            <a:solidFill>
              <a:srgbClr val="ff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1" name="Freeform 48"/>
            <p:cNvSpPr/>
            <p:nvPr/>
          </p:nvSpPr>
          <p:spPr>
            <a:xfrm>
              <a:off x="3694320" y="919080"/>
              <a:ext cx="102708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783"/>
                  </a:moveTo>
                  <a:lnTo>
                    <a:pt x="21500" y="14310"/>
                  </a:lnTo>
                  <a:lnTo>
                    <a:pt x="21400" y="13905"/>
                  </a:lnTo>
                  <a:lnTo>
                    <a:pt x="21166" y="13500"/>
                  </a:lnTo>
                  <a:lnTo>
                    <a:pt x="21066" y="13095"/>
                  </a:lnTo>
                  <a:lnTo>
                    <a:pt x="20866" y="12893"/>
                  </a:lnTo>
                  <a:lnTo>
                    <a:pt x="20765" y="12488"/>
                  </a:lnTo>
                  <a:lnTo>
                    <a:pt x="20565" y="12285"/>
                  </a:lnTo>
                  <a:lnTo>
                    <a:pt x="20365" y="12083"/>
                  </a:lnTo>
                  <a:lnTo>
                    <a:pt x="20265" y="11813"/>
                  </a:lnTo>
                  <a:lnTo>
                    <a:pt x="20265" y="11610"/>
                  </a:lnTo>
                  <a:lnTo>
                    <a:pt x="20164" y="11205"/>
                  </a:lnTo>
                  <a:lnTo>
                    <a:pt x="20064" y="11003"/>
                  </a:lnTo>
                  <a:lnTo>
                    <a:pt x="19964" y="10598"/>
                  </a:lnTo>
                  <a:lnTo>
                    <a:pt x="19831" y="10395"/>
                  </a:lnTo>
                  <a:lnTo>
                    <a:pt x="19730" y="9990"/>
                  </a:lnTo>
                  <a:lnTo>
                    <a:pt x="19530" y="9788"/>
                  </a:lnTo>
                  <a:lnTo>
                    <a:pt x="19230" y="9788"/>
                  </a:lnTo>
                  <a:lnTo>
                    <a:pt x="18929" y="9788"/>
                  </a:lnTo>
                  <a:lnTo>
                    <a:pt x="18729" y="9788"/>
                  </a:lnTo>
                  <a:lnTo>
                    <a:pt x="18595" y="9788"/>
                  </a:lnTo>
                  <a:lnTo>
                    <a:pt x="18495" y="9788"/>
                  </a:lnTo>
                  <a:lnTo>
                    <a:pt x="18395" y="9788"/>
                  </a:lnTo>
                  <a:lnTo>
                    <a:pt x="18295" y="9788"/>
                  </a:lnTo>
                  <a:lnTo>
                    <a:pt x="18095" y="9788"/>
                  </a:lnTo>
                  <a:lnTo>
                    <a:pt x="17994" y="9788"/>
                  </a:lnTo>
                  <a:lnTo>
                    <a:pt x="17894" y="9788"/>
                  </a:lnTo>
                  <a:lnTo>
                    <a:pt x="17794" y="9788"/>
                  </a:lnTo>
                  <a:lnTo>
                    <a:pt x="17594" y="9788"/>
                  </a:lnTo>
                  <a:lnTo>
                    <a:pt x="17394" y="9788"/>
                  </a:lnTo>
                  <a:lnTo>
                    <a:pt x="17260" y="9990"/>
                  </a:lnTo>
                  <a:lnTo>
                    <a:pt x="17260" y="9788"/>
                  </a:lnTo>
                  <a:lnTo>
                    <a:pt x="17260" y="9585"/>
                  </a:lnTo>
                  <a:lnTo>
                    <a:pt x="17260" y="9383"/>
                  </a:lnTo>
                  <a:lnTo>
                    <a:pt x="17260" y="9113"/>
                  </a:lnTo>
                  <a:lnTo>
                    <a:pt x="17260" y="8910"/>
                  </a:lnTo>
                  <a:lnTo>
                    <a:pt x="17260" y="8708"/>
                  </a:lnTo>
                  <a:lnTo>
                    <a:pt x="17260" y="8303"/>
                  </a:lnTo>
                  <a:lnTo>
                    <a:pt x="17260" y="8100"/>
                  </a:lnTo>
                  <a:lnTo>
                    <a:pt x="17160" y="7898"/>
                  </a:lnTo>
                  <a:lnTo>
                    <a:pt x="17160" y="7695"/>
                  </a:lnTo>
                  <a:lnTo>
                    <a:pt x="17060" y="7493"/>
                  </a:lnTo>
                  <a:lnTo>
                    <a:pt x="17060" y="7290"/>
                  </a:lnTo>
                  <a:lnTo>
                    <a:pt x="16960" y="7088"/>
                  </a:lnTo>
                  <a:lnTo>
                    <a:pt x="16960" y="6885"/>
                  </a:lnTo>
                  <a:lnTo>
                    <a:pt x="16859" y="6885"/>
                  </a:lnTo>
                  <a:lnTo>
                    <a:pt x="16859" y="6683"/>
                  </a:lnTo>
                  <a:lnTo>
                    <a:pt x="16859" y="6413"/>
                  </a:lnTo>
                  <a:lnTo>
                    <a:pt x="16659" y="6210"/>
                  </a:lnTo>
                  <a:lnTo>
                    <a:pt x="16559" y="5805"/>
                  </a:lnTo>
                  <a:lnTo>
                    <a:pt x="16359" y="5400"/>
                  </a:lnTo>
                  <a:lnTo>
                    <a:pt x="16058" y="4995"/>
                  </a:lnTo>
                  <a:lnTo>
                    <a:pt x="15824" y="4793"/>
                  </a:lnTo>
                  <a:lnTo>
                    <a:pt x="15424" y="4388"/>
                  </a:lnTo>
                  <a:lnTo>
                    <a:pt x="15324" y="4388"/>
                  </a:lnTo>
                  <a:lnTo>
                    <a:pt x="15324" y="4590"/>
                  </a:lnTo>
                  <a:lnTo>
                    <a:pt x="15324" y="4388"/>
                  </a:lnTo>
                  <a:lnTo>
                    <a:pt x="15324" y="4185"/>
                  </a:lnTo>
                  <a:lnTo>
                    <a:pt x="15223" y="3983"/>
                  </a:lnTo>
                  <a:lnTo>
                    <a:pt x="15223" y="3510"/>
                  </a:lnTo>
                  <a:lnTo>
                    <a:pt x="15123" y="3105"/>
                  </a:lnTo>
                  <a:lnTo>
                    <a:pt x="14923" y="2700"/>
                  </a:lnTo>
                  <a:lnTo>
                    <a:pt x="14823" y="2093"/>
                  </a:lnTo>
                  <a:lnTo>
                    <a:pt x="14489" y="1485"/>
                  </a:lnTo>
                  <a:lnTo>
                    <a:pt x="14189" y="1013"/>
                  </a:lnTo>
                  <a:lnTo>
                    <a:pt x="13888" y="608"/>
                  </a:lnTo>
                  <a:lnTo>
                    <a:pt x="13487" y="810"/>
                  </a:lnTo>
                  <a:lnTo>
                    <a:pt x="13254" y="810"/>
                  </a:lnTo>
                  <a:lnTo>
                    <a:pt x="13053" y="1013"/>
                  </a:lnTo>
                  <a:lnTo>
                    <a:pt x="12953" y="1013"/>
                  </a:lnTo>
                  <a:lnTo>
                    <a:pt x="12753" y="1283"/>
                  </a:lnTo>
                  <a:lnTo>
                    <a:pt x="12653" y="1283"/>
                  </a:lnTo>
                  <a:lnTo>
                    <a:pt x="12553" y="1283"/>
                  </a:lnTo>
                  <a:lnTo>
                    <a:pt x="12453" y="1485"/>
                  </a:lnTo>
                  <a:lnTo>
                    <a:pt x="12352" y="1485"/>
                  </a:lnTo>
                  <a:lnTo>
                    <a:pt x="12252" y="1485"/>
                  </a:lnTo>
                  <a:lnTo>
                    <a:pt x="12152" y="1688"/>
                  </a:lnTo>
                  <a:lnTo>
                    <a:pt x="11918" y="1688"/>
                  </a:lnTo>
                  <a:lnTo>
                    <a:pt x="11818" y="1688"/>
                  </a:lnTo>
                  <a:lnTo>
                    <a:pt x="11518" y="1485"/>
                  </a:lnTo>
                  <a:lnTo>
                    <a:pt x="11217" y="1013"/>
                  </a:lnTo>
                  <a:lnTo>
                    <a:pt x="10917" y="608"/>
                  </a:lnTo>
                  <a:lnTo>
                    <a:pt x="10583" y="405"/>
                  </a:lnTo>
                  <a:lnTo>
                    <a:pt x="10283" y="203"/>
                  </a:lnTo>
                  <a:lnTo>
                    <a:pt x="9982" y="203"/>
                  </a:lnTo>
                  <a:lnTo>
                    <a:pt x="9581" y="0"/>
                  </a:lnTo>
                  <a:lnTo>
                    <a:pt x="9147" y="203"/>
                  </a:lnTo>
                  <a:lnTo>
                    <a:pt x="8947" y="810"/>
                  </a:lnTo>
                  <a:lnTo>
                    <a:pt x="8847" y="1283"/>
                  </a:lnTo>
                  <a:lnTo>
                    <a:pt x="8747" y="1485"/>
                  </a:lnTo>
                  <a:lnTo>
                    <a:pt x="8647" y="1688"/>
                  </a:lnTo>
                  <a:lnTo>
                    <a:pt x="8647" y="1890"/>
                  </a:lnTo>
                  <a:lnTo>
                    <a:pt x="8547" y="1890"/>
                  </a:lnTo>
                  <a:lnTo>
                    <a:pt x="8446" y="2498"/>
                  </a:lnTo>
                  <a:lnTo>
                    <a:pt x="8246" y="2903"/>
                  </a:lnTo>
                  <a:lnTo>
                    <a:pt x="8012" y="3510"/>
                  </a:lnTo>
                  <a:lnTo>
                    <a:pt x="7912" y="3983"/>
                  </a:lnTo>
                  <a:lnTo>
                    <a:pt x="7812" y="4590"/>
                  </a:lnTo>
                  <a:lnTo>
                    <a:pt x="7712" y="5198"/>
                  </a:lnTo>
                  <a:lnTo>
                    <a:pt x="7712" y="6008"/>
                  </a:lnTo>
                  <a:lnTo>
                    <a:pt x="7612" y="6683"/>
                  </a:lnTo>
                  <a:lnTo>
                    <a:pt x="7512" y="5198"/>
                  </a:lnTo>
                  <a:lnTo>
                    <a:pt x="7512" y="5400"/>
                  </a:lnTo>
                  <a:lnTo>
                    <a:pt x="7411" y="5400"/>
                  </a:lnTo>
                  <a:lnTo>
                    <a:pt x="7411" y="5603"/>
                  </a:lnTo>
                  <a:lnTo>
                    <a:pt x="7411" y="5805"/>
                  </a:lnTo>
                  <a:lnTo>
                    <a:pt x="7411" y="6008"/>
                  </a:lnTo>
                  <a:lnTo>
                    <a:pt x="7311" y="6008"/>
                  </a:lnTo>
                  <a:lnTo>
                    <a:pt x="7311" y="6210"/>
                  </a:lnTo>
                  <a:lnTo>
                    <a:pt x="7311" y="6413"/>
                  </a:lnTo>
                  <a:lnTo>
                    <a:pt x="7211" y="6413"/>
                  </a:lnTo>
                  <a:lnTo>
                    <a:pt x="7011" y="6413"/>
                  </a:lnTo>
                  <a:lnTo>
                    <a:pt x="6811" y="6413"/>
                  </a:lnTo>
                  <a:lnTo>
                    <a:pt x="6677" y="6413"/>
                  </a:lnTo>
                  <a:lnTo>
                    <a:pt x="6477" y="6413"/>
                  </a:lnTo>
                  <a:lnTo>
                    <a:pt x="6276" y="6683"/>
                  </a:lnTo>
                  <a:lnTo>
                    <a:pt x="6176" y="6683"/>
                  </a:lnTo>
                  <a:lnTo>
                    <a:pt x="5976" y="6885"/>
                  </a:lnTo>
                  <a:lnTo>
                    <a:pt x="5241" y="7898"/>
                  </a:lnTo>
                  <a:lnTo>
                    <a:pt x="4640" y="8708"/>
                  </a:lnTo>
                  <a:lnTo>
                    <a:pt x="3906" y="9788"/>
                  </a:lnTo>
                  <a:lnTo>
                    <a:pt x="3305" y="10800"/>
                  </a:lnTo>
                  <a:lnTo>
                    <a:pt x="2571" y="11813"/>
                  </a:lnTo>
                  <a:lnTo>
                    <a:pt x="1970" y="12893"/>
                  </a:lnTo>
                  <a:lnTo>
                    <a:pt x="1235" y="13905"/>
                  </a:lnTo>
                  <a:lnTo>
                    <a:pt x="634" y="14985"/>
                  </a:lnTo>
                  <a:lnTo>
                    <a:pt x="334" y="15593"/>
                  </a:lnTo>
                  <a:lnTo>
                    <a:pt x="134" y="16200"/>
                  </a:lnTo>
                  <a:lnTo>
                    <a:pt x="0" y="17010"/>
                  </a:lnTo>
                  <a:lnTo>
                    <a:pt x="0" y="17685"/>
                  </a:lnTo>
                  <a:lnTo>
                    <a:pt x="0" y="18495"/>
                  </a:lnTo>
                  <a:lnTo>
                    <a:pt x="134" y="19103"/>
                  </a:lnTo>
                  <a:lnTo>
                    <a:pt x="334" y="19710"/>
                  </a:lnTo>
                  <a:lnTo>
                    <a:pt x="534" y="20385"/>
                  </a:lnTo>
                  <a:lnTo>
                    <a:pt x="835" y="20993"/>
                  </a:lnTo>
                  <a:lnTo>
                    <a:pt x="1135" y="21398"/>
                  </a:lnTo>
                  <a:lnTo>
                    <a:pt x="1569" y="21600"/>
                  </a:lnTo>
                  <a:lnTo>
                    <a:pt x="1870" y="21600"/>
                  </a:lnTo>
                  <a:lnTo>
                    <a:pt x="2270" y="21600"/>
                  </a:lnTo>
                  <a:lnTo>
                    <a:pt x="2671" y="21398"/>
                  </a:lnTo>
                  <a:lnTo>
                    <a:pt x="3005" y="20993"/>
                  </a:lnTo>
                  <a:lnTo>
                    <a:pt x="3305" y="20588"/>
                  </a:lnTo>
                  <a:lnTo>
                    <a:pt x="3205" y="20588"/>
                  </a:lnTo>
                  <a:lnTo>
                    <a:pt x="3205" y="20790"/>
                  </a:lnTo>
                  <a:lnTo>
                    <a:pt x="3105" y="20790"/>
                  </a:lnTo>
                  <a:lnTo>
                    <a:pt x="3005" y="20790"/>
                  </a:lnTo>
                  <a:lnTo>
                    <a:pt x="2904" y="20993"/>
                  </a:lnTo>
                  <a:lnTo>
                    <a:pt x="3606" y="19913"/>
                  </a:lnTo>
                  <a:lnTo>
                    <a:pt x="4240" y="19103"/>
                  </a:lnTo>
                  <a:lnTo>
                    <a:pt x="4841" y="18293"/>
                  </a:lnTo>
                  <a:lnTo>
                    <a:pt x="5475" y="17213"/>
                  </a:lnTo>
                  <a:lnTo>
                    <a:pt x="6076" y="16403"/>
                  </a:lnTo>
                  <a:lnTo>
                    <a:pt x="6677" y="15390"/>
                  </a:lnTo>
                  <a:lnTo>
                    <a:pt x="7311" y="14513"/>
                  </a:lnTo>
                  <a:lnTo>
                    <a:pt x="7912" y="13500"/>
                  </a:lnTo>
                  <a:lnTo>
                    <a:pt x="7812" y="13500"/>
                  </a:lnTo>
                  <a:lnTo>
                    <a:pt x="7812" y="13703"/>
                  </a:lnTo>
                  <a:lnTo>
                    <a:pt x="8012" y="13500"/>
                  </a:lnTo>
                  <a:lnTo>
                    <a:pt x="8246" y="13095"/>
                  </a:lnTo>
                  <a:lnTo>
                    <a:pt x="8346" y="12690"/>
                  </a:lnTo>
                  <a:lnTo>
                    <a:pt x="8547" y="12488"/>
                  </a:lnTo>
                  <a:lnTo>
                    <a:pt x="8647" y="12083"/>
                  </a:lnTo>
                  <a:lnTo>
                    <a:pt x="8747" y="11610"/>
                  </a:lnTo>
                  <a:lnTo>
                    <a:pt x="8747" y="11205"/>
                  </a:lnTo>
                  <a:lnTo>
                    <a:pt x="8847" y="10800"/>
                  </a:lnTo>
                  <a:lnTo>
                    <a:pt x="9047" y="10800"/>
                  </a:lnTo>
                  <a:lnTo>
                    <a:pt x="9147" y="10800"/>
                  </a:lnTo>
                  <a:lnTo>
                    <a:pt x="9248" y="11003"/>
                  </a:lnTo>
                  <a:lnTo>
                    <a:pt x="9481" y="11003"/>
                  </a:lnTo>
                  <a:lnTo>
                    <a:pt x="9581" y="11003"/>
                  </a:lnTo>
                  <a:lnTo>
                    <a:pt x="9682" y="11003"/>
                  </a:lnTo>
                  <a:lnTo>
                    <a:pt x="9882" y="10800"/>
                  </a:lnTo>
                  <a:lnTo>
                    <a:pt x="9982" y="10800"/>
                  </a:lnTo>
                  <a:lnTo>
                    <a:pt x="10082" y="10800"/>
                  </a:lnTo>
                  <a:lnTo>
                    <a:pt x="10182" y="10800"/>
                  </a:lnTo>
                  <a:lnTo>
                    <a:pt x="10182" y="11003"/>
                  </a:lnTo>
                  <a:lnTo>
                    <a:pt x="10182" y="11205"/>
                  </a:lnTo>
                  <a:lnTo>
                    <a:pt x="10182" y="11408"/>
                  </a:lnTo>
                  <a:lnTo>
                    <a:pt x="10283" y="12285"/>
                  </a:lnTo>
                  <a:lnTo>
                    <a:pt x="10483" y="12893"/>
                  </a:lnTo>
                  <a:lnTo>
                    <a:pt x="10817" y="13298"/>
                  </a:lnTo>
                  <a:lnTo>
                    <a:pt x="11117" y="13905"/>
                  </a:lnTo>
                  <a:lnTo>
                    <a:pt x="11418" y="14108"/>
                  </a:lnTo>
                  <a:lnTo>
                    <a:pt x="11718" y="14310"/>
                  </a:lnTo>
                  <a:lnTo>
                    <a:pt x="12152" y="14310"/>
                  </a:lnTo>
                  <a:lnTo>
                    <a:pt x="12553" y="14310"/>
                  </a:lnTo>
                  <a:lnTo>
                    <a:pt x="12953" y="14108"/>
                  </a:lnTo>
                  <a:lnTo>
                    <a:pt x="12953" y="14513"/>
                  </a:lnTo>
                  <a:lnTo>
                    <a:pt x="13053" y="15188"/>
                  </a:lnTo>
                  <a:lnTo>
                    <a:pt x="13154" y="15593"/>
                  </a:lnTo>
                  <a:lnTo>
                    <a:pt x="13254" y="15998"/>
                  </a:lnTo>
                  <a:lnTo>
                    <a:pt x="13487" y="16403"/>
                  </a:lnTo>
                  <a:lnTo>
                    <a:pt x="13688" y="16808"/>
                  </a:lnTo>
                  <a:lnTo>
                    <a:pt x="13888" y="17010"/>
                  </a:lnTo>
                  <a:lnTo>
                    <a:pt x="14189" y="17483"/>
                  </a:lnTo>
                  <a:lnTo>
                    <a:pt x="15123" y="17888"/>
                  </a:lnTo>
                  <a:lnTo>
                    <a:pt x="15223" y="17888"/>
                  </a:lnTo>
                  <a:lnTo>
                    <a:pt x="15424" y="17888"/>
                  </a:lnTo>
                  <a:lnTo>
                    <a:pt x="15524" y="17888"/>
                  </a:lnTo>
                  <a:lnTo>
                    <a:pt x="15724" y="17888"/>
                  </a:lnTo>
                  <a:lnTo>
                    <a:pt x="15824" y="17888"/>
                  </a:lnTo>
                  <a:lnTo>
                    <a:pt x="16058" y="17888"/>
                  </a:lnTo>
                  <a:lnTo>
                    <a:pt x="16158" y="17888"/>
                  </a:lnTo>
                  <a:lnTo>
                    <a:pt x="16359" y="17685"/>
                  </a:lnTo>
                  <a:lnTo>
                    <a:pt x="16459" y="18495"/>
                  </a:lnTo>
                  <a:lnTo>
                    <a:pt x="16659" y="19103"/>
                  </a:lnTo>
                  <a:lnTo>
                    <a:pt x="16960" y="19508"/>
                  </a:lnTo>
                  <a:lnTo>
                    <a:pt x="17160" y="19913"/>
                  </a:lnTo>
                  <a:lnTo>
                    <a:pt x="17494" y="20385"/>
                  </a:lnTo>
                  <a:lnTo>
                    <a:pt x="17894" y="20385"/>
                  </a:lnTo>
                  <a:lnTo>
                    <a:pt x="18195" y="20588"/>
                  </a:lnTo>
                  <a:lnTo>
                    <a:pt x="18595" y="20385"/>
                  </a:lnTo>
                  <a:lnTo>
                    <a:pt x="19029" y="20183"/>
                  </a:lnTo>
                  <a:lnTo>
                    <a:pt x="19230" y="20183"/>
                  </a:lnTo>
                  <a:lnTo>
                    <a:pt x="19330" y="19913"/>
                  </a:lnTo>
                  <a:lnTo>
                    <a:pt x="19530" y="19913"/>
                  </a:lnTo>
                  <a:lnTo>
                    <a:pt x="19630" y="19913"/>
                  </a:lnTo>
                  <a:lnTo>
                    <a:pt x="19730" y="19710"/>
                  </a:lnTo>
                  <a:lnTo>
                    <a:pt x="19964" y="19710"/>
                  </a:lnTo>
                  <a:lnTo>
                    <a:pt x="20064" y="19710"/>
                  </a:lnTo>
                  <a:lnTo>
                    <a:pt x="20265" y="19508"/>
                  </a:lnTo>
                  <a:lnTo>
                    <a:pt x="20565" y="19305"/>
                  </a:lnTo>
                  <a:lnTo>
                    <a:pt x="20866" y="18900"/>
                  </a:lnTo>
                  <a:lnTo>
                    <a:pt x="21166" y="18293"/>
                  </a:lnTo>
                  <a:lnTo>
                    <a:pt x="21400" y="17685"/>
                  </a:lnTo>
                  <a:lnTo>
                    <a:pt x="21500" y="17010"/>
                  </a:lnTo>
                  <a:lnTo>
                    <a:pt x="21600" y="16200"/>
                  </a:lnTo>
                  <a:lnTo>
                    <a:pt x="21600" y="15593"/>
                  </a:lnTo>
                  <a:lnTo>
                    <a:pt x="21600" y="14783"/>
                  </a:lnTo>
                  <a:close/>
                  <a:moveTo>
                    <a:pt x="21600" y="14783"/>
                  </a:move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AutoShape 49"/>
            <p:cNvSpPr/>
            <p:nvPr/>
          </p:nvSpPr>
          <p:spPr>
            <a:xfrm>
              <a:off x="4011840" y="1382760"/>
              <a:ext cx="323640" cy="40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59" y="3122"/>
                  </a:moveTo>
                  <a:lnTo>
                    <a:pt x="20224" y="2363"/>
                  </a:lnTo>
                  <a:lnTo>
                    <a:pt x="19588" y="1603"/>
                  </a:lnTo>
                  <a:lnTo>
                    <a:pt x="18635" y="1097"/>
                  </a:lnTo>
                  <a:lnTo>
                    <a:pt x="17365" y="844"/>
                  </a:lnTo>
                  <a:lnTo>
                    <a:pt x="16306" y="591"/>
                  </a:lnTo>
                  <a:lnTo>
                    <a:pt x="15035" y="591"/>
                  </a:lnTo>
                  <a:lnTo>
                    <a:pt x="14082" y="591"/>
                  </a:lnTo>
                  <a:lnTo>
                    <a:pt x="12812" y="1097"/>
                  </a:lnTo>
                  <a:lnTo>
                    <a:pt x="12388" y="844"/>
                  </a:lnTo>
                  <a:lnTo>
                    <a:pt x="12071" y="591"/>
                  </a:lnTo>
                  <a:lnTo>
                    <a:pt x="11753" y="591"/>
                  </a:lnTo>
                  <a:lnTo>
                    <a:pt x="11435" y="591"/>
                  </a:lnTo>
                  <a:lnTo>
                    <a:pt x="11435" y="253"/>
                  </a:lnTo>
                  <a:lnTo>
                    <a:pt x="11118" y="253"/>
                  </a:lnTo>
                  <a:lnTo>
                    <a:pt x="10800" y="253"/>
                  </a:lnTo>
                  <a:lnTo>
                    <a:pt x="9529" y="0"/>
                  </a:lnTo>
                  <a:lnTo>
                    <a:pt x="8576" y="0"/>
                  </a:lnTo>
                  <a:lnTo>
                    <a:pt x="7200" y="0"/>
                  </a:lnTo>
                  <a:lnTo>
                    <a:pt x="6247" y="591"/>
                  </a:lnTo>
                  <a:lnTo>
                    <a:pt x="5294" y="1097"/>
                  </a:lnTo>
                  <a:lnTo>
                    <a:pt x="4235" y="1603"/>
                  </a:lnTo>
                  <a:lnTo>
                    <a:pt x="3600" y="2363"/>
                  </a:lnTo>
                  <a:lnTo>
                    <a:pt x="2965" y="3375"/>
                  </a:lnTo>
                  <a:lnTo>
                    <a:pt x="2965" y="3628"/>
                  </a:lnTo>
                  <a:lnTo>
                    <a:pt x="2647" y="3966"/>
                  </a:lnTo>
                  <a:lnTo>
                    <a:pt x="2329" y="4219"/>
                  </a:lnTo>
                  <a:lnTo>
                    <a:pt x="2012" y="4472"/>
                  </a:lnTo>
                  <a:lnTo>
                    <a:pt x="2012" y="4725"/>
                  </a:lnTo>
                  <a:lnTo>
                    <a:pt x="2012" y="4978"/>
                  </a:lnTo>
                  <a:lnTo>
                    <a:pt x="2012" y="5231"/>
                  </a:lnTo>
                  <a:lnTo>
                    <a:pt x="2329" y="5738"/>
                  </a:lnTo>
                  <a:lnTo>
                    <a:pt x="2329" y="6497"/>
                  </a:lnTo>
                  <a:lnTo>
                    <a:pt x="2647" y="7003"/>
                  </a:lnTo>
                  <a:lnTo>
                    <a:pt x="2965" y="7594"/>
                  </a:lnTo>
                  <a:lnTo>
                    <a:pt x="3282" y="8353"/>
                  </a:lnTo>
                  <a:lnTo>
                    <a:pt x="3600" y="8859"/>
                  </a:lnTo>
                  <a:lnTo>
                    <a:pt x="3918" y="9366"/>
                  </a:lnTo>
                  <a:lnTo>
                    <a:pt x="4659" y="9872"/>
                  </a:lnTo>
                  <a:lnTo>
                    <a:pt x="4235" y="9872"/>
                  </a:lnTo>
                  <a:lnTo>
                    <a:pt x="4235" y="10125"/>
                  </a:lnTo>
                  <a:lnTo>
                    <a:pt x="4235" y="10378"/>
                  </a:lnTo>
                  <a:lnTo>
                    <a:pt x="3918" y="10378"/>
                  </a:lnTo>
                  <a:lnTo>
                    <a:pt x="741" y="6497"/>
                  </a:lnTo>
                  <a:lnTo>
                    <a:pt x="424" y="7003"/>
                  </a:lnTo>
                  <a:lnTo>
                    <a:pt x="424" y="7341"/>
                  </a:lnTo>
                  <a:lnTo>
                    <a:pt x="0" y="7847"/>
                  </a:lnTo>
                  <a:lnTo>
                    <a:pt x="0" y="8353"/>
                  </a:lnTo>
                  <a:lnTo>
                    <a:pt x="0" y="8859"/>
                  </a:lnTo>
                  <a:lnTo>
                    <a:pt x="0" y="9366"/>
                  </a:lnTo>
                  <a:lnTo>
                    <a:pt x="0" y="9872"/>
                  </a:lnTo>
                  <a:lnTo>
                    <a:pt x="424" y="10378"/>
                  </a:lnTo>
                  <a:lnTo>
                    <a:pt x="424" y="10716"/>
                  </a:lnTo>
                  <a:lnTo>
                    <a:pt x="741" y="10969"/>
                  </a:lnTo>
                  <a:lnTo>
                    <a:pt x="741" y="11475"/>
                  </a:lnTo>
                  <a:lnTo>
                    <a:pt x="1059" y="11728"/>
                  </a:lnTo>
                  <a:lnTo>
                    <a:pt x="1376" y="11981"/>
                  </a:lnTo>
                  <a:lnTo>
                    <a:pt x="1694" y="12234"/>
                  </a:lnTo>
                  <a:lnTo>
                    <a:pt x="2012" y="12488"/>
                  </a:lnTo>
                  <a:lnTo>
                    <a:pt x="2012" y="12741"/>
                  </a:lnTo>
                  <a:lnTo>
                    <a:pt x="2012" y="12994"/>
                  </a:lnTo>
                  <a:lnTo>
                    <a:pt x="1694" y="13247"/>
                  </a:lnTo>
                  <a:lnTo>
                    <a:pt x="1694" y="13500"/>
                  </a:lnTo>
                  <a:lnTo>
                    <a:pt x="1694" y="13753"/>
                  </a:lnTo>
                  <a:lnTo>
                    <a:pt x="1694" y="14091"/>
                  </a:lnTo>
                  <a:lnTo>
                    <a:pt x="1376" y="14344"/>
                  </a:lnTo>
                  <a:lnTo>
                    <a:pt x="1376" y="14597"/>
                  </a:lnTo>
                  <a:lnTo>
                    <a:pt x="1376" y="15103"/>
                  </a:lnTo>
                  <a:lnTo>
                    <a:pt x="1376" y="15356"/>
                  </a:lnTo>
                  <a:lnTo>
                    <a:pt x="1376" y="15609"/>
                  </a:lnTo>
                  <a:lnTo>
                    <a:pt x="1694" y="15863"/>
                  </a:lnTo>
                  <a:lnTo>
                    <a:pt x="1694" y="16369"/>
                  </a:lnTo>
                  <a:lnTo>
                    <a:pt x="1694" y="16622"/>
                  </a:lnTo>
                  <a:lnTo>
                    <a:pt x="2012" y="16875"/>
                  </a:lnTo>
                  <a:lnTo>
                    <a:pt x="2329" y="17719"/>
                  </a:lnTo>
                  <a:lnTo>
                    <a:pt x="3282" y="18478"/>
                  </a:lnTo>
                  <a:lnTo>
                    <a:pt x="4235" y="19238"/>
                  </a:lnTo>
                  <a:lnTo>
                    <a:pt x="5294" y="19491"/>
                  </a:lnTo>
                  <a:lnTo>
                    <a:pt x="6247" y="19744"/>
                  </a:lnTo>
                  <a:lnTo>
                    <a:pt x="7518" y="19997"/>
                  </a:lnTo>
                  <a:lnTo>
                    <a:pt x="8576" y="19744"/>
                  </a:lnTo>
                  <a:lnTo>
                    <a:pt x="9847" y="19491"/>
                  </a:lnTo>
                  <a:lnTo>
                    <a:pt x="10800" y="19238"/>
                  </a:lnTo>
                  <a:lnTo>
                    <a:pt x="11118" y="19238"/>
                  </a:lnTo>
                  <a:lnTo>
                    <a:pt x="11118" y="18984"/>
                  </a:lnTo>
                  <a:lnTo>
                    <a:pt x="11435" y="19491"/>
                  </a:lnTo>
                  <a:lnTo>
                    <a:pt x="11753" y="19744"/>
                  </a:lnTo>
                  <a:lnTo>
                    <a:pt x="12071" y="19997"/>
                  </a:lnTo>
                  <a:lnTo>
                    <a:pt x="12388" y="20250"/>
                  </a:lnTo>
                  <a:lnTo>
                    <a:pt x="12812" y="20503"/>
                  </a:lnTo>
                  <a:lnTo>
                    <a:pt x="13129" y="20841"/>
                  </a:lnTo>
                  <a:lnTo>
                    <a:pt x="13447" y="21347"/>
                  </a:lnTo>
                  <a:lnTo>
                    <a:pt x="13765" y="21600"/>
                  </a:lnTo>
                  <a:lnTo>
                    <a:pt x="15035" y="21347"/>
                  </a:lnTo>
                  <a:lnTo>
                    <a:pt x="15988" y="21094"/>
                  </a:lnTo>
                  <a:lnTo>
                    <a:pt x="17047" y="20503"/>
                  </a:lnTo>
                  <a:lnTo>
                    <a:pt x="18000" y="19744"/>
                  </a:lnTo>
                  <a:lnTo>
                    <a:pt x="18635" y="18984"/>
                  </a:lnTo>
                  <a:lnTo>
                    <a:pt x="18953" y="18225"/>
                  </a:lnTo>
                  <a:lnTo>
                    <a:pt x="19271" y="17128"/>
                  </a:lnTo>
                  <a:lnTo>
                    <a:pt x="19271" y="16116"/>
                  </a:lnTo>
                  <a:lnTo>
                    <a:pt x="19271" y="15863"/>
                  </a:lnTo>
                  <a:lnTo>
                    <a:pt x="19588" y="15103"/>
                  </a:lnTo>
                  <a:lnTo>
                    <a:pt x="19588" y="14597"/>
                  </a:lnTo>
                  <a:lnTo>
                    <a:pt x="19906" y="14091"/>
                  </a:lnTo>
                  <a:lnTo>
                    <a:pt x="19906" y="13500"/>
                  </a:lnTo>
                  <a:lnTo>
                    <a:pt x="19906" y="13247"/>
                  </a:lnTo>
                  <a:lnTo>
                    <a:pt x="19906" y="12741"/>
                  </a:lnTo>
                  <a:lnTo>
                    <a:pt x="19588" y="12234"/>
                  </a:lnTo>
                  <a:lnTo>
                    <a:pt x="19588" y="11728"/>
                  </a:lnTo>
                  <a:lnTo>
                    <a:pt x="19271" y="11475"/>
                  </a:lnTo>
                  <a:lnTo>
                    <a:pt x="18953" y="10969"/>
                  </a:lnTo>
                  <a:lnTo>
                    <a:pt x="18953" y="10716"/>
                  </a:lnTo>
                  <a:lnTo>
                    <a:pt x="19271" y="10716"/>
                  </a:lnTo>
                  <a:lnTo>
                    <a:pt x="19271" y="10378"/>
                  </a:lnTo>
                  <a:lnTo>
                    <a:pt x="19588" y="10125"/>
                  </a:lnTo>
                  <a:lnTo>
                    <a:pt x="19906" y="9872"/>
                  </a:lnTo>
                  <a:lnTo>
                    <a:pt x="19906" y="9619"/>
                  </a:lnTo>
                  <a:lnTo>
                    <a:pt x="21600" y="6244"/>
                  </a:lnTo>
                  <a:lnTo>
                    <a:pt x="21600" y="5738"/>
                  </a:lnTo>
                  <a:lnTo>
                    <a:pt x="21600" y="5484"/>
                  </a:lnTo>
                  <a:lnTo>
                    <a:pt x="21600" y="4978"/>
                  </a:lnTo>
                  <a:lnTo>
                    <a:pt x="21600" y="4725"/>
                  </a:lnTo>
                  <a:lnTo>
                    <a:pt x="21600" y="4219"/>
                  </a:lnTo>
                  <a:lnTo>
                    <a:pt x="21600" y="3966"/>
                  </a:lnTo>
                  <a:lnTo>
                    <a:pt x="21282" y="3375"/>
                  </a:lnTo>
                  <a:lnTo>
                    <a:pt x="20859" y="3122"/>
                  </a:lnTo>
                  <a:close/>
                  <a:moveTo>
                    <a:pt x="6247" y="3628"/>
                  </a:moveTo>
                  <a:lnTo>
                    <a:pt x="6247" y="3628"/>
                  </a:lnTo>
                  <a:close/>
                  <a:moveTo>
                    <a:pt x="6247" y="3628"/>
                  </a:moveTo>
                </a:path>
              </a:pathLst>
            </a:custGeom>
            <a:solidFill>
              <a:srgbClr val="b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Freeform 50"/>
            <p:cNvSpPr/>
            <p:nvPr/>
          </p:nvSpPr>
          <p:spPr>
            <a:xfrm>
              <a:off x="3684600" y="968400"/>
              <a:ext cx="489240" cy="28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69" y="0"/>
                  </a:moveTo>
                  <a:lnTo>
                    <a:pt x="18374" y="1820"/>
                  </a:lnTo>
                  <a:lnTo>
                    <a:pt x="15779" y="3762"/>
                  </a:lnTo>
                  <a:lnTo>
                    <a:pt x="13184" y="5946"/>
                  </a:lnTo>
                  <a:lnTo>
                    <a:pt x="10590" y="8616"/>
                  </a:lnTo>
                  <a:lnTo>
                    <a:pt x="7995" y="10800"/>
                  </a:lnTo>
                  <a:lnTo>
                    <a:pt x="5610" y="13470"/>
                  </a:lnTo>
                  <a:lnTo>
                    <a:pt x="3016" y="16018"/>
                  </a:lnTo>
                  <a:lnTo>
                    <a:pt x="701" y="18688"/>
                  </a:lnTo>
                  <a:lnTo>
                    <a:pt x="421" y="18688"/>
                  </a:lnTo>
                  <a:lnTo>
                    <a:pt x="210" y="19052"/>
                  </a:lnTo>
                  <a:lnTo>
                    <a:pt x="210" y="19416"/>
                  </a:lnTo>
                  <a:lnTo>
                    <a:pt x="0" y="19780"/>
                  </a:lnTo>
                  <a:lnTo>
                    <a:pt x="0" y="20144"/>
                  </a:lnTo>
                  <a:lnTo>
                    <a:pt x="210" y="20508"/>
                  </a:lnTo>
                  <a:lnTo>
                    <a:pt x="210" y="20872"/>
                  </a:lnTo>
                  <a:lnTo>
                    <a:pt x="421" y="21236"/>
                  </a:lnTo>
                  <a:lnTo>
                    <a:pt x="421" y="21600"/>
                  </a:lnTo>
                  <a:lnTo>
                    <a:pt x="701" y="21600"/>
                  </a:lnTo>
                  <a:lnTo>
                    <a:pt x="912" y="21600"/>
                  </a:lnTo>
                  <a:lnTo>
                    <a:pt x="1122" y="21600"/>
                  </a:lnTo>
                  <a:lnTo>
                    <a:pt x="1332" y="21600"/>
                  </a:lnTo>
                  <a:lnTo>
                    <a:pt x="1543" y="21600"/>
                  </a:lnTo>
                  <a:lnTo>
                    <a:pt x="1753" y="21600"/>
                  </a:lnTo>
                  <a:lnTo>
                    <a:pt x="4138" y="19052"/>
                  </a:lnTo>
                  <a:lnTo>
                    <a:pt x="6522" y="16382"/>
                  </a:lnTo>
                  <a:lnTo>
                    <a:pt x="8836" y="13834"/>
                  </a:lnTo>
                  <a:lnTo>
                    <a:pt x="11431" y="11164"/>
                  </a:lnTo>
                  <a:lnTo>
                    <a:pt x="13816" y="8616"/>
                  </a:lnTo>
                  <a:lnTo>
                    <a:pt x="16200" y="6310"/>
                  </a:lnTo>
                  <a:lnTo>
                    <a:pt x="18795" y="3762"/>
                  </a:lnTo>
                  <a:lnTo>
                    <a:pt x="21390" y="1456"/>
                  </a:lnTo>
                  <a:lnTo>
                    <a:pt x="21390" y="1092"/>
                  </a:lnTo>
                  <a:lnTo>
                    <a:pt x="21600" y="1092"/>
                  </a:lnTo>
                  <a:lnTo>
                    <a:pt x="21600" y="728"/>
                  </a:lnTo>
                  <a:lnTo>
                    <a:pt x="21600" y="364"/>
                  </a:lnTo>
                  <a:lnTo>
                    <a:pt x="21600" y="0"/>
                  </a:lnTo>
                  <a:lnTo>
                    <a:pt x="21390" y="0"/>
                  </a:lnTo>
                  <a:lnTo>
                    <a:pt x="21179" y="0"/>
                  </a:lnTo>
                  <a:lnTo>
                    <a:pt x="20969" y="0"/>
                  </a:lnTo>
                  <a:close/>
                  <a:moveTo>
                    <a:pt x="20969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4" name="Freeform 51"/>
            <p:cNvSpPr/>
            <p:nvPr/>
          </p:nvSpPr>
          <p:spPr>
            <a:xfrm>
              <a:off x="3737160" y="1114200"/>
              <a:ext cx="434880" cy="26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91" y="0"/>
                  </a:moveTo>
                  <a:lnTo>
                    <a:pt x="19945" y="781"/>
                  </a:lnTo>
                  <a:lnTo>
                    <a:pt x="18920" y="1561"/>
                  </a:lnTo>
                  <a:lnTo>
                    <a:pt x="17737" y="2472"/>
                  </a:lnTo>
                  <a:lnTo>
                    <a:pt x="16712" y="3253"/>
                  </a:lnTo>
                  <a:lnTo>
                    <a:pt x="15766" y="4034"/>
                  </a:lnTo>
                  <a:lnTo>
                    <a:pt x="14820" y="4814"/>
                  </a:lnTo>
                  <a:lnTo>
                    <a:pt x="13559" y="5986"/>
                  </a:lnTo>
                  <a:lnTo>
                    <a:pt x="12613" y="6766"/>
                  </a:lnTo>
                  <a:lnTo>
                    <a:pt x="11194" y="8067"/>
                  </a:lnTo>
                  <a:lnTo>
                    <a:pt x="9460" y="9629"/>
                  </a:lnTo>
                  <a:lnTo>
                    <a:pt x="8041" y="10800"/>
                  </a:lnTo>
                  <a:lnTo>
                    <a:pt x="6307" y="12492"/>
                  </a:lnTo>
                  <a:lnTo>
                    <a:pt x="4888" y="13663"/>
                  </a:lnTo>
                  <a:lnTo>
                    <a:pt x="3153" y="15224"/>
                  </a:lnTo>
                  <a:lnTo>
                    <a:pt x="1734" y="16786"/>
                  </a:lnTo>
                  <a:lnTo>
                    <a:pt x="236" y="18477"/>
                  </a:lnTo>
                  <a:lnTo>
                    <a:pt x="236" y="18867"/>
                  </a:lnTo>
                  <a:lnTo>
                    <a:pt x="0" y="19258"/>
                  </a:lnTo>
                  <a:lnTo>
                    <a:pt x="0" y="19648"/>
                  </a:lnTo>
                  <a:lnTo>
                    <a:pt x="0" y="20039"/>
                  </a:lnTo>
                  <a:lnTo>
                    <a:pt x="0" y="20429"/>
                  </a:lnTo>
                  <a:lnTo>
                    <a:pt x="236" y="20819"/>
                  </a:lnTo>
                  <a:lnTo>
                    <a:pt x="236" y="21210"/>
                  </a:lnTo>
                  <a:lnTo>
                    <a:pt x="473" y="21210"/>
                  </a:lnTo>
                  <a:lnTo>
                    <a:pt x="709" y="21600"/>
                  </a:lnTo>
                  <a:lnTo>
                    <a:pt x="946" y="21600"/>
                  </a:lnTo>
                  <a:lnTo>
                    <a:pt x="1261" y="21600"/>
                  </a:lnTo>
                  <a:lnTo>
                    <a:pt x="1498" y="21210"/>
                  </a:lnTo>
                  <a:lnTo>
                    <a:pt x="4099" y="18867"/>
                  </a:lnTo>
                  <a:lnTo>
                    <a:pt x="6543" y="16395"/>
                  </a:lnTo>
                  <a:lnTo>
                    <a:pt x="8987" y="14053"/>
                  </a:lnTo>
                  <a:lnTo>
                    <a:pt x="11431" y="11581"/>
                  </a:lnTo>
                  <a:lnTo>
                    <a:pt x="13874" y="8848"/>
                  </a:lnTo>
                  <a:lnTo>
                    <a:pt x="16476" y="6376"/>
                  </a:lnTo>
                  <a:lnTo>
                    <a:pt x="18920" y="4034"/>
                  </a:lnTo>
                  <a:lnTo>
                    <a:pt x="21364" y="1561"/>
                  </a:lnTo>
                  <a:lnTo>
                    <a:pt x="21600" y="1561"/>
                  </a:lnTo>
                  <a:lnTo>
                    <a:pt x="21600" y="1171"/>
                  </a:lnTo>
                  <a:lnTo>
                    <a:pt x="21600" y="781"/>
                  </a:lnTo>
                  <a:lnTo>
                    <a:pt x="21600" y="390"/>
                  </a:lnTo>
                  <a:lnTo>
                    <a:pt x="21364" y="390"/>
                  </a:lnTo>
                  <a:lnTo>
                    <a:pt x="21364" y="0"/>
                  </a:lnTo>
                  <a:lnTo>
                    <a:pt x="21127" y="0"/>
                  </a:lnTo>
                  <a:lnTo>
                    <a:pt x="20891" y="0"/>
                  </a:lnTo>
                  <a:close/>
                  <a:moveTo>
                    <a:pt x="20891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Freeform 52"/>
            <p:cNvSpPr/>
            <p:nvPr/>
          </p:nvSpPr>
          <p:spPr>
            <a:xfrm>
              <a:off x="3689640" y="1217520"/>
              <a:ext cx="54000" cy="7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06" y="2817"/>
                  </a:moveTo>
                  <a:lnTo>
                    <a:pt x="0" y="5635"/>
                  </a:lnTo>
                  <a:lnTo>
                    <a:pt x="0" y="7043"/>
                  </a:lnTo>
                  <a:lnTo>
                    <a:pt x="0" y="9861"/>
                  </a:lnTo>
                  <a:lnTo>
                    <a:pt x="1906" y="12678"/>
                  </a:lnTo>
                  <a:lnTo>
                    <a:pt x="4447" y="14557"/>
                  </a:lnTo>
                  <a:lnTo>
                    <a:pt x="6353" y="15965"/>
                  </a:lnTo>
                  <a:lnTo>
                    <a:pt x="8259" y="18783"/>
                  </a:lnTo>
                  <a:lnTo>
                    <a:pt x="10165" y="20191"/>
                  </a:lnTo>
                  <a:lnTo>
                    <a:pt x="10165" y="21600"/>
                  </a:lnTo>
                  <a:lnTo>
                    <a:pt x="12071" y="21600"/>
                  </a:lnTo>
                  <a:lnTo>
                    <a:pt x="13976" y="21600"/>
                  </a:lnTo>
                  <a:lnTo>
                    <a:pt x="15882" y="21600"/>
                  </a:lnTo>
                  <a:lnTo>
                    <a:pt x="17788" y="21600"/>
                  </a:lnTo>
                  <a:lnTo>
                    <a:pt x="19694" y="21600"/>
                  </a:lnTo>
                  <a:lnTo>
                    <a:pt x="21600" y="20191"/>
                  </a:lnTo>
                  <a:lnTo>
                    <a:pt x="21600" y="18783"/>
                  </a:lnTo>
                  <a:lnTo>
                    <a:pt x="21600" y="17374"/>
                  </a:lnTo>
                  <a:lnTo>
                    <a:pt x="21600" y="15965"/>
                  </a:lnTo>
                  <a:lnTo>
                    <a:pt x="21600" y="14557"/>
                  </a:lnTo>
                  <a:lnTo>
                    <a:pt x="21600" y="12678"/>
                  </a:lnTo>
                  <a:lnTo>
                    <a:pt x="19694" y="11270"/>
                  </a:lnTo>
                  <a:lnTo>
                    <a:pt x="17788" y="9861"/>
                  </a:lnTo>
                  <a:lnTo>
                    <a:pt x="15882" y="9861"/>
                  </a:lnTo>
                  <a:lnTo>
                    <a:pt x="13976" y="8452"/>
                  </a:lnTo>
                  <a:lnTo>
                    <a:pt x="12071" y="7043"/>
                  </a:lnTo>
                  <a:lnTo>
                    <a:pt x="10165" y="4226"/>
                  </a:lnTo>
                  <a:lnTo>
                    <a:pt x="10165" y="2817"/>
                  </a:lnTo>
                  <a:lnTo>
                    <a:pt x="8259" y="1409"/>
                  </a:lnTo>
                  <a:lnTo>
                    <a:pt x="10165" y="1409"/>
                  </a:lnTo>
                  <a:lnTo>
                    <a:pt x="8259" y="0"/>
                  </a:lnTo>
                  <a:lnTo>
                    <a:pt x="6353" y="0"/>
                  </a:lnTo>
                  <a:lnTo>
                    <a:pt x="4447" y="0"/>
                  </a:lnTo>
                  <a:lnTo>
                    <a:pt x="1906" y="0"/>
                  </a:lnTo>
                  <a:lnTo>
                    <a:pt x="1906" y="1409"/>
                  </a:lnTo>
                  <a:lnTo>
                    <a:pt x="1906" y="2817"/>
                  </a:lnTo>
                  <a:close/>
                  <a:moveTo>
                    <a:pt x="1906" y="281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Freeform 53"/>
            <p:cNvSpPr/>
            <p:nvPr/>
          </p:nvSpPr>
          <p:spPr>
            <a:xfrm>
              <a:off x="4245120" y="933480"/>
              <a:ext cx="512640" cy="35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1" y="1248"/>
                  </a:moveTo>
                  <a:lnTo>
                    <a:pt x="2675" y="3840"/>
                  </a:lnTo>
                  <a:lnTo>
                    <a:pt x="5149" y="6240"/>
                  </a:lnTo>
                  <a:lnTo>
                    <a:pt x="7624" y="8928"/>
                  </a:lnTo>
                  <a:lnTo>
                    <a:pt x="10098" y="11520"/>
                  </a:lnTo>
                  <a:lnTo>
                    <a:pt x="12572" y="14208"/>
                  </a:lnTo>
                  <a:lnTo>
                    <a:pt x="15247" y="16608"/>
                  </a:lnTo>
                  <a:lnTo>
                    <a:pt x="17721" y="18912"/>
                  </a:lnTo>
                  <a:lnTo>
                    <a:pt x="20196" y="21312"/>
                  </a:lnTo>
                  <a:lnTo>
                    <a:pt x="20396" y="21600"/>
                  </a:lnTo>
                  <a:lnTo>
                    <a:pt x="20597" y="21600"/>
                  </a:lnTo>
                  <a:lnTo>
                    <a:pt x="20798" y="21600"/>
                  </a:lnTo>
                  <a:lnTo>
                    <a:pt x="20998" y="21600"/>
                  </a:lnTo>
                  <a:lnTo>
                    <a:pt x="21199" y="21312"/>
                  </a:lnTo>
                  <a:lnTo>
                    <a:pt x="21399" y="21024"/>
                  </a:lnTo>
                  <a:lnTo>
                    <a:pt x="21399" y="20736"/>
                  </a:lnTo>
                  <a:lnTo>
                    <a:pt x="21600" y="20736"/>
                  </a:lnTo>
                  <a:lnTo>
                    <a:pt x="21600" y="20448"/>
                  </a:lnTo>
                  <a:lnTo>
                    <a:pt x="21600" y="20160"/>
                  </a:lnTo>
                  <a:lnTo>
                    <a:pt x="21399" y="19776"/>
                  </a:lnTo>
                  <a:lnTo>
                    <a:pt x="21199" y="19488"/>
                  </a:lnTo>
                  <a:lnTo>
                    <a:pt x="18724" y="16896"/>
                  </a:lnTo>
                  <a:lnTo>
                    <a:pt x="16250" y="14208"/>
                  </a:lnTo>
                  <a:lnTo>
                    <a:pt x="13575" y="11808"/>
                  </a:lnTo>
                  <a:lnTo>
                    <a:pt x="11101" y="9216"/>
                  </a:lnTo>
                  <a:lnTo>
                    <a:pt x="8627" y="6816"/>
                  </a:lnTo>
                  <a:lnTo>
                    <a:pt x="5952" y="4416"/>
                  </a:lnTo>
                  <a:lnTo>
                    <a:pt x="3277" y="2112"/>
                  </a:lnTo>
                  <a:lnTo>
                    <a:pt x="602" y="0"/>
                  </a:lnTo>
                  <a:lnTo>
                    <a:pt x="401" y="0"/>
                  </a:lnTo>
                  <a:lnTo>
                    <a:pt x="201" y="0"/>
                  </a:lnTo>
                  <a:lnTo>
                    <a:pt x="201" y="288"/>
                  </a:lnTo>
                  <a:lnTo>
                    <a:pt x="0" y="288"/>
                  </a:lnTo>
                  <a:lnTo>
                    <a:pt x="0" y="576"/>
                  </a:lnTo>
                  <a:lnTo>
                    <a:pt x="0" y="960"/>
                  </a:lnTo>
                  <a:lnTo>
                    <a:pt x="201" y="1248"/>
                  </a:lnTo>
                  <a:close/>
                  <a:moveTo>
                    <a:pt x="201" y="124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7" name="Freeform 54"/>
            <p:cNvSpPr/>
            <p:nvPr/>
          </p:nvSpPr>
          <p:spPr>
            <a:xfrm>
              <a:off x="4251600" y="1109520"/>
              <a:ext cx="36648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1" y="1620"/>
                  </a:moveTo>
                  <a:lnTo>
                    <a:pt x="2899" y="4185"/>
                  </a:lnTo>
                  <a:lnTo>
                    <a:pt x="5236" y="6615"/>
                  </a:lnTo>
                  <a:lnTo>
                    <a:pt x="7481" y="9180"/>
                  </a:lnTo>
                  <a:lnTo>
                    <a:pt x="9818" y="12015"/>
                  </a:lnTo>
                  <a:lnTo>
                    <a:pt x="12436" y="14580"/>
                  </a:lnTo>
                  <a:lnTo>
                    <a:pt x="14681" y="17010"/>
                  </a:lnTo>
                  <a:lnTo>
                    <a:pt x="17299" y="19575"/>
                  </a:lnTo>
                  <a:lnTo>
                    <a:pt x="19917" y="21195"/>
                  </a:lnTo>
                  <a:lnTo>
                    <a:pt x="19917" y="21600"/>
                  </a:lnTo>
                  <a:lnTo>
                    <a:pt x="20197" y="21600"/>
                  </a:lnTo>
                  <a:lnTo>
                    <a:pt x="20478" y="21600"/>
                  </a:lnTo>
                  <a:lnTo>
                    <a:pt x="20758" y="21600"/>
                  </a:lnTo>
                  <a:lnTo>
                    <a:pt x="21039" y="21195"/>
                  </a:lnTo>
                  <a:lnTo>
                    <a:pt x="21319" y="20790"/>
                  </a:lnTo>
                  <a:lnTo>
                    <a:pt x="21319" y="20385"/>
                  </a:lnTo>
                  <a:lnTo>
                    <a:pt x="21600" y="19980"/>
                  </a:lnTo>
                  <a:lnTo>
                    <a:pt x="21319" y="19575"/>
                  </a:lnTo>
                  <a:lnTo>
                    <a:pt x="21319" y="19170"/>
                  </a:lnTo>
                  <a:lnTo>
                    <a:pt x="21039" y="18765"/>
                  </a:lnTo>
                  <a:lnTo>
                    <a:pt x="18701" y="16605"/>
                  </a:lnTo>
                  <a:lnTo>
                    <a:pt x="16457" y="14175"/>
                  </a:lnTo>
                  <a:lnTo>
                    <a:pt x="14119" y="12015"/>
                  </a:lnTo>
                  <a:lnTo>
                    <a:pt x="11782" y="9585"/>
                  </a:lnTo>
                  <a:lnTo>
                    <a:pt x="9538" y="7425"/>
                  </a:lnTo>
                  <a:lnTo>
                    <a:pt x="7200" y="5400"/>
                  </a:lnTo>
                  <a:lnTo>
                    <a:pt x="4956" y="2970"/>
                  </a:lnTo>
                  <a:lnTo>
                    <a:pt x="2618" y="810"/>
                  </a:lnTo>
                  <a:lnTo>
                    <a:pt x="2338" y="405"/>
                  </a:lnTo>
                  <a:lnTo>
                    <a:pt x="2057" y="405"/>
                  </a:lnTo>
                  <a:lnTo>
                    <a:pt x="1777" y="0"/>
                  </a:lnTo>
                  <a:lnTo>
                    <a:pt x="1496" y="0"/>
                  </a:lnTo>
                  <a:lnTo>
                    <a:pt x="1216" y="0"/>
                  </a:lnTo>
                  <a:lnTo>
                    <a:pt x="935" y="0"/>
                  </a:lnTo>
                  <a:lnTo>
                    <a:pt x="561" y="0"/>
                  </a:lnTo>
                  <a:lnTo>
                    <a:pt x="281" y="0"/>
                  </a:lnTo>
                  <a:lnTo>
                    <a:pt x="281" y="405"/>
                  </a:lnTo>
                  <a:lnTo>
                    <a:pt x="0" y="405"/>
                  </a:lnTo>
                  <a:lnTo>
                    <a:pt x="0" y="810"/>
                  </a:lnTo>
                  <a:lnTo>
                    <a:pt x="0" y="1215"/>
                  </a:lnTo>
                  <a:lnTo>
                    <a:pt x="281" y="1620"/>
                  </a:lnTo>
                  <a:lnTo>
                    <a:pt x="561" y="1620"/>
                  </a:lnTo>
                  <a:close/>
                  <a:moveTo>
                    <a:pt x="561" y="162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Freeform 55"/>
            <p:cNvSpPr/>
            <p:nvPr/>
          </p:nvSpPr>
          <p:spPr>
            <a:xfrm>
              <a:off x="4618080" y="1255680"/>
              <a:ext cx="13680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586" y="913"/>
                  </a:moveTo>
                  <a:lnTo>
                    <a:pt x="16326" y="3042"/>
                  </a:lnTo>
                  <a:lnTo>
                    <a:pt x="14819" y="4868"/>
                  </a:lnTo>
                  <a:lnTo>
                    <a:pt x="12307" y="6693"/>
                  </a:lnTo>
                  <a:lnTo>
                    <a:pt x="10800" y="8518"/>
                  </a:lnTo>
                  <a:lnTo>
                    <a:pt x="8540" y="10344"/>
                  </a:lnTo>
                  <a:lnTo>
                    <a:pt x="6279" y="11256"/>
                  </a:lnTo>
                  <a:lnTo>
                    <a:pt x="4019" y="13082"/>
                  </a:lnTo>
                  <a:lnTo>
                    <a:pt x="1507" y="14299"/>
                  </a:lnTo>
                  <a:lnTo>
                    <a:pt x="1507" y="15211"/>
                  </a:lnTo>
                  <a:lnTo>
                    <a:pt x="753" y="16124"/>
                  </a:lnTo>
                  <a:lnTo>
                    <a:pt x="0" y="17037"/>
                  </a:lnTo>
                  <a:lnTo>
                    <a:pt x="0" y="17949"/>
                  </a:lnTo>
                  <a:lnTo>
                    <a:pt x="0" y="18862"/>
                  </a:lnTo>
                  <a:lnTo>
                    <a:pt x="753" y="18862"/>
                  </a:lnTo>
                  <a:lnTo>
                    <a:pt x="753" y="19775"/>
                  </a:lnTo>
                  <a:lnTo>
                    <a:pt x="753" y="20687"/>
                  </a:lnTo>
                  <a:lnTo>
                    <a:pt x="1507" y="21600"/>
                  </a:lnTo>
                  <a:lnTo>
                    <a:pt x="2260" y="21600"/>
                  </a:lnTo>
                  <a:lnTo>
                    <a:pt x="3014" y="21600"/>
                  </a:lnTo>
                  <a:lnTo>
                    <a:pt x="4019" y="21600"/>
                  </a:lnTo>
                  <a:lnTo>
                    <a:pt x="4772" y="21600"/>
                  </a:lnTo>
                  <a:lnTo>
                    <a:pt x="5526" y="21600"/>
                  </a:lnTo>
                  <a:lnTo>
                    <a:pt x="7786" y="19775"/>
                  </a:lnTo>
                  <a:lnTo>
                    <a:pt x="10047" y="17949"/>
                  </a:lnTo>
                  <a:lnTo>
                    <a:pt x="11553" y="16124"/>
                  </a:lnTo>
                  <a:lnTo>
                    <a:pt x="14065" y="13082"/>
                  </a:lnTo>
                  <a:lnTo>
                    <a:pt x="16326" y="11256"/>
                  </a:lnTo>
                  <a:lnTo>
                    <a:pt x="17833" y="8518"/>
                  </a:lnTo>
                  <a:lnTo>
                    <a:pt x="19340" y="6693"/>
                  </a:lnTo>
                  <a:lnTo>
                    <a:pt x="20847" y="3042"/>
                  </a:lnTo>
                  <a:lnTo>
                    <a:pt x="21600" y="2130"/>
                  </a:lnTo>
                  <a:lnTo>
                    <a:pt x="20847" y="2130"/>
                  </a:lnTo>
                  <a:lnTo>
                    <a:pt x="20847" y="913"/>
                  </a:lnTo>
                  <a:lnTo>
                    <a:pt x="20093" y="0"/>
                  </a:lnTo>
                  <a:lnTo>
                    <a:pt x="19340" y="0"/>
                  </a:lnTo>
                  <a:lnTo>
                    <a:pt x="18586" y="0"/>
                  </a:lnTo>
                  <a:lnTo>
                    <a:pt x="18586" y="913"/>
                  </a:lnTo>
                  <a:close/>
                  <a:moveTo>
                    <a:pt x="18586" y="91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Freeform 56"/>
            <p:cNvSpPr/>
            <p:nvPr/>
          </p:nvSpPr>
          <p:spPr>
            <a:xfrm>
              <a:off x="3816360" y="1305000"/>
              <a:ext cx="54000" cy="44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47" y="463"/>
                  </a:moveTo>
                  <a:lnTo>
                    <a:pt x="1906" y="2854"/>
                  </a:lnTo>
                  <a:lnTo>
                    <a:pt x="0" y="5477"/>
                  </a:lnTo>
                  <a:lnTo>
                    <a:pt x="0" y="7869"/>
                  </a:lnTo>
                  <a:lnTo>
                    <a:pt x="0" y="10491"/>
                  </a:lnTo>
                  <a:lnTo>
                    <a:pt x="1906" y="12806"/>
                  </a:lnTo>
                  <a:lnTo>
                    <a:pt x="1906" y="15429"/>
                  </a:lnTo>
                  <a:lnTo>
                    <a:pt x="4447" y="18051"/>
                  </a:lnTo>
                  <a:lnTo>
                    <a:pt x="4447" y="20443"/>
                  </a:lnTo>
                  <a:lnTo>
                    <a:pt x="4447" y="20674"/>
                  </a:lnTo>
                  <a:lnTo>
                    <a:pt x="6353" y="20906"/>
                  </a:lnTo>
                  <a:lnTo>
                    <a:pt x="6353" y="21137"/>
                  </a:lnTo>
                  <a:lnTo>
                    <a:pt x="8259" y="21369"/>
                  </a:lnTo>
                  <a:lnTo>
                    <a:pt x="10165" y="21369"/>
                  </a:lnTo>
                  <a:lnTo>
                    <a:pt x="12071" y="21600"/>
                  </a:lnTo>
                  <a:lnTo>
                    <a:pt x="13976" y="21600"/>
                  </a:lnTo>
                  <a:lnTo>
                    <a:pt x="15882" y="21600"/>
                  </a:lnTo>
                  <a:lnTo>
                    <a:pt x="17788" y="21369"/>
                  </a:lnTo>
                  <a:lnTo>
                    <a:pt x="19694" y="21369"/>
                  </a:lnTo>
                  <a:lnTo>
                    <a:pt x="19694" y="21137"/>
                  </a:lnTo>
                  <a:lnTo>
                    <a:pt x="21600" y="20906"/>
                  </a:lnTo>
                  <a:lnTo>
                    <a:pt x="21600" y="20674"/>
                  </a:lnTo>
                  <a:lnTo>
                    <a:pt x="21600" y="20443"/>
                  </a:lnTo>
                  <a:lnTo>
                    <a:pt x="21600" y="17820"/>
                  </a:lnTo>
                  <a:lnTo>
                    <a:pt x="19694" y="15429"/>
                  </a:lnTo>
                  <a:lnTo>
                    <a:pt x="17788" y="13037"/>
                  </a:lnTo>
                  <a:lnTo>
                    <a:pt x="17788" y="10491"/>
                  </a:lnTo>
                  <a:lnTo>
                    <a:pt x="15882" y="8100"/>
                  </a:lnTo>
                  <a:lnTo>
                    <a:pt x="13976" y="5709"/>
                  </a:lnTo>
                  <a:lnTo>
                    <a:pt x="13976" y="3086"/>
                  </a:lnTo>
                  <a:lnTo>
                    <a:pt x="13976" y="694"/>
                  </a:lnTo>
                  <a:lnTo>
                    <a:pt x="13976" y="463"/>
                  </a:lnTo>
                  <a:lnTo>
                    <a:pt x="12071" y="231"/>
                  </a:lnTo>
                  <a:lnTo>
                    <a:pt x="12071" y="0"/>
                  </a:lnTo>
                  <a:lnTo>
                    <a:pt x="10165" y="0"/>
                  </a:lnTo>
                  <a:lnTo>
                    <a:pt x="8259" y="0"/>
                  </a:lnTo>
                  <a:lnTo>
                    <a:pt x="6353" y="0"/>
                  </a:lnTo>
                  <a:lnTo>
                    <a:pt x="6353" y="231"/>
                  </a:lnTo>
                  <a:lnTo>
                    <a:pt x="4447" y="463"/>
                  </a:lnTo>
                  <a:close/>
                  <a:moveTo>
                    <a:pt x="4447" y="46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0" name="Freeform 57"/>
            <p:cNvSpPr/>
            <p:nvPr/>
          </p:nvSpPr>
          <p:spPr>
            <a:xfrm>
              <a:off x="3868920" y="1754280"/>
              <a:ext cx="7095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" y="9341"/>
                  </a:moveTo>
                  <a:lnTo>
                    <a:pt x="1937" y="11092"/>
                  </a:lnTo>
                  <a:lnTo>
                    <a:pt x="3584" y="14595"/>
                  </a:lnTo>
                  <a:lnTo>
                    <a:pt x="5376" y="16346"/>
                  </a:lnTo>
                  <a:lnTo>
                    <a:pt x="7022" y="16346"/>
                  </a:lnTo>
                  <a:lnTo>
                    <a:pt x="8814" y="18097"/>
                  </a:lnTo>
                  <a:lnTo>
                    <a:pt x="10606" y="18097"/>
                  </a:lnTo>
                  <a:lnTo>
                    <a:pt x="12253" y="19849"/>
                  </a:lnTo>
                  <a:lnTo>
                    <a:pt x="14045" y="19849"/>
                  </a:lnTo>
                  <a:lnTo>
                    <a:pt x="14917" y="19849"/>
                  </a:lnTo>
                  <a:lnTo>
                    <a:pt x="15788" y="21600"/>
                  </a:lnTo>
                  <a:lnTo>
                    <a:pt x="16709" y="21600"/>
                  </a:lnTo>
                  <a:lnTo>
                    <a:pt x="17580" y="21600"/>
                  </a:lnTo>
                  <a:lnTo>
                    <a:pt x="18500" y="21600"/>
                  </a:lnTo>
                  <a:lnTo>
                    <a:pt x="19372" y="21600"/>
                  </a:lnTo>
                  <a:lnTo>
                    <a:pt x="20292" y="19849"/>
                  </a:lnTo>
                  <a:lnTo>
                    <a:pt x="21019" y="16346"/>
                  </a:lnTo>
                  <a:lnTo>
                    <a:pt x="21164" y="16346"/>
                  </a:lnTo>
                  <a:lnTo>
                    <a:pt x="21309" y="16346"/>
                  </a:lnTo>
                  <a:lnTo>
                    <a:pt x="21455" y="14595"/>
                  </a:lnTo>
                  <a:lnTo>
                    <a:pt x="21600" y="12843"/>
                  </a:lnTo>
                  <a:lnTo>
                    <a:pt x="21600" y="11092"/>
                  </a:lnTo>
                  <a:lnTo>
                    <a:pt x="21600" y="9341"/>
                  </a:lnTo>
                  <a:lnTo>
                    <a:pt x="21600" y="7589"/>
                  </a:lnTo>
                  <a:lnTo>
                    <a:pt x="21455" y="5254"/>
                  </a:lnTo>
                  <a:lnTo>
                    <a:pt x="21455" y="3503"/>
                  </a:lnTo>
                  <a:lnTo>
                    <a:pt x="21309" y="3503"/>
                  </a:lnTo>
                  <a:lnTo>
                    <a:pt x="21164" y="1751"/>
                  </a:lnTo>
                  <a:lnTo>
                    <a:pt x="21019" y="1751"/>
                  </a:lnTo>
                  <a:lnTo>
                    <a:pt x="20874" y="1751"/>
                  </a:lnTo>
                  <a:lnTo>
                    <a:pt x="18355" y="3503"/>
                  </a:lnTo>
                  <a:lnTo>
                    <a:pt x="15788" y="3503"/>
                  </a:lnTo>
                  <a:lnTo>
                    <a:pt x="13125" y="3503"/>
                  </a:lnTo>
                  <a:lnTo>
                    <a:pt x="10606" y="3503"/>
                  </a:lnTo>
                  <a:lnTo>
                    <a:pt x="8039" y="1751"/>
                  </a:lnTo>
                  <a:lnTo>
                    <a:pt x="5521" y="0"/>
                  </a:lnTo>
                  <a:lnTo>
                    <a:pt x="2857" y="0"/>
                  </a:lnTo>
                  <a:lnTo>
                    <a:pt x="291" y="0"/>
                  </a:lnTo>
                  <a:lnTo>
                    <a:pt x="145" y="0"/>
                  </a:lnTo>
                  <a:lnTo>
                    <a:pt x="145" y="1751"/>
                  </a:lnTo>
                  <a:lnTo>
                    <a:pt x="0" y="1751"/>
                  </a:lnTo>
                  <a:lnTo>
                    <a:pt x="0" y="3503"/>
                  </a:lnTo>
                  <a:lnTo>
                    <a:pt x="0" y="5254"/>
                  </a:lnTo>
                  <a:lnTo>
                    <a:pt x="0" y="7589"/>
                  </a:lnTo>
                  <a:lnTo>
                    <a:pt x="145" y="7589"/>
                  </a:lnTo>
                  <a:lnTo>
                    <a:pt x="145" y="9341"/>
                  </a:lnTo>
                  <a:close/>
                  <a:moveTo>
                    <a:pt x="145" y="934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Freeform 58"/>
            <p:cNvSpPr/>
            <p:nvPr/>
          </p:nvSpPr>
          <p:spPr>
            <a:xfrm>
              <a:off x="4554720" y="1353960"/>
              <a:ext cx="68400" cy="40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08"/>
                  </a:moveTo>
                  <a:lnTo>
                    <a:pt x="0" y="2880"/>
                  </a:lnTo>
                  <a:lnTo>
                    <a:pt x="0" y="5506"/>
                  </a:lnTo>
                  <a:lnTo>
                    <a:pt x="1507" y="7793"/>
                  </a:lnTo>
                  <a:lnTo>
                    <a:pt x="3014" y="10419"/>
                  </a:lnTo>
                  <a:lnTo>
                    <a:pt x="4521" y="12791"/>
                  </a:lnTo>
                  <a:lnTo>
                    <a:pt x="4521" y="15332"/>
                  </a:lnTo>
                  <a:lnTo>
                    <a:pt x="6028" y="17704"/>
                  </a:lnTo>
                  <a:lnTo>
                    <a:pt x="6028" y="20329"/>
                  </a:lnTo>
                  <a:lnTo>
                    <a:pt x="6028" y="20584"/>
                  </a:lnTo>
                  <a:lnTo>
                    <a:pt x="7535" y="20838"/>
                  </a:lnTo>
                  <a:lnTo>
                    <a:pt x="7535" y="21092"/>
                  </a:lnTo>
                  <a:lnTo>
                    <a:pt x="9544" y="21092"/>
                  </a:lnTo>
                  <a:lnTo>
                    <a:pt x="9544" y="21346"/>
                  </a:lnTo>
                  <a:lnTo>
                    <a:pt x="11051" y="21346"/>
                  </a:lnTo>
                  <a:lnTo>
                    <a:pt x="12558" y="21346"/>
                  </a:lnTo>
                  <a:lnTo>
                    <a:pt x="14065" y="21600"/>
                  </a:lnTo>
                  <a:lnTo>
                    <a:pt x="15572" y="21346"/>
                  </a:lnTo>
                  <a:lnTo>
                    <a:pt x="17079" y="21346"/>
                  </a:lnTo>
                  <a:lnTo>
                    <a:pt x="18586" y="21346"/>
                  </a:lnTo>
                  <a:lnTo>
                    <a:pt x="20093" y="21092"/>
                  </a:lnTo>
                  <a:lnTo>
                    <a:pt x="20093" y="20838"/>
                  </a:lnTo>
                  <a:lnTo>
                    <a:pt x="20093" y="20584"/>
                  </a:lnTo>
                  <a:lnTo>
                    <a:pt x="21600" y="20329"/>
                  </a:lnTo>
                  <a:lnTo>
                    <a:pt x="21600" y="20075"/>
                  </a:lnTo>
                  <a:lnTo>
                    <a:pt x="20093" y="17704"/>
                  </a:lnTo>
                  <a:lnTo>
                    <a:pt x="18586" y="15078"/>
                  </a:lnTo>
                  <a:lnTo>
                    <a:pt x="17079" y="12791"/>
                  </a:lnTo>
                  <a:lnTo>
                    <a:pt x="15572" y="10419"/>
                  </a:lnTo>
                  <a:lnTo>
                    <a:pt x="14065" y="7793"/>
                  </a:lnTo>
                  <a:lnTo>
                    <a:pt x="12558" y="5506"/>
                  </a:lnTo>
                  <a:lnTo>
                    <a:pt x="9544" y="2880"/>
                  </a:lnTo>
                  <a:lnTo>
                    <a:pt x="6028" y="508"/>
                  </a:lnTo>
                  <a:lnTo>
                    <a:pt x="6028" y="254"/>
                  </a:lnTo>
                  <a:lnTo>
                    <a:pt x="6028" y="0"/>
                  </a:lnTo>
                  <a:lnTo>
                    <a:pt x="4521" y="0"/>
                  </a:lnTo>
                  <a:lnTo>
                    <a:pt x="3014" y="0"/>
                  </a:lnTo>
                  <a:lnTo>
                    <a:pt x="1507" y="0"/>
                  </a:lnTo>
                  <a:lnTo>
                    <a:pt x="1507" y="254"/>
                  </a:lnTo>
                  <a:lnTo>
                    <a:pt x="0" y="254"/>
                  </a:lnTo>
                  <a:lnTo>
                    <a:pt x="0" y="508"/>
                  </a:lnTo>
                  <a:close/>
                  <a:moveTo>
                    <a:pt x="0" y="50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Freeform 59"/>
            <p:cNvSpPr/>
            <p:nvPr/>
          </p:nvSpPr>
          <p:spPr>
            <a:xfrm>
              <a:off x="4037040" y="1358640"/>
              <a:ext cx="44640" cy="38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943" y="533"/>
                  </a:moveTo>
                  <a:lnTo>
                    <a:pt x="6943" y="3022"/>
                  </a:lnTo>
                  <a:lnTo>
                    <a:pt x="4629" y="5511"/>
                  </a:lnTo>
                  <a:lnTo>
                    <a:pt x="4629" y="8178"/>
                  </a:lnTo>
                  <a:lnTo>
                    <a:pt x="2314" y="10667"/>
                  </a:lnTo>
                  <a:lnTo>
                    <a:pt x="0" y="13156"/>
                  </a:lnTo>
                  <a:lnTo>
                    <a:pt x="0" y="15556"/>
                  </a:lnTo>
                  <a:lnTo>
                    <a:pt x="0" y="18044"/>
                  </a:lnTo>
                  <a:lnTo>
                    <a:pt x="2314" y="20533"/>
                  </a:lnTo>
                  <a:lnTo>
                    <a:pt x="2314" y="20800"/>
                  </a:lnTo>
                  <a:lnTo>
                    <a:pt x="2314" y="21067"/>
                  </a:lnTo>
                  <a:lnTo>
                    <a:pt x="4629" y="21333"/>
                  </a:lnTo>
                  <a:lnTo>
                    <a:pt x="6943" y="21333"/>
                  </a:lnTo>
                  <a:lnTo>
                    <a:pt x="6943" y="21600"/>
                  </a:lnTo>
                  <a:lnTo>
                    <a:pt x="9257" y="21600"/>
                  </a:lnTo>
                  <a:lnTo>
                    <a:pt x="11571" y="21600"/>
                  </a:lnTo>
                  <a:lnTo>
                    <a:pt x="13886" y="21600"/>
                  </a:lnTo>
                  <a:lnTo>
                    <a:pt x="16200" y="21600"/>
                  </a:lnTo>
                  <a:lnTo>
                    <a:pt x="16200" y="21333"/>
                  </a:lnTo>
                  <a:lnTo>
                    <a:pt x="18514" y="21333"/>
                  </a:lnTo>
                  <a:lnTo>
                    <a:pt x="21600" y="21067"/>
                  </a:lnTo>
                  <a:lnTo>
                    <a:pt x="21600" y="20800"/>
                  </a:lnTo>
                  <a:lnTo>
                    <a:pt x="21600" y="20533"/>
                  </a:lnTo>
                  <a:lnTo>
                    <a:pt x="21600" y="18044"/>
                  </a:lnTo>
                  <a:lnTo>
                    <a:pt x="18514" y="15556"/>
                  </a:lnTo>
                  <a:lnTo>
                    <a:pt x="18514" y="12889"/>
                  </a:lnTo>
                  <a:lnTo>
                    <a:pt x="18514" y="10400"/>
                  </a:lnTo>
                  <a:lnTo>
                    <a:pt x="21600" y="7911"/>
                  </a:lnTo>
                  <a:lnTo>
                    <a:pt x="18514" y="5511"/>
                  </a:lnTo>
                  <a:lnTo>
                    <a:pt x="18514" y="3022"/>
                  </a:lnTo>
                  <a:lnTo>
                    <a:pt x="16200" y="533"/>
                  </a:lnTo>
                  <a:lnTo>
                    <a:pt x="16200" y="267"/>
                  </a:lnTo>
                  <a:lnTo>
                    <a:pt x="13886" y="0"/>
                  </a:lnTo>
                  <a:lnTo>
                    <a:pt x="11571" y="0"/>
                  </a:lnTo>
                  <a:lnTo>
                    <a:pt x="9257" y="0"/>
                  </a:lnTo>
                  <a:lnTo>
                    <a:pt x="9257" y="267"/>
                  </a:lnTo>
                  <a:lnTo>
                    <a:pt x="6943" y="267"/>
                  </a:lnTo>
                  <a:lnTo>
                    <a:pt x="6943" y="533"/>
                  </a:lnTo>
                  <a:close/>
                  <a:moveTo>
                    <a:pt x="6943" y="53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3" name="Freeform 60"/>
            <p:cNvSpPr/>
            <p:nvPr/>
          </p:nvSpPr>
          <p:spPr>
            <a:xfrm>
              <a:off x="4086360" y="1330200"/>
              <a:ext cx="233280" cy="3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82" y="16200"/>
                  </a:moveTo>
                  <a:lnTo>
                    <a:pt x="3086" y="18900"/>
                  </a:lnTo>
                  <a:lnTo>
                    <a:pt x="5437" y="18900"/>
                  </a:lnTo>
                  <a:lnTo>
                    <a:pt x="8082" y="21600"/>
                  </a:lnTo>
                  <a:lnTo>
                    <a:pt x="10286" y="21600"/>
                  </a:lnTo>
                  <a:lnTo>
                    <a:pt x="12637" y="21600"/>
                  </a:lnTo>
                  <a:lnTo>
                    <a:pt x="15282" y="21600"/>
                  </a:lnTo>
                  <a:lnTo>
                    <a:pt x="17633" y="21600"/>
                  </a:lnTo>
                  <a:lnTo>
                    <a:pt x="19837" y="21600"/>
                  </a:lnTo>
                  <a:lnTo>
                    <a:pt x="20278" y="21600"/>
                  </a:lnTo>
                  <a:lnTo>
                    <a:pt x="20718" y="21600"/>
                  </a:lnTo>
                  <a:lnTo>
                    <a:pt x="20718" y="18900"/>
                  </a:lnTo>
                  <a:lnTo>
                    <a:pt x="21159" y="18900"/>
                  </a:lnTo>
                  <a:lnTo>
                    <a:pt x="21159" y="16200"/>
                  </a:lnTo>
                  <a:lnTo>
                    <a:pt x="21600" y="13500"/>
                  </a:lnTo>
                  <a:lnTo>
                    <a:pt x="21600" y="10800"/>
                  </a:lnTo>
                  <a:lnTo>
                    <a:pt x="21600" y="8100"/>
                  </a:lnTo>
                  <a:lnTo>
                    <a:pt x="21159" y="5400"/>
                  </a:lnTo>
                  <a:lnTo>
                    <a:pt x="21159" y="2700"/>
                  </a:lnTo>
                  <a:lnTo>
                    <a:pt x="20718" y="2700"/>
                  </a:lnTo>
                  <a:lnTo>
                    <a:pt x="20278" y="0"/>
                  </a:lnTo>
                  <a:lnTo>
                    <a:pt x="19837" y="0"/>
                  </a:lnTo>
                  <a:lnTo>
                    <a:pt x="17633" y="2700"/>
                  </a:lnTo>
                  <a:lnTo>
                    <a:pt x="15282" y="2700"/>
                  </a:lnTo>
                  <a:lnTo>
                    <a:pt x="12637" y="2700"/>
                  </a:lnTo>
                  <a:lnTo>
                    <a:pt x="10286" y="2700"/>
                  </a:lnTo>
                  <a:lnTo>
                    <a:pt x="8082" y="2700"/>
                  </a:lnTo>
                  <a:lnTo>
                    <a:pt x="5878" y="2700"/>
                  </a:lnTo>
                  <a:lnTo>
                    <a:pt x="3086" y="2700"/>
                  </a:lnTo>
                  <a:lnTo>
                    <a:pt x="882" y="2700"/>
                  </a:lnTo>
                  <a:lnTo>
                    <a:pt x="441" y="2700"/>
                  </a:lnTo>
                  <a:lnTo>
                    <a:pt x="441" y="5400"/>
                  </a:lnTo>
                  <a:lnTo>
                    <a:pt x="0" y="5400"/>
                  </a:lnTo>
                  <a:lnTo>
                    <a:pt x="0" y="8100"/>
                  </a:lnTo>
                  <a:lnTo>
                    <a:pt x="0" y="10800"/>
                  </a:lnTo>
                  <a:lnTo>
                    <a:pt x="0" y="13500"/>
                  </a:lnTo>
                  <a:lnTo>
                    <a:pt x="0" y="16200"/>
                  </a:lnTo>
                  <a:lnTo>
                    <a:pt x="441" y="16200"/>
                  </a:lnTo>
                  <a:lnTo>
                    <a:pt x="882" y="16200"/>
                  </a:lnTo>
                  <a:close/>
                  <a:moveTo>
                    <a:pt x="882" y="162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Freeform 61"/>
            <p:cNvSpPr/>
            <p:nvPr/>
          </p:nvSpPr>
          <p:spPr>
            <a:xfrm>
              <a:off x="4319640" y="1349280"/>
              <a:ext cx="68400" cy="43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023" y="478"/>
                  </a:moveTo>
                  <a:lnTo>
                    <a:pt x="1507" y="2949"/>
                  </a:lnTo>
                  <a:lnTo>
                    <a:pt x="0" y="5420"/>
                  </a:lnTo>
                  <a:lnTo>
                    <a:pt x="0" y="8050"/>
                  </a:lnTo>
                  <a:lnTo>
                    <a:pt x="1507" y="10521"/>
                  </a:lnTo>
                  <a:lnTo>
                    <a:pt x="3516" y="12992"/>
                  </a:lnTo>
                  <a:lnTo>
                    <a:pt x="5023" y="15463"/>
                  </a:lnTo>
                  <a:lnTo>
                    <a:pt x="6530" y="17854"/>
                  </a:lnTo>
                  <a:lnTo>
                    <a:pt x="6530" y="20564"/>
                  </a:lnTo>
                  <a:lnTo>
                    <a:pt x="8037" y="20803"/>
                  </a:lnTo>
                  <a:lnTo>
                    <a:pt x="8037" y="21042"/>
                  </a:lnTo>
                  <a:lnTo>
                    <a:pt x="9544" y="21042"/>
                  </a:lnTo>
                  <a:lnTo>
                    <a:pt x="9544" y="21361"/>
                  </a:lnTo>
                  <a:lnTo>
                    <a:pt x="11051" y="21600"/>
                  </a:lnTo>
                  <a:lnTo>
                    <a:pt x="12558" y="21600"/>
                  </a:lnTo>
                  <a:lnTo>
                    <a:pt x="14065" y="21600"/>
                  </a:lnTo>
                  <a:lnTo>
                    <a:pt x="15572" y="21600"/>
                  </a:lnTo>
                  <a:lnTo>
                    <a:pt x="17079" y="21600"/>
                  </a:lnTo>
                  <a:lnTo>
                    <a:pt x="18586" y="21361"/>
                  </a:lnTo>
                  <a:lnTo>
                    <a:pt x="20093" y="21361"/>
                  </a:lnTo>
                  <a:lnTo>
                    <a:pt x="20093" y="21042"/>
                  </a:lnTo>
                  <a:lnTo>
                    <a:pt x="21600" y="20803"/>
                  </a:lnTo>
                  <a:lnTo>
                    <a:pt x="21600" y="20564"/>
                  </a:lnTo>
                  <a:lnTo>
                    <a:pt x="21600" y="20086"/>
                  </a:lnTo>
                  <a:lnTo>
                    <a:pt x="21600" y="17615"/>
                  </a:lnTo>
                  <a:lnTo>
                    <a:pt x="20093" y="15463"/>
                  </a:lnTo>
                  <a:lnTo>
                    <a:pt x="18586" y="12992"/>
                  </a:lnTo>
                  <a:lnTo>
                    <a:pt x="15572" y="10521"/>
                  </a:lnTo>
                  <a:lnTo>
                    <a:pt x="14065" y="8050"/>
                  </a:lnTo>
                  <a:lnTo>
                    <a:pt x="12558" y="5659"/>
                  </a:lnTo>
                  <a:lnTo>
                    <a:pt x="12558" y="3188"/>
                  </a:lnTo>
                  <a:lnTo>
                    <a:pt x="12558" y="717"/>
                  </a:lnTo>
                  <a:lnTo>
                    <a:pt x="12558" y="478"/>
                  </a:lnTo>
                  <a:lnTo>
                    <a:pt x="11051" y="239"/>
                  </a:lnTo>
                  <a:lnTo>
                    <a:pt x="9544" y="0"/>
                  </a:lnTo>
                  <a:lnTo>
                    <a:pt x="8037" y="0"/>
                  </a:lnTo>
                  <a:lnTo>
                    <a:pt x="8037" y="239"/>
                  </a:lnTo>
                  <a:lnTo>
                    <a:pt x="6530" y="239"/>
                  </a:lnTo>
                  <a:lnTo>
                    <a:pt x="6530" y="478"/>
                  </a:lnTo>
                  <a:lnTo>
                    <a:pt x="5023" y="478"/>
                  </a:lnTo>
                  <a:close/>
                  <a:moveTo>
                    <a:pt x="5023" y="47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Freeform 62"/>
            <p:cNvSpPr/>
            <p:nvPr/>
          </p:nvSpPr>
          <p:spPr>
            <a:xfrm>
              <a:off x="4192920" y="1509480"/>
              <a:ext cx="117360" cy="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24" y="0"/>
                  </a:moveTo>
                  <a:lnTo>
                    <a:pt x="9049" y="0"/>
                  </a:lnTo>
                  <a:lnTo>
                    <a:pt x="8173" y="0"/>
                  </a:lnTo>
                  <a:lnTo>
                    <a:pt x="7297" y="0"/>
                  </a:lnTo>
                  <a:lnTo>
                    <a:pt x="6422" y="0"/>
                  </a:lnTo>
                  <a:lnTo>
                    <a:pt x="7297" y="0"/>
                  </a:lnTo>
                  <a:lnTo>
                    <a:pt x="6422" y="0"/>
                  </a:lnTo>
                  <a:lnTo>
                    <a:pt x="5546" y="0"/>
                  </a:lnTo>
                  <a:lnTo>
                    <a:pt x="5546" y="1045"/>
                  </a:lnTo>
                  <a:lnTo>
                    <a:pt x="4670" y="1045"/>
                  </a:lnTo>
                  <a:lnTo>
                    <a:pt x="4670" y="2439"/>
                  </a:lnTo>
                  <a:lnTo>
                    <a:pt x="3795" y="2439"/>
                  </a:lnTo>
                  <a:lnTo>
                    <a:pt x="2919" y="3484"/>
                  </a:lnTo>
                  <a:lnTo>
                    <a:pt x="2043" y="3484"/>
                  </a:lnTo>
                  <a:lnTo>
                    <a:pt x="2043" y="4529"/>
                  </a:lnTo>
                  <a:lnTo>
                    <a:pt x="876" y="4529"/>
                  </a:lnTo>
                  <a:lnTo>
                    <a:pt x="876" y="5574"/>
                  </a:lnTo>
                  <a:lnTo>
                    <a:pt x="876" y="7665"/>
                  </a:lnTo>
                  <a:lnTo>
                    <a:pt x="0" y="10800"/>
                  </a:lnTo>
                  <a:lnTo>
                    <a:pt x="0" y="12890"/>
                  </a:lnTo>
                  <a:lnTo>
                    <a:pt x="876" y="14981"/>
                  </a:lnTo>
                  <a:lnTo>
                    <a:pt x="2043" y="17419"/>
                  </a:lnTo>
                  <a:lnTo>
                    <a:pt x="3795" y="19510"/>
                  </a:lnTo>
                  <a:lnTo>
                    <a:pt x="5546" y="20555"/>
                  </a:lnTo>
                  <a:lnTo>
                    <a:pt x="7297" y="21600"/>
                  </a:lnTo>
                  <a:lnTo>
                    <a:pt x="9924" y="21600"/>
                  </a:lnTo>
                  <a:lnTo>
                    <a:pt x="11676" y="21600"/>
                  </a:lnTo>
                  <a:lnTo>
                    <a:pt x="13719" y="21600"/>
                  </a:lnTo>
                  <a:lnTo>
                    <a:pt x="14595" y="20555"/>
                  </a:lnTo>
                  <a:lnTo>
                    <a:pt x="16346" y="20555"/>
                  </a:lnTo>
                  <a:lnTo>
                    <a:pt x="18097" y="19510"/>
                  </a:lnTo>
                  <a:lnTo>
                    <a:pt x="18973" y="18465"/>
                  </a:lnTo>
                  <a:lnTo>
                    <a:pt x="19849" y="16374"/>
                  </a:lnTo>
                  <a:lnTo>
                    <a:pt x="20724" y="14981"/>
                  </a:lnTo>
                  <a:lnTo>
                    <a:pt x="21600" y="12890"/>
                  </a:lnTo>
                  <a:lnTo>
                    <a:pt x="21600" y="11845"/>
                  </a:lnTo>
                  <a:lnTo>
                    <a:pt x="21600" y="10800"/>
                  </a:lnTo>
                  <a:lnTo>
                    <a:pt x="21600" y="8710"/>
                  </a:lnTo>
                  <a:lnTo>
                    <a:pt x="21600" y="7665"/>
                  </a:lnTo>
                  <a:lnTo>
                    <a:pt x="20724" y="5574"/>
                  </a:lnTo>
                  <a:lnTo>
                    <a:pt x="19849" y="4529"/>
                  </a:lnTo>
                  <a:lnTo>
                    <a:pt x="18097" y="2439"/>
                  </a:lnTo>
                  <a:lnTo>
                    <a:pt x="17222" y="2439"/>
                  </a:lnTo>
                  <a:lnTo>
                    <a:pt x="17222" y="1045"/>
                  </a:lnTo>
                  <a:lnTo>
                    <a:pt x="16346" y="1045"/>
                  </a:lnTo>
                  <a:lnTo>
                    <a:pt x="15470" y="1045"/>
                  </a:lnTo>
                  <a:lnTo>
                    <a:pt x="15470" y="2439"/>
                  </a:lnTo>
                  <a:lnTo>
                    <a:pt x="14595" y="2439"/>
                  </a:lnTo>
                  <a:lnTo>
                    <a:pt x="13719" y="3484"/>
                  </a:lnTo>
                  <a:lnTo>
                    <a:pt x="13719" y="4529"/>
                  </a:lnTo>
                  <a:lnTo>
                    <a:pt x="13719" y="5574"/>
                  </a:lnTo>
                  <a:lnTo>
                    <a:pt x="13719" y="6619"/>
                  </a:lnTo>
                  <a:lnTo>
                    <a:pt x="13719" y="7665"/>
                  </a:lnTo>
                  <a:lnTo>
                    <a:pt x="14595" y="7665"/>
                  </a:lnTo>
                  <a:lnTo>
                    <a:pt x="14595" y="8710"/>
                  </a:lnTo>
                  <a:lnTo>
                    <a:pt x="15470" y="8710"/>
                  </a:lnTo>
                  <a:lnTo>
                    <a:pt x="15470" y="9755"/>
                  </a:lnTo>
                  <a:lnTo>
                    <a:pt x="16346" y="9755"/>
                  </a:lnTo>
                  <a:lnTo>
                    <a:pt x="16346" y="10800"/>
                  </a:lnTo>
                  <a:lnTo>
                    <a:pt x="16346" y="11845"/>
                  </a:lnTo>
                  <a:lnTo>
                    <a:pt x="16346" y="12890"/>
                  </a:lnTo>
                  <a:lnTo>
                    <a:pt x="15470" y="13935"/>
                  </a:lnTo>
                  <a:lnTo>
                    <a:pt x="14595" y="13935"/>
                  </a:lnTo>
                  <a:lnTo>
                    <a:pt x="14595" y="14981"/>
                  </a:lnTo>
                  <a:lnTo>
                    <a:pt x="13719" y="14981"/>
                  </a:lnTo>
                  <a:lnTo>
                    <a:pt x="12551" y="14981"/>
                  </a:lnTo>
                  <a:lnTo>
                    <a:pt x="11676" y="14981"/>
                  </a:lnTo>
                  <a:lnTo>
                    <a:pt x="10800" y="16374"/>
                  </a:lnTo>
                  <a:lnTo>
                    <a:pt x="9924" y="16374"/>
                  </a:lnTo>
                  <a:lnTo>
                    <a:pt x="9049" y="14981"/>
                  </a:lnTo>
                  <a:lnTo>
                    <a:pt x="8173" y="14981"/>
                  </a:lnTo>
                  <a:lnTo>
                    <a:pt x="7297" y="13935"/>
                  </a:lnTo>
                  <a:lnTo>
                    <a:pt x="6422" y="11845"/>
                  </a:lnTo>
                  <a:lnTo>
                    <a:pt x="6422" y="7665"/>
                  </a:lnTo>
                  <a:lnTo>
                    <a:pt x="5546" y="8710"/>
                  </a:lnTo>
                  <a:lnTo>
                    <a:pt x="8173" y="6619"/>
                  </a:lnTo>
                  <a:lnTo>
                    <a:pt x="9049" y="5574"/>
                  </a:lnTo>
                  <a:lnTo>
                    <a:pt x="7297" y="6619"/>
                  </a:lnTo>
                  <a:lnTo>
                    <a:pt x="9049" y="6619"/>
                  </a:lnTo>
                  <a:lnTo>
                    <a:pt x="9049" y="5574"/>
                  </a:lnTo>
                  <a:lnTo>
                    <a:pt x="9924" y="5574"/>
                  </a:lnTo>
                  <a:lnTo>
                    <a:pt x="10800" y="5574"/>
                  </a:lnTo>
                  <a:lnTo>
                    <a:pt x="10800" y="4529"/>
                  </a:lnTo>
                  <a:lnTo>
                    <a:pt x="11676" y="4529"/>
                  </a:lnTo>
                  <a:lnTo>
                    <a:pt x="11676" y="3484"/>
                  </a:lnTo>
                  <a:lnTo>
                    <a:pt x="11676" y="2439"/>
                  </a:lnTo>
                  <a:lnTo>
                    <a:pt x="11676" y="1045"/>
                  </a:lnTo>
                  <a:lnTo>
                    <a:pt x="10800" y="1045"/>
                  </a:lnTo>
                  <a:lnTo>
                    <a:pt x="9924" y="0"/>
                  </a:lnTo>
                  <a:close/>
                  <a:moveTo>
                    <a:pt x="9924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Freeform 63"/>
            <p:cNvSpPr/>
            <p:nvPr/>
          </p:nvSpPr>
          <p:spPr>
            <a:xfrm>
              <a:off x="5292720" y="5041800"/>
              <a:ext cx="179712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43" y="7253"/>
                  </a:moveTo>
                  <a:lnTo>
                    <a:pt x="21486" y="6543"/>
                  </a:lnTo>
                  <a:lnTo>
                    <a:pt x="21371" y="6070"/>
                  </a:lnTo>
                  <a:lnTo>
                    <a:pt x="21199" y="5597"/>
                  </a:lnTo>
                  <a:lnTo>
                    <a:pt x="21085" y="5361"/>
                  </a:lnTo>
                  <a:lnTo>
                    <a:pt x="20894" y="5124"/>
                  </a:lnTo>
                  <a:lnTo>
                    <a:pt x="20722" y="4888"/>
                  </a:lnTo>
                  <a:lnTo>
                    <a:pt x="20551" y="5124"/>
                  </a:lnTo>
                  <a:lnTo>
                    <a:pt x="20379" y="5361"/>
                  </a:lnTo>
                  <a:lnTo>
                    <a:pt x="20131" y="5597"/>
                  </a:lnTo>
                  <a:lnTo>
                    <a:pt x="19902" y="6070"/>
                  </a:lnTo>
                  <a:lnTo>
                    <a:pt x="19673" y="6543"/>
                  </a:lnTo>
                  <a:lnTo>
                    <a:pt x="19444" y="7016"/>
                  </a:lnTo>
                  <a:lnTo>
                    <a:pt x="19196" y="7489"/>
                  </a:lnTo>
                  <a:lnTo>
                    <a:pt x="18967" y="7726"/>
                  </a:lnTo>
                  <a:lnTo>
                    <a:pt x="18738" y="8277"/>
                  </a:lnTo>
                  <a:lnTo>
                    <a:pt x="18490" y="8750"/>
                  </a:lnTo>
                  <a:lnTo>
                    <a:pt x="18490" y="8514"/>
                  </a:lnTo>
                  <a:lnTo>
                    <a:pt x="18490" y="8277"/>
                  </a:lnTo>
                  <a:lnTo>
                    <a:pt x="18547" y="8041"/>
                  </a:lnTo>
                  <a:lnTo>
                    <a:pt x="18547" y="7726"/>
                  </a:lnTo>
                  <a:lnTo>
                    <a:pt x="18490" y="7016"/>
                  </a:lnTo>
                  <a:lnTo>
                    <a:pt x="18433" y="6307"/>
                  </a:lnTo>
                  <a:lnTo>
                    <a:pt x="18375" y="5834"/>
                  </a:lnTo>
                  <a:lnTo>
                    <a:pt x="18261" y="5124"/>
                  </a:lnTo>
                  <a:lnTo>
                    <a:pt x="18146" y="4572"/>
                  </a:lnTo>
                  <a:lnTo>
                    <a:pt x="17975" y="4336"/>
                  </a:lnTo>
                  <a:lnTo>
                    <a:pt x="17841" y="4099"/>
                  </a:lnTo>
                  <a:lnTo>
                    <a:pt x="17669" y="4099"/>
                  </a:lnTo>
                  <a:lnTo>
                    <a:pt x="17211" y="4336"/>
                  </a:lnTo>
                  <a:lnTo>
                    <a:pt x="16906" y="4888"/>
                  </a:lnTo>
                  <a:lnTo>
                    <a:pt x="16620" y="5361"/>
                  </a:lnTo>
                  <a:lnTo>
                    <a:pt x="16314" y="5834"/>
                  </a:lnTo>
                  <a:lnTo>
                    <a:pt x="16028" y="6307"/>
                  </a:lnTo>
                  <a:lnTo>
                    <a:pt x="15742" y="6780"/>
                  </a:lnTo>
                  <a:lnTo>
                    <a:pt x="15437" y="7253"/>
                  </a:lnTo>
                  <a:lnTo>
                    <a:pt x="15151" y="7726"/>
                  </a:lnTo>
                  <a:lnTo>
                    <a:pt x="14845" y="8514"/>
                  </a:lnTo>
                  <a:lnTo>
                    <a:pt x="14922" y="8277"/>
                  </a:lnTo>
                  <a:lnTo>
                    <a:pt x="14922" y="8041"/>
                  </a:lnTo>
                  <a:lnTo>
                    <a:pt x="14922" y="7726"/>
                  </a:lnTo>
                  <a:lnTo>
                    <a:pt x="14979" y="7726"/>
                  </a:lnTo>
                  <a:lnTo>
                    <a:pt x="14979" y="7016"/>
                  </a:lnTo>
                  <a:lnTo>
                    <a:pt x="14979" y="6307"/>
                  </a:lnTo>
                  <a:lnTo>
                    <a:pt x="14922" y="5597"/>
                  </a:lnTo>
                  <a:lnTo>
                    <a:pt x="14788" y="4888"/>
                  </a:lnTo>
                  <a:lnTo>
                    <a:pt x="14731" y="4336"/>
                  </a:lnTo>
                  <a:lnTo>
                    <a:pt x="14559" y="3863"/>
                  </a:lnTo>
                  <a:lnTo>
                    <a:pt x="14445" y="3626"/>
                  </a:lnTo>
                  <a:lnTo>
                    <a:pt x="14273" y="3390"/>
                  </a:lnTo>
                  <a:lnTo>
                    <a:pt x="13739" y="3390"/>
                  </a:lnTo>
                  <a:lnTo>
                    <a:pt x="13395" y="3626"/>
                  </a:lnTo>
                  <a:lnTo>
                    <a:pt x="13033" y="4099"/>
                  </a:lnTo>
                  <a:lnTo>
                    <a:pt x="12746" y="4572"/>
                  </a:lnTo>
                  <a:lnTo>
                    <a:pt x="12384" y="5124"/>
                  </a:lnTo>
                  <a:lnTo>
                    <a:pt x="12098" y="5597"/>
                  </a:lnTo>
                  <a:lnTo>
                    <a:pt x="11792" y="6070"/>
                  </a:lnTo>
                  <a:lnTo>
                    <a:pt x="11449" y="6543"/>
                  </a:lnTo>
                  <a:lnTo>
                    <a:pt x="11163" y="7016"/>
                  </a:lnTo>
                  <a:lnTo>
                    <a:pt x="11277" y="5834"/>
                  </a:lnTo>
                  <a:lnTo>
                    <a:pt x="11334" y="5361"/>
                  </a:lnTo>
                  <a:lnTo>
                    <a:pt x="11334" y="5124"/>
                  </a:lnTo>
                  <a:lnTo>
                    <a:pt x="11334" y="4888"/>
                  </a:lnTo>
                  <a:lnTo>
                    <a:pt x="11334" y="4336"/>
                  </a:lnTo>
                  <a:lnTo>
                    <a:pt x="11334" y="4099"/>
                  </a:lnTo>
                  <a:lnTo>
                    <a:pt x="11334" y="3626"/>
                  </a:lnTo>
                  <a:lnTo>
                    <a:pt x="11277" y="3390"/>
                  </a:lnTo>
                  <a:lnTo>
                    <a:pt x="11277" y="2917"/>
                  </a:lnTo>
                  <a:lnTo>
                    <a:pt x="11163" y="2444"/>
                  </a:lnTo>
                  <a:lnTo>
                    <a:pt x="11029" y="1971"/>
                  </a:lnTo>
                  <a:lnTo>
                    <a:pt x="10857" y="1419"/>
                  </a:lnTo>
                  <a:lnTo>
                    <a:pt x="10743" y="1182"/>
                  </a:lnTo>
                  <a:lnTo>
                    <a:pt x="10571" y="946"/>
                  </a:lnTo>
                  <a:lnTo>
                    <a:pt x="10399" y="946"/>
                  </a:lnTo>
                  <a:lnTo>
                    <a:pt x="10208" y="946"/>
                  </a:lnTo>
                  <a:lnTo>
                    <a:pt x="10037" y="1419"/>
                  </a:lnTo>
                  <a:lnTo>
                    <a:pt x="9865" y="1734"/>
                  </a:lnTo>
                  <a:lnTo>
                    <a:pt x="9636" y="2207"/>
                  </a:lnTo>
                  <a:lnTo>
                    <a:pt x="9445" y="2680"/>
                  </a:lnTo>
                  <a:lnTo>
                    <a:pt x="9216" y="3153"/>
                  </a:lnTo>
                  <a:lnTo>
                    <a:pt x="8987" y="3626"/>
                  </a:lnTo>
                  <a:lnTo>
                    <a:pt x="8796" y="3863"/>
                  </a:lnTo>
                  <a:lnTo>
                    <a:pt x="8567" y="4336"/>
                  </a:lnTo>
                  <a:lnTo>
                    <a:pt x="8339" y="4888"/>
                  </a:lnTo>
                  <a:lnTo>
                    <a:pt x="8110" y="5361"/>
                  </a:lnTo>
                  <a:lnTo>
                    <a:pt x="8224" y="3863"/>
                  </a:lnTo>
                  <a:lnTo>
                    <a:pt x="8224" y="3626"/>
                  </a:lnTo>
                  <a:lnTo>
                    <a:pt x="8224" y="2917"/>
                  </a:lnTo>
                  <a:lnTo>
                    <a:pt x="8167" y="2207"/>
                  </a:lnTo>
                  <a:lnTo>
                    <a:pt x="8110" y="1734"/>
                  </a:lnTo>
                  <a:lnTo>
                    <a:pt x="7976" y="946"/>
                  </a:lnTo>
                  <a:lnTo>
                    <a:pt x="7804" y="709"/>
                  </a:lnTo>
                  <a:lnTo>
                    <a:pt x="7690" y="236"/>
                  </a:lnTo>
                  <a:lnTo>
                    <a:pt x="7518" y="0"/>
                  </a:lnTo>
                  <a:lnTo>
                    <a:pt x="7346" y="0"/>
                  </a:lnTo>
                  <a:lnTo>
                    <a:pt x="6755" y="473"/>
                  </a:lnTo>
                  <a:lnTo>
                    <a:pt x="6449" y="709"/>
                  </a:lnTo>
                  <a:lnTo>
                    <a:pt x="6163" y="946"/>
                  </a:lnTo>
                  <a:lnTo>
                    <a:pt x="5877" y="1419"/>
                  </a:lnTo>
                  <a:lnTo>
                    <a:pt x="5629" y="1734"/>
                  </a:lnTo>
                  <a:lnTo>
                    <a:pt x="5343" y="2207"/>
                  </a:lnTo>
                  <a:lnTo>
                    <a:pt x="5057" y="2444"/>
                  </a:lnTo>
                  <a:lnTo>
                    <a:pt x="4751" y="2917"/>
                  </a:lnTo>
                  <a:lnTo>
                    <a:pt x="4465" y="3390"/>
                  </a:lnTo>
                  <a:lnTo>
                    <a:pt x="4465" y="3153"/>
                  </a:lnTo>
                  <a:lnTo>
                    <a:pt x="4293" y="2680"/>
                  </a:lnTo>
                  <a:lnTo>
                    <a:pt x="4160" y="2207"/>
                  </a:lnTo>
                  <a:lnTo>
                    <a:pt x="3988" y="1971"/>
                  </a:lnTo>
                  <a:lnTo>
                    <a:pt x="3816" y="1971"/>
                  </a:lnTo>
                  <a:lnTo>
                    <a:pt x="3645" y="1971"/>
                  </a:lnTo>
                  <a:lnTo>
                    <a:pt x="3454" y="1971"/>
                  </a:lnTo>
                  <a:lnTo>
                    <a:pt x="3339" y="2444"/>
                  </a:lnTo>
                  <a:lnTo>
                    <a:pt x="3167" y="2680"/>
                  </a:lnTo>
                  <a:lnTo>
                    <a:pt x="2881" y="3626"/>
                  </a:lnTo>
                  <a:lnTo>
                    <a:pt x="2519" y="4572"/>
                  </a:lnTo>
                  <a:lnTo>
                    <a:pt x="2233" y="5361"/>
                  </a:lnTo>
                  <a:lnTo>
                    <a:pt x="1870" y="6070"/>
                  </a:lnTo>
                  <a:lnTo>
                    <a:pt x="1527" y="6780"/>
                  </a:lnTo>
                  <a:lnTo>
                    <a:pt x="1221" y="7726"/>
                  </a:lnTo>
                  <a:lnTo>
                    <a:pt x="878" y="8514"/>
                  </a:lnTo>
                  <a:lnTo>
                    <a:pt x="592" y="9460"/>
                  </a:lnTo>
                  <a:lnTo>
                    <a:pt x="286" y="10169"/>
                  </a:lnTo>
                  <a:lnTo>
                    <a:pt x="229" y="10406"/>
                  </a:lnTo>
                  <a:lnTo>
                    <a:pt x="172" y="10879"/>
                  </a:lnTo>
                  <a:lnTo>
                    <a:pt x="114" y="11194"/>
                  </a:lnTo>
                  <a:lnTo>
                    <a:pt x="57" y="11667"/>
                  </a:lnTo>
                  <a:lnTo>
                    <a:pt x="0" y="11904"/>
                  </a:lnTo>
                  <a:lnTo>
                    <a:pt x="0" y="12377"/>
                  </a:lnTo>
                  <a:lnTo>
                    <a:pt x="0" y="12850"/>
                  </a:lnTo>
                  <a:lnTo>
                    <a:pt x="0" y="13323"/>
                  </a:lnTo>
                  <a:lnTo>
                    <a:pt x="0" y="14032"/>
                  </a:lnTo>
                  <a:lnTo>
                    <a:pt x="57" y="14584"/>
                  </a:lnTo>
                  <a:lnTo>
                    <a:pt x="114" y="15293"/>
                  </a:lnTo>
                  <a:lnTo>
                    <a:pt x="229" y="15766"/>
                  </a:lnTo>
                  <a:lnTo>
                    <a:pt x="401" y="16239"/>
                  </a:lnTo>
                  <a:lnTo>
                    <a:pt x="534" y="16476"/>
                  </a:lnTo>
                  <a:lnTo>
                    <a:pt x="706" y="16712"/>
                  </a:lnTo>
                  <a:lnTo>
                    <a:pt x="878" y="16712"/>
                  </a:lnTo>
                  <a:lnTo>
                    <a:pt x="1412" y="16476"/>
                  </a:lnTo>
                  <a:lnTo>
                    <a:pt x="1755" y="15766"/>
                  </a:lnTo>
                  <a:lnTo>
                    <a:pt x="2175" y="15293"/>
                  </a:lnTo>
                  <a:lnTo>
                    <a:pt x="2519" y="14584"/>
                  </a:lnTo>
                  <a:lnTo>
                    <a:pt x="2939" y="13796"/>
                  </a:lnTo>
                  <a:lnTo>
                    <a:pt x="3282" y="13323"/>
                  </a:lnTo>
                  <a:lnTo>
                    <a:pt x="3702" y="12613"/>
                  </a:lnTo>
                  <a:lnTo>
                    <a:pt x="4045" y="11904"/>
                  </a:lnTo>
                  <a:lnTo>
                    <a:pt x="4465" y="11431"/>
                  </a:lnTo>
                  <a:lnTo>
                    <a:pt x="4408" y="11431"/>
                  </a:lnTo>
                  <a:lnTo>
                    <a:pt x="4408" y="11667"/>
                  </a:lnTo>
                  <a:lnTo>
                    <a:pt x="4351" y="11667"/>
                  </a:lnTo>
                  <a:lnTo>
                    <a:pt x="4351" y="11904"/>
                  </a:lnTo>
                  <a:lnTo>
                    <a:pt x="4293" y="11904"/>
                  </a:lnTo>
                  <a:lnTo>
                    <a:pt x="4293" y="12140"/>
                  </a:lnTo>
                  <a:lnTo>
                    <a:pt x="4217" y="12140"/>
                  </a:lnTo>
                  <a:lnTo>
                    <a:pt x="3931" y="13559"/>
                  </a:lnTo>
                  <a:lnTo>
                    <a:pt x="3873" y="13796"/>
                  </a:lnTo>
                  <a:lnTo>
                    <a:pt x="3873" y="14032"/>
                  </a:lnTo>
                  <a:lnTo>
                    <a:pt x="3816" y="14347"/>
                  </a:lnTo>
                  <a:lnTo>
                    <a:pt x="3759" y="14820"/>
                  </a:lnTo>
                  <a:lnTo>
                    <a:pt x="3759" y="15057"/>
                  </a:lnTo>
                  <a:lnTo>
                    <a:pt x="3702" y="15293"/>
                  </a:lnTo>
                  <a:lnTo>
                    <a:pt x="3702" y="15766"/>
                  </a:lnTo>
                  <a:lnTo>
                    <a:pt x="3702" y="16003"/>
                  </a:lnTo>
                  <a:lnTo>
                    <a:pt x="3759" y="16949"/>
                  </a:lnTo>
                  <a:lnTo>
                    <a:pt x="3816" y="17501"/>
                  </a:lnTo>
                  <a:lnTo>
                    <a:pt x="3873" y="18210"/>
                  </a:lnTo>
                  <a:lnTo>
                    <a:pt x="3988" y="18683"/>
                  </a:lnTo>
                  <a:lnTo>
                    <a:pt x="4102" y="19156"/>
                  </a:lnTo>
                  <a:lnTo>
                    <a:pt x="4293" y="19393"/>
                  </a:lnTo>
                  <a:lnTo>
                    <a:pt x="4465" y="19629"/>
                  </a:lnTo>
                  <a:lnTo>
                    <a:pt x="4637" y="19629"/>
                  </a:lnTo>
                  <a:lnTo>
                    <a:pt x="5228" y="19156"/>
                  </a:lnTo>
                  <a:lnTo>
                    <a:pt x="5457" y="18683"/>
                  </a:lnTo>
                  <a:lnTo>
                    <a:pt x="5743" y="18210"/>
                  </a:lnTo>
                  <a:lnTo>
                    <a:pt x="5992" y="17737"/>
                  </a:lnTo>
                  <a:lnTo>
                    <a:pt x="6278" y="17185"/>
                  </a:lnTo>
                  <a:lnTo>
                    <a:pt x="6507" y="16476"/>
                  </a:lnTo>
                  <a:lnTo>
                    <a:pt x="6755" y="16003"/>
                  </a:lnTo>
                  <a:lnTo>
                    <a:pt x="7041" y="15530"/>
                  </a:lnTo>
                  <a:lnTo>
                    <a:pt x="7270" y="15057"/>
                  </a:lnTo>
                  <a:lnTo>
                    <a:pt x="7270" y="15293"/>
                  </a:lnTo>
                  <a:lnTo>
                    <a:pt x="7346" y="16003"/>
                  </a:lnTo>
                  <a:lnTo>
                    <a:pt x="7404" y="16712"/>
                  </a:lnTo>
                  <a:lnTo>
                    <a:pt x="7518" y="17185"/>
                  </a:lnTo>
                  <a:lnTo>
                    <a:pt x="7633" y="17737"/>
                  </a:lnTo>
                  <a:lnTo>
                    <a:pt x="7747" y="18210"/>
                  </a:lnTo>
                  <a:lnTo>
                    <a:pt x="7919" y="18447"/>
                  </a:lnTo>
                  <a:lnTo>
                    <a:pt x="8110" y="18683"/>
                  </a:lnTo>
                  <a:lnTo>
                    <a:pt x="8281" y="18683"/>
                  </a:lnTo>
                  <a:lnTo>
                    <a:pt x="8625" y="18447"/>
                  </a:lnTo>
                  <a:lnTo>
                    <a:pt x="9045" y="17737"/>
                  </a:lnTo>
                  <a:lnTo>
                    <a:pt x="9445" y="17185"/>
                  </a:lnTo>
                  <a:lnTo>
                    <a:pt x="9865" y="16712"/>
                  </a:lnTo>
                  <a:lnTo>
                    <a:pt x="10266" y="16003"/>
                  </a:lnTo>
                  <a:lnTo>
                    <a:pt x="10628" y="15530"/>
                  </a:lnTo>
                  <a:lnTo>
                    <a:pt x="11029" y="15057"/>
                  </a:lnTo>
                  <a:lnTo>
                    <a:pt x="11449" y="14347"/>
                  </a:lnTo>
                  <a:lnTo>
                    <a:pt x="11869" y="13796"/>
                  </a:lnTo>
                  <a:lnTo>
                    <a:pt x="11792" y="13796"/>
                  </a:lnTo>
                  <a:lnTo>
                    <a:pt x="11792" y="14032"/>
                  </a:lnTo>
                  <a:lnTo>
                    <a:pt x="11792" y="14347"/>
                  </a:lnTo>
                  <a:lnTo>
                    <a:pt x="11735" y="14347"/>
                  </a:lnTo>
                  <a:lnTo>
                    <a:pt x="11735" y="14584"/>
                  </a:lnTo>
                  <a:lnTo>
                    <a:pt x="11678" y="14820"/>
                  </a:lnTo>
                  <a:lnTo>
                    <a:pt x="11620" y="15293"/>
                  </a:lnTo>
                  <a:lnTo>
                    <a:pt x="11620" y="15530"/>
                  </a:lnTo>
                  <a:lnTo>
                    <a:pt x="11563" y="16003"/>
                  </a:lnTo>
                  <a:lnTo>
                    <a:pt x="11563" y="16476"/>
                  </a:lnTo>
                  <a:lnTo>
                    <a:pt x="11506" y="16949"/>
                  </a:lnTo>
                  <a:lnTo>
                    <a:pt x="11563" y="17185"/>
                  </a:lnTo>
                  <a:lnTo>
                    <a:pt x="11563" y="17737"/>
                  </a:lnTo>
                  <a:lnTo>
                    <a:pt x="11563" y="18210"/>
                  </a:lnTo>
                  <a:lnTo>
                    <a:pt x="11620" y="18447"/>
                  </a:lnTo>
                  <a:lnTo>
                    <a:pt x="11678" y="19156"/>
                  </a:lnTo>
                  <a:lnTo>
                    <a:pt x="11792" y="19629"/>
                  </a:lnTo>
                  <a:lnTo>
                    <a:pt x="11983" y="20102"/>
                  </a:lnTo>
                  <a:lnTo>
                    <a:pt x="12098" y="20339"/>
                  </a:lnTo>
                  <a:lnTo>
                    <a:pt x="12269" y="20654"/>
                  </a:lnTo>
                  <a:lnTo>
                    <a:pt x="12441" y="20654"/>
                  </a:lnTo>
                  <a:lnTo>
                    <a:pt x="12632" y="20654"/>
                  </a:lnTo>
                  <a:lnTo>
                    <a:pt x="12804" y="20339"/>
                  </a:lnTo>
                  <a:lnTo>
                    <a:pt x="13147" y="19629"/>
                  </a:lnTo>
                  <a:lnTo>
                    <a:pt x="13395" y="19156"/>
                  </a:lnTo>
                  <a:lnTo>
                    <a:pt x="13681" y="18683"/>
                  </a:lnTo>
                  <a:lnTo>
                    <a:pt x="13910" y="18210"/>
                  </a:lnTo>
                  <a:lnTo>
                    <a:pt x="14216" y="17737"/>
                  </a:lnTo>
                  <a:lnTo>
                    <a:pt x="14445" y="17185"/>
                  </a:lnTo>
                  <a:lnTo>
                    <a:pt x="14674" y="16712"/>
                  </a:lnTo>
                  <a:lnTo>
                    <a:pt x="14979" y="16239"/>
                  </a:lnTo>
                  <a:lnTo>
                    <a:pt x="15208" y="15766"/>
                  </a:lnTo>
                  <a:lnTo>
                    <a:pt x="15208" y="16003"/>
                  </a:lnTo>
                  <a:lnTo>
                    <a:pt x="15151" y="16239"/>
                  </a:lnTo>
                  <a:lnTo>
                    <a:pt x="15093" y="16712"/>
                  </a:lnTo>
                  <a:lnTo>
                    <a:pt x="15093" y="17185"/>
                  </a:lnTo>
                  <a:lnTo>
                    <a:pt x="15093" y="17737"/>
                  </a:lnTo>
                  <a:lnTo>
                    <a:pt x="15093" y="18210"/>
                  </a:lnTo>
                  <a:lnTo>
                    <a:pt x="15093" y="18683"/>
                  </a:lnTo>
                  <a:lnTo>
                    <a:pt x="15151" y="19156"/>
                  </a:lnTo>
                  <a:lnTo>
                    <a:pt x="15151" y="19629"/>
                  </a:lnTo>
                  <a:lnTo>
                    <a:pt x="15265" y="20102"/>
                  </a:lnTo>
                  <a:lnTo>
                    <a:pt x="15380" y="20654"/>
                  </a:lnTo>
                  <a:lnTo>
                    <a:pt x="15551" y="21127"/>
                  </a:lnTo>
                  <a:lnTo>
                    <a:pt x="15685" y="21364"/>
                  </a:lnTo>
                  <a:lnTo>
                    <a:pt x="15857" y="21600"/>
                  </a:lnTo>
                  <a:lnTo>
                    <a:pt x="16028" y="21600"/>
                  </a:lnTo>
                  <a:lnTo>
                    <a:pt x="16200" y="21364"/>
                  </a:lnTo>
                  <a:lnTo>
                    <a:pt x="16391" y="21127"/>
                  </a:lnTo>
                  <a:lnTo>
                    <a:pt x="16505" y="20891"/>
                  </a:lnTo>
                  <a:lnTo>
                    <a:pt x="17078" y="19629"/>
                  </a:lnTo>
                  <a:lnTo>
                    <a:pt x="17612" y="18447"/>
                  </a:lnTo>
                  <a:lnTo>
                    <a:pt x="18204" y="17185"/>
                  </a:lnTo>
                  <a:lnTo>
                    <a:pt x="18795" y="16239"/>
                  </a:lnTo>
                  <a:lnTo>
                    <a:pt x="19367" y="15293"/>
                  </a:lnTo>
                  <a:lnTo>
                    <a:pt x="19902" y="14032"/>
                  </a:lnTo>
                  <a:lnTo>
                    <a:pt x="20493" y="13086"/>
                  </a:lnTo>
                  <a:lnTo>
                    <a:pt x="21085" y="12140"/>
                  </a:lnTo>
                  <a:lnTo>
                    <a:pt x="21257" y="11667"/>
                  </a:lnTo>
                  <a:lnTo>
                    <a:pt x="21371" y="11194"/>
                  </a:lnTo>
                  <a:lnTo>
                    <a:pt x="21486" y="10642"/>
                  </a:lnTo>
                  <a:lnTo>
                    <a:pt x="21543" y="9933"/>
                  </a:lnTo>
                  <a:lnTo>
                    <a:pt x="21600" y="9223"/>
                  </a:lnTo>
                  <a:lnTo>
                    <a:pt x="21600" y="8750"/>
                  </a:lnTo>
                  <a:lnTo>
                    <a:pt x="21600" y="8041"/>
                  </a:lnTo>
                  <a:lnTo>
                    <a:pt x="21543" y="7253"/>
                  </a:lnTo>
                  <a:close/>
                  <a:moveTo>
                    <a:pt x="21543" y="7253"/>
                  </a:move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AutoShape 64"/>
            <p:cNvSpPr/>
            <p:nvPr/>
          </p:nvSpPr>
          <p:spPr>
            <a:xfrm>
              <a:off x="5146920" y="1481040"/>
              <a:ext cx="1220760" cy="99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561" y="7638"/>
                  </a:moveTo>
                  <a:lnTo>
                    <a:pt x="20392" y="7638"/>
                  </a:lnTo>
                  <a:lnTo>
                    <a:pt x="20308" y="7638"/>
                  </a:lnTo>
                  <a:lnTo>
                    <a:pt x="20224" y="7638"/>
                  </a:lnTo>
                  <a:lnTo>
                    <a:pt x="20139" y="7638"/>
                  </a:lnTo>
                  <a:lnTo>
                    <a:pt x="20055" y="7638"/>
                  </a:lnTo>
                  <a:lnTo>
                    <a:pt x="20139" y="7430"/>
                  </a:lnTo>
                  <a:lnTo>
                    <a:pt x="20139" y="7327"/>
                  </a:lnTo>
                  <a:lnTo>
                    <a:pt x="20139" y="7223"/>
                  </a:lnTo>
                  <a:lnTo>
                    <a:pt x="20139" y="7016"/>
                  </a:lnTo>
                  <a:lnTo>
                    <a:pt x="20139" y="6912"/>
                  </a:lnTo>
                  <a:lnTo>
                    <a:pt x="20139" y="6705"/>
                  </a:lnTo>
                  <a:lnTo>
                    <a:pt x="20139" y="6601"/>
                  </a:lnTo>
                  <a:lnTo>
                    <a:pt x="20055" y="6497"/>
                  </a:lnTo>
                  <a:lnTo>
                    <a:pt x="20055" y="6255"/>
                  </a:lnTo>
                  <a:lnTo>
                    <a:pt x="20055" y="6152"/>
                  </a:lnTo>
                  <a:lnTo>
                    <a:pt x="19943" y="6152"/>
                  </a:lnTo>
                  <a:lnTo>
                    <a:pt x="19859" y="5841"/>
                  </a:lnTo>
                  <a:lnTo>
                    <a:pt x="19690" y="5633"/>
                  </a:lnTo>
                  <a:lnTo>
                    <a:pt x="19437" y="5426"/>
                  </a:lnTo>
                  <a:lnTo>
                    <a:pt x="19269" y="5322"/>
                  </a:lnTo>
                  <a:lnTo>
                    <a:pt x="19016" y="5219"/>
                  </a:lnTo>
                  <a:lnTo>
                    <a:pt x="18735" y="5219"/>
                  </a:lnTo>
                  <a:lnTo>
                    <a:pt x="18482" y="5219"/>
                  </a:lnTo>
                  <a:lnTo>
                    <a:pt x="18229" y="5322"/>
                  </a:lnTo>
                  <a:lnTo>
                    <a:pt x="17977" y="5530"/>
                  </a:lnTo>
                  <a:lnTo>
                    <a:pt x="17892" y="5530"/>
                  </a:lnTo>
                  <a:lnTo>
                    <a:pt x="17808" y="5633"/>
                  </a:lnTo>
                  <a:lnTo>
                    <a:pt x="17696" y="5633"/>
                  </a:lnTo>
                  <a:lnTo>
                    <a:pt x="17611" y="5633"/>
                  </a:lnTo>
                  <a:lnTo>
                    <a:pt x="17611" y="5530"/>
                  </a:lnTo>
                  <a:lnTo>
                    <a:pt x="17611" y="5426"/>
                  </a:lnTo>
                  <a:lnTo>
                    <a:pt x="17611" y="5322"/>
                  </a:lnTo>
                  <a:lnTo>
                    <a:pt x="17611" y="5219"/>
                  </a:lnTo>
                  <a:lnTo>
                    <a:pt x="17611" y="5115"/>
                  </a:lnTo>
                  <a:lnTo>
                    <a:pt x="17611" y="5011"/>
                  </a:lnTo>
                  <a:lnTo>
                    <a:pt x="17527" y="4873"/>
                  </a:lnTo>
                  <a:lnTo>
                    <a:pt x="17527" y="4666"/>
                  </a:lnTo>
                  <a:lnTo>
                    <a:pt x="17443" y="4562"/>
                  </a:lnTo>
                  <a:lnTo>
                    <a:pt x="17443" y="4458"/>
                  </a:lnTo>
                  <a:lnTo>
                    <a:pt x="17443" y="4355"/>
                  </a:lnTo>
                  <a:lnTo>
                    <a:pt x="17359" y="4355"/>
                  </a:lnTo>
                  <a:lnTo>
                    <a:pt x="17359" y="4251"/>
                  </a:lnTo>
                  <a:lnTo>
                    <a:pt x="17190" y="4044"/>
                  </a:lnTo>
                  <a:lnTo>
                    <a:pt x="17106" y="3940"/>
                  </a:lnTo>
                  <a:lnTo>
                    <a:pt x="16937" y="3836"/>
                  </a:lnTo>
                  <a:lnTo>
                    <a:pt x="16853" y="3732"/>
                  </a:lnTo>
                  <a:lnTo>
                    <a:pt x="16656" y="3732"/>
                  </a:lnTo>
                  <a:lnTo>
                    <a:pt x="16488" y="3629"/>
                  </a:lnTo>
                  <a:lnTo>
                    <a:pt x="16319" y="3629"/>
                  </a:lnTo>
                  <a:lnTo>
                    <a:pt x="16235" y="3629"/>
                  </a:lnTo>
                  <a:lnTo>
                    <a:pt x="16319" y="3387"/>
                  </a:lnTo>
                  <a:lnTo>
                    <a:pt x="16319" y="3180"/>
                  </a:lnTo>
                  <a:lnTo>
                    <a:pt x="16404" y="2972"/>
                  </a:lnTo>
                  <a:lnTo>
                    <a:pt x="16404" y="2765"/>
                  </a:lnTo>
                  <a:lnTo>
                    <a:pt x="16404" y="2557"/>
                  </a:lnTo>
                  <a:lnTo>
                    <a:pt x="16404" y="2350"/>
                  </a:lnTo>
                  <a:lnTo>
                    <a:pt x="16319" y="2108"/>
                  </a:lnTo>
                  <a:lnTo>
                    <a:pt x="16235" y="1901"/>
                  </a:lnTo>
                  <a:lnTo>
                    <a:pt x="16151" y="1693"/>
                  </a:lnTo>
                  <a:lnTo>
                    <a:pt x="15982" y="1486"/>
                  </a:lnTo>
                  <a:lnTo>
                    <a:pt x="15730" y="1279"/>
                  </a:lnTo>
                  <a:lnTo>
                    <a:pt x="15449" y="1175"/>
                  </a:lnTo>
                  <a:lnTo>
                    <a:pt x="15280" y="1071"/>
                  </a:lnTo>
                  <a:lnTo>
                    <a:pt x="15027" y="1071"/>
                  </a:lnTo>
                  <a:lnTo>
                    <a:pt x="14775" y="1175"/>
                  </a:lnTo>
                  <a:lnTo>
                    <a:pt x="14522" y="1279"/>
                  </a:lnTo>
                  <a:lnTo>
                    <a:pt x="14409" y="1382"/>
                  </a:lnTo>
                  <a:lnTo>
                    <a:pt x="14409" y="1279"/>
                  </a:lnTo>
                  <a:lnTo>
                    <a:pt x="14325" y="1279"/>
                  </a:lnTo>
                  <a:lnTo>
                    <a:pt x="14325" y="1175"/>
                  </a:lnTo>
                  <a:lnTo>
                    <a:pt x="14325" y="1071"/>
                  </a:lnTo>
                  <a:lnTo>
                    <a:pt x="14241" y="864"/>
                  </a:lnTo>
                  <a:lnTo>
                    <a:pt x="14157" y="864"/>
                  </a:lnTo>
                  <a:lnTo>
                    <a:pt x="14072" y="518"/>
                  </a:lnTo>
                  <a:lnTo>
                    <a:pt x="13904" y="311"/>
                  </a:lnTo>
                  <a:lnTo>
                    <a:pt x="13651" y="207"/>
                  </a:lnTo>
                  <a:lnTo>
                    <a:pt x="13398" y="104"/>
                  </a:lnTo>
                  <a:lnTo>
                    <a:pt x="13117" y="0"/>
                  </a:lnTo>
                  <a:lnTo>
                    <a:pt x="12949" y="0"/>
                  </a:lnTo>
                  <a:lnTo>
                    <a:pt x="12696" y="104"/>
                  </a:lnTo>
                  <a:lnTo>
                    <a:pt x="12443" y="207"/>
                  </a:lnTo>
                  <a:lnTo>
                    <a:pt x="11825" y="622"/>
                  </a:lnTo>
                  <a:lnTo>
                    <a:pt x="11657" y="726"/>
                  </a:lnTo>
                  <a:lnTo>
                    <a:pt x="11404" y="968"/>
                  </a:lnTo>
                  <a:lnTo>
                    <a:pt x="11235" y="1071"/>
                  </a:lnTo>
                  <a:lnTo>
                    <a:pt x="11039" y="1279"/>
                  </a:lnTo>
                  <a:lnTo>
                    <a:pt x="10786" y="1382"/>
                  </a:lnTo>
                  <a:lnTo>
                    <a:pt x="10617" y="1590"/>
                  </a:lnTo>
                  <a:lnTo>
                    <a:pt x="10365" y="1693"/>
                  </a:lnTo>
                  <a:lnTo>
                    <a:pt x="10196" y="1797"/>
                  </a:lnTo>
                  <a:lnTo>
                    <a:pt x="10112" y="1693"/>
                  </a:lnTo>
                  <a:lnTo>
                    <a:pt x="10112" y="1590"/>
                  </a:lnTo>
                  <a:lnTo>
                    <a:pt x="10028" y="1486"/>
                  </a:lnTo>
                  <a:lnTo>
                    <a:pt x="10028" y="1382"/>
                  </a:lnTo>
                  <a:lnTo>
                    <a:pt x="9915" y="1279"/>
                  </a:lnTo>
                  <a:lnTo>
                    <a:pt x="9831" y="1279"/>
                  </a:lnTo>
                  <a:lnTo>
                    <a:pt x="9747" y="1175"/>
                  </a:lnTo>
                  <a:lnTo>
                    <a:pt x="9662" y="1071"/>
                  </a:lnTo>
                  <a:lnTo>
                    <a:pt x="9410" y="968"/>
                  </a:lnTo>
                  <a:lnTo>
                    <a:pt x="9157" y="864"/>
                  </a:lnTo>
                  <a:lnTo>
                    <a:pt x="8988" y="864"/>
                  </a:lnTo>
                  <a:lnTo>
                    <a:pt x="8707" y="864"/>
                  </a:lnTo>
                  <a:lnTo>
                    <a:pt x="8455" y="968"/>
                  </a:lnTo>
                  <a:lnTo>
                    <a:pt x="8202" y="1071"/>
                  </a:lnTo>
                  <a:lnTo>
                    <a:pt x="8033" y="1279"/>
                  </a:lnTo>
                  <a:lnTo>
                    <a:pt x="7865" y="1486"/>
                  </a:lnTo>
                  <a:lnTo>
                    <a:pt x="7668" y="1693"/>
                  </a:lnTo>
                  <a:lnTo>
                    <a:pt x="7500" y="2004"/>
                  </a:lnTo>
                  <a:lnTo>
                    <a:pt x="7331" y="2246"/>
                  </a:lnTo>
                  <a:lnTo>
                    <a:pt x="7163" y="2454"/>
                  </a:lnTo>
                  <a:lnTo>
                    <a:pt x="6910" y="2661"/>
                  </a:lnTo>
                  <a:lnTo>
                    <a:pt x="6741" y="2868"/>
                  </a:lnTo>
                  <a:lnTo>
                    <a:pt x="6545" y="3076"/>
                  </a:lnTo>
                  <a:lnTo>
                    <a:pt x="6376" y="3283"/>
                  </a:lnTo>
                  <a:lnTo>
                    <a:pt x="6208" y="3283"/>
                  </a:lnTo>
                  <a:lnTo>
                    <a:pt x="6039" y="3180"/>
                  </a:lnTo>
                  <a:lnTo>
                    <a:pt x="5870" y="3180"/>
                  </a:lnTo>
                  <a:lnTo>
                    <a:pt x="5618" y="3283"/>
                  </a:lnTo>
                  <a:lnTo>
                    <a:pt x="5421" y="3283"/>
                  </a:lnTo>
                  <a:lnTo>
                    <a:pt x="5253" y="3387"/>
                  </a:lnTo>
                  <a:lnTo>
                    <a:pt x="5084" y="3629"/>
                  </a:lnTo>
                  <a:lnTo>
                    <a:pt x="5000" y="3732"/>
                  </a:lnTo>
                  <a:lnTo>
                    <a:pt x="4494" y="4458"/>
                  </a:lnTo>
                  <a:lnTo>
                    <a:pt x="3876" y="5219"/>
                  </a:lnTo>
                  <a:lnTo>
                    <a:pt x="3371" y="5944"/>
                  </a:lnTo>
                  <a:lnTo>
                    <a:pt x="2753" y="6601"/>
                  </a:lnTo>
                  <a:lnTo>
                    <a:pt x="2247" y="7327"/>
                  </a:lnTo>
                  <a:lnTo>
                    <a:pt x="1629" y="7983"/>
                  </a:lnTo>
                  <a:lnTo>
                    <a:pt x="1124" y="8709"/>
                  </a:lnTo>
                  <a:lnTo>
                    <a:pt x="506" y="9469"/>
                  </a:lnTo>
                  <a:lnTo>
                    <a:pt x="337" y="9677"/>
                  </a:lnTo>
                  <a:lnTo>
                    <a:pt x="253" y="9780"/>
                  </a:lnTo>
                  <a:lnTo>
                    <a:pt x="253" y="9884"/>
                  </a:lnTo>
                  <a:lnTo>
                    <a:pt x="169" y="9988"/>
                  </a:lnTo>
                  <a:lnTo>
                    <a:pt x="84" y="10092"/>
                  </a:lnTo>
                  <a:lnTo>
                    <a:pt x="84" y="10195"/>
                  </a:lnTo>
                  <a:lnTo>
                    <a:pt x="84" y="10299"/>
                  </a:lnTo>
                  <a:lnTo>
                    <a:pt x="0" y="10541"/>
                  </a:lnTo>
                  <a:lnTo>
                    <a:pt x="0" y="10644"/>
                  </a:lnTo>
                  <a:lnTo>
                    <a:pt x="0" y="10956"/>
                  </a:lnTo>
                  <a:lnTo>
                    <a:pt x="84" y="11267"/>
                  </a:lnTo>
                  <a:lnTo>
                    <a:pt x="169" y="11578"/>
                  </a:lnTo>
                  <a:lnTo>
                    <a:pt x="337" y="11785"/>
                  </a:lnTo>
                  <a:lnTo>
                    <a:pt x="506" y="12027"/>
                  </a:lnTo>
                  <a:lnTo>
                    <a:pt x="674" y="12234"/>
                  </a:lnTo>
                  <a:lnTo>
                    <a:pt x="927" y="12338"/>
                  </a:lnTo>
                  <a:lnTo>
                    <a:pt x="1208" y="12338"/>
                  </a:lnTo>
                  <a:lnTo>
                    <a:pt x="1882" y="12338"/>
                  </a:lnTo>
                  <a:lnTo>
                    <a:pt x="1966" y="12338"/>
                  </a:lnTo>
                  <a:lnTo>
                    <a:pt x="2050" y="12234"/>
                  </a:lnTo>
                  <a:lnTo>
                    <a:pt x="2135" y="12234"/>
                  </a:lnTo>
                  <a:lnTo>
                    <a:pt x="2050" y="12338"/>
                  </a:lnTo>
                  <a:lnTo>
                    <a:pt x="1966" y="12545"/>
                  </a:lnTo>
                  <a:lnTo>
                    <a:pt x="1882" y="12649"/>
                  </a:lnTo>
                  <a:lnTo>
                    <a:pt x="1713" y="12856"/>
                  </a:lnTo>
                  <a:lnTo>
                    <a:pt x="1629" y="12960"/>
                  </a:lnTo>
                  <a:lnTo>
                    <a:pt x="1545" y="13167"/>
                  </a:lnTo>
                  <a:lnTo>
                    <a:pt x="1461" y="13306"/>
                  </a:lnTo>
                  <a:lnTo>
                    <a:pt x="1376" y="13513"/>
                  </a:lnTo>
                  <a:lnTo>
                    <a:pt x="1292" y="13720"/>
                  </a:lnTo>
                  <a:lnTo>
                    <a:pt x="1208" y="13824"/>
                  </a:lnTo>
                  <a:lnTo>
                    <a:pt x="1124" y="13928"/>
                  </a:lnTo>
                  <a:lnTo>
                    <a:pt x="1124" y="14135"/>
                  </a:lnTo>
                  <a:lnTo>
                    <a:pt x="1124" y="14239"/>
                  </a:lnTo>
                  <a:lnTo>
                    <a:pt x="1011" y="14446"/>
                  </a:lnTo>
                  <a:lnTo>
                    <a:pt x="1011" y="14550"/>
                  </a:lnTo>
                  <a:lnTo>
                    <a:pt x="1124" y="14792"/>
                  </a:lnTo>
                  <a:lnTo>
                    <a:pt x="1124" y="14895"/>
                  </a:lnTo>
                  <a:lnTo>
                    <a:pt x="1208" y="15206"/>
                  </a:lnTo>
                  <a:lnTo>
                    <a:pt x="1292" y="15517"/>
                  </a:lnTo>
                  <a:lnTo>
                    <a:pt x="1461" y="15725"/>
                  </a:lnTo>
                  <a:lnTo>
                    <a:pt x="1713" y="15932"/>
                  </a:lnTo>
                  <a:lnTo>
                    <a:pt x="1882" y="16070"/>
                  </a:lnTo>
                  <a:lnTo>
                    <a:pt x="2135" y="16174"/>
                  </a:lnTo>
                  <a:lnTo>
                    <a:pt x="2416" y="16174"/>
                  </a:lnTo>
                  <a:lnTo>
                    <a:pt x="2668" y="16070"/>
                  </a:lnTo>
                  <a:lnTo>
                    <a:pt x="3090" y="15932"/>
                  </a:lnTo>
                  <a:lnTo>
                    <a:pt x="3090" y="16070"/>
                  </a:lnTo>
                  <a:lnTo>
                    <a:pt x="3005" y="16174"/>
                  </a:lnTo>
                  <a:lnTo>
                    <a:pt x="2921" y="16278"/>
                  </a:lnTo>
                  <a:lnTo>
                    <a:pt x="2837" y="16381"/>
                  </a:lnTo>
                  <a:lnTo>
                    <a:pt x="2753" y="16485"/>
                  </a:lnTo>
                  <a:lnTo>
                    <a:pt x="2668" y="16589"/>
                  </a:lnTo>
                  <a:lnTo>
                    <a:pt x="2331" y="17107"/>
                  </a:lnTo>
                  <a:lnTo>
                    <a:pt x="2247" y="17211"/>
                  </a:lnTo>
                  <a:lnTo>
                    <a:pt x="2135" y="17453"/>
                  </a:lnTo>
                  <a:lnTo>
                    <a:pt x="2050" y="17660"/>
                  </a:lnTo>
                  <a:lnTo>
                    <a:pt x="2050" y="17971"/>
                  </a:lnTo>
                  <a:lnTo>
                    <a:pt x="2050" y="18179"/>
                  </a:lnTo>
                  <a:lnTo>
                    <a:pt x="2050" y="18386"/>
                  </a:lnTo>
                  <a:lnTo>
                    <a:pt x="2135" y="18593"/>
                  </a:lnTo>
                  <a:lnTo>
                    <a:pt x="2135" y="18835"/>
                  </a:lnTo>
                  <a:lnTo>
                    <a:pt x="2331" y="19146"/>
                  </a:lnTo>
                  <a:lnTo>
                    <a:pt x="2500" y="19354"/>
                  </a:lnTo>
                  <a:lnTo>
                    <a:pt x="2753" y="19561"/>
                  </a:lnTo>
                  <a:lnTo>
                    <a:pt x="2921" y="19665"/>
                  </a:lnTo>
                  <a:lnTo>
                    <a:pt x="3174" y="19665"/>
                  </a:lnTo>
                  <a:lnTo>
                    <a:pt x="3455" y="19665"/>
                  </a:lnTo>
                  <a:lnTo>
                    <a:pt x="3708" y="19665"/>
                  </a:lnTo>
                  <a:lnTo>
                    <a:pt x="3960" y="19561"/>
                  </a:lnTo>
                  <a:lnTo>
                    <a:pt x="4045" y="19457"/>
                  </a:lnTo>
                  <a:lnTo>
                    <a:pt x="4213" y="19457"/>
                  </a:lnTo>
                  <a:lnTo>
                    <a:pt x="4298" y="19354"/>
                  </a:lnTo>
                  <a:lnTo>
                    <a:pt x="4494" y="19354"/>
                  </a:lnTo>
                  <a:lnTo>
                    <a:pt x="4578" y="19250"/>
                  </a:lnTo>
                  <a:lnTo>
                    <a:pt x="4747" y="19250"/>
                  </a:lnTo>
                  <a:lnTo>
                    <a:pt x="4831" y="19250"/>
                  </a:lnTo>
                  <a:lnTo>
                    <a:pt x="5000" y="19146"/>
                  </a:lnTo>
                  <a:lnTo>
                    <a:pt x="5084" y="19457"/>
                  </a:lnTo>
                  <a:lnTo>
                    <a:pt x="5168" y="19768"/>
                  </a:lnTo>
                  <a:lnTo>
                    <a:pt x="5253" y="19976"/>
                  </a:lnTo>
                  <a:lnTo>
                    <a:pt x="5337" y="20321"/>
                  </a:lnTo>
                  <a:lnTo>
                    <a:pt x="5505" y="20632"/>
                  </a:lnTo>
                  <a:lnTo>
                    <a:pt x="5618" y="20943"/>
                  </a:lnTo>
                  <a:lnTo>
                    <a:pt x="5702" y="21254"/>
                  </a:lnTo>
                  <a:lnTo>
                    <a:pt x="5786" y="21462"/>
                  </a:lnTo>
                  <a:lnTo>
                    <a:pt x="6039" y="21600"/>
                  </a:lnTo>
                  <a:lnTo>
                    <a:pt x="6292" y="21600"/>
                  </a:lnTo>
                  <a:lnTo>
                    <a:pt x="6545" y="21600"/>
                  </a:lnTo>
                  <a:lnTo>
                    <a:pt x="6825" y="21462"/>
                  </a:lnTo>
                  <a:lnTo>
                    <a:pt x="6994" y="21358"/>
                  </a:lnTo>
                  <a:lnTo>
                    <a:pt x="7247" y="21151"/>
                  </a:lnTo>
                  <a:lnTo>
                    <a:pt x="7331" y="20840"/>
                  </a:lnTo>
                  <a:lnTo>
                    <a:pt x="7500" y="20632"/>
                  </a:lnTo>
                  <a:lnTo>
                    <a:pt x="7500" y="20529"/>
                  </a:lnTo>
                  <a:lnTo>
                    <a:pt x="7500" y="20425"/>
                  </a:lnTo>
                  <a:lnTo>
                    <a:pt x="7584" y="20321"/>
                  </a:lnTo>
                  <a:lnTo>
                    <a:pt x="7584" y="20218"/>
                  </a:lnTo>
                  <a:lnTo>
                    <a:pt x="7584" y="20079"/>
                  </a:lnTo>
                  <a:lnTo>
                    <a:pt x="7584" y="19976"/>
                  </a:lnTo>
                  <a:lnTo>
                    <a:pt x="7584" y="19872"/>
                  </a:lnTo>
                  <a:lnTo>
                    <a:pt x="7668" y="19768"/>
                  </a:lnTo>
                  <a:lnTo>
                    <a:pt x="7668" y="19561"/>
                  </a:lnTo>
                  <a:lnTo>
                    <a:pt x="7752" y="19457"/>
                  </a:lnTo>
                  <a:lnTo>
                    <a:pt x="7865" y="19354"/>
                  </a:lnTo>
                  <a:lnTo>
                    <a:pt x="7949" y="19250"/>
                  </a:lnTo>
                  <a:lnTo>
                    <a:pt x="8033" y="19043"/>
                  </a:lnTo>
                  <a:lnTo>
                    <a:pt x="8118" y="18939"/>
                  </a:lnTo>
                  <a:lnTo>
                    <a:pt x="8118" y="18835"/>
                  </a:lnTo>
                  <a:lnTo>
                    <a:pt x="8792" y="17315"/>
                  </a:lnTo>
                  <a:lnTo>
                    <a:pt x="8792" y="17107"/>
                  </a:lnTo>
                  <a:lnTo>
                    <a:pt x="8792" y="17004"/>
                  </a:lnTo>
                  <a:lnTo>
                    <a:pt x="8904" y="16796"/>
                  </a:lnTo>
                  <a:lnTo>
                    <a:pt x="8904" y="16692"/>
                  </a:lnTo>
                  <a:lnTo>
                    <a:pt x="8792" y="16485"/>
                  </a:lnTo>
                  <a:lnTo>
                    <a:pt x="8792" y="16381"/>
                  </a:lnTo>
                  <a:lnTo>
                    <a:pt x="8792" y="16174"/>
                  </a:lnTo>
                  <a:lnTo>
                    <a:pt x="8707" y="16070"/>
                  </a:lnTo>
                  <a:lnTo>
                    <a:pt x="8707" y="15828"/>
                  </a:lnTo>
                  <a:lnTo>
                    <a:pt x="8539" y="15621"/>
                  </a:lnTo>
                  <a:lnTo>
                    <a:pt x="8455" y="15414"/>
                  </a:lnTo>
                  <a:lnTo>
                    <a:pt x="8286" y="15310"/>
                  </a:lnTo>
                  <a:lnTo>
                    <a:pt x="8118" y="15103"/>
                  </a:lnTo>
                  <a:lnTo>
                    <a:pt x="7949" y="14999"/>
                  </a:lnTo>
                  <a:lnTo>
                    <a:pt x="7668" y="14999"/>
                  </a:lnTo>
                  <a:lnTo>
                    <a:pt x="7500" y="14999"/>
                  </a:lnTo>
                  <a:lnTo>
                    <a:pt x="7331" y="14999"/>
                  </a:lnTo>
                  <a:lnTo>
                    <a:pt x="7331" y="14895"/>
                  </a:lnTo>
                  <a:lnTo>
                    <a:pt x="7415" y="14792"/>
                  </a:lnTo>
                  <a:lnTo>
                    <a:pt x="7415" y="14688"/>
                  </a:lnTo>
                  <a:lnTo>
                    <a:pt x="7500" y="14688"/>
                  </a:lnTo>
                  <a:lnTo>
                    <a:pt x="7500" y="14550"/>
                  </a:lnTo>
                  <a:lnTo>
                    <a:pt x="7584" y="14446"/>
                  </a:lnTo>
                  <a:lnTo>
                    <a:pt x="7584" y="14342"/>
                  </a:lnTo>
                  <a:lnTo>
                    <a:pt x="7668" y="14342"/>
                  </a:lnTo>
                  <a:lnTo>
                    <a:pt x="8455" y="13064"/>
                  </a:lnTo>
                  <a:lnTo>
                    <a:pt x="8623" y="12856"/>
                  </a:lnTo>
                  <a:lnTo>
                    <a:pt x="8707" y="12649"/>
                  </a:lnTo>
                  <a:lnTo>
                    <a:pt x="8707" y="12442"/>
                  </a:lnTo>
                  <a:lnTo>
                    <a:pt x="8792" y="12234"/>
                  </a:lnTo>
                  <a:lnTo>
                    <a:pt x="8792" y="12027"/>
                  </a:lnTo>
                  <a:lnTo>
                    <a:pt x="8707" y="11785"/>
                  </a:lnTo>
                  <a:lnTo>
                    <a:pt x="8707" y="11578"/>
                  </a:lnTo>
                  <a:lnTo>
                    <a:pt x="8623" y="11370"/>
                  </a:lnTo>
                  <a:lnTo>
                    <a:pt x="8539" y="11163"/>
                  </a:lnTo>
                  <a:lnTo>
                    <a:pt x="8455" y="10956"/>
                  </a:lnTo>
                  <a:lnTo>
                    <a:pt x="8286" y="10852"/>
                  </a:lnTo>
                  <a:lnTo>
                    <a:pt x="8118" y="10748"/>
                  </a:lnTo>
                  <a:lnTo>
                    <a:pt x="7949" y="10644"/>
                  </a:lnTo>
                  <a:lnTo>
                    <a:pt x="7752" y="10541"/>
                  </a:lnTo>
                  <a:lnTo>
                    <a:pt x="7584" y="10541"/>
                  </a:lnTo>
                  <a:lnTo>
                    <a:pt x="7415" y="10541"/>
                  </a:lnTo>
                  <a:lnTo>
                    <a:pt x="7949" y="9677"/>
                  </a:lnTo>
                  <a:lnTo>
                    <a:pt x="8033" y="9573"/>
                  </a:lnTo>
                  <a:lnTo>
                    <a:pt x="8118" y="9469"/>
                  </a:lnTo>
                  <a:lnTo>
                    <a:pt x="8118" y="9366"/>
                  </a:lnTo>
                  <a:lnTo>
                    <a:pt x="8202" y="9262"/>
                  </a:lnTo>
                  <a:lnTo>
                    <a:pt x="8202" y="9158"/>
                  </a:lnTo>
                  <a:lnTo>
                    <a:pt x="8202" y="9020"/>
                  </a:lnTo>
                  <a:lnTo>
                    <a:pt x="8286" y="8916"/>
                  </a:lnTo>
                  <a:lnTo>
                    <a:pt x="8286" y="8813"/>
                  </a:lnTo>
                  <a:lnTo>
                    <a:pt x="8286" y="8916"/>
                  </a:lnTo>
                  <a:lnTo>
                    <a:pt x="8370" y="8916"/>
                  </a:lnTo>
                  <a:lnTo>
                    <a:pt x="8370" y="9020"/>
                  </a:lnTo>
                  <a:lnTo>
                    <a:pt x="8623" y="9262"/>
                  </a:lnTo>
                  <a:lnTo>
                    <a:pt x="8792" y="9469"/>
                  </a:lnTo>
                  <a:lnTo>
                    <a:pt x="9073" y="9573"/>
                  </a:lnTo>
                  <a:lnTo>
                    <a:pt x="9325" y="9573"/>
                  </a:lnTo>
                  <a:lnTo>
                    <a:pt x="9578" y="9573"/>
                  </a:lnTo>
                  <a:lnTo>
                    <a:pt x="9831" y="9469"/>
                  </a:lnTo>
                  <a:lnTo>
                    <a:pt x="10028" y="9366"/>
                  </a:lnTo>
                  <a:lnTo>
                    <a:pt x="10280" y="9158"/>
                  </a:lnTo>
                  <a:lnTo>
                    <a:pt x="10702" y="8709"/>
                  </a:lnTo>
                  <a:lnTo>
                    <a:pt x="10702" y="8605"/>
                  </a:lnTo>
                  <a:lnTo>
                    <a:pt x="10786" y="8605"/>
                  </a:lnTo>
                  <a:lnTo>
                    <a:pt x="10870" y="8813"/>
                  </a:lnTo>
                  <a:lnTo>
                    <a:pt x="10954" y="9020"/>
                  </a:lnTo>
                  <a:lnTo>
                    <a:pt x="11039" y="9262"/>
                  </a:lnTo>
                  <a:lnTo>
                    <a:pt x="11235" y="9366"/>
                  </a:lnTo>
                  <a:lnTo>
                    <a:pt x="11404" y="9469"/>
                  </a:lnTo>
                  <a:lnTo>
                    <a:pt x="11572" y="9573"/>
                  </a:lnTo>
                  <a:lnTo>
                    <a:pt x="11741" y="9677"/>
                  </a:lnTo>
                  <a:lnTo>
                    <a:pt x="11994" y="9677"/>
                  </a:lnTo>
                  <a:lnTo>
                    <a:pt x="12612" y="9573"/>
                  </a:lnTo>
                  <a:lnTo>
                    <a:pt x="12696" y="9573"/>
                  </a:lnTo>
                  <a:lnTo>
                    <a:pt x="12780" y="9469"/>
                  </a:lnTo>
                  <a:lnTo>
                    <a:pt x="12865" y="9469"/>
                  </a:lnTo>
                  <a:lnTo>
                    <a:pt x="12865" y="9366"/>
                  </a:lnTo>
                  <a:lnTo>
                    <a:pt x="12949" y="9366"/>
                  </a:lnTo>
                  <a:lnTo>
                    <a:pt x="13033" y="9262"/>
                  </a:lnTo>
                  <a:lnTo>
                    <a:pt x="13033" y="9573"/>
                  </a:lnTo>
                  <a:lnTo>
                    <a:pt x="13117" y="9884"/>
                  </a:lnTo>
                  <a:lnTo>
                    <a:pt x="13286" y="10195"/>
                  </a:lnTo>
                  <a:lnTo>
                    <a:pt x="13482" y="10403"/>
                  </a:lnTo>
                  <a:lnTo>
                    <a:pt x="13651" y="10541"/>
                  </a:lnTo>
                  <a:lnTo>
                    <a:pt x="13904" y="10748"/>
                  </a:lnTo>
                  <a:lnTo>
                    <a:pt x="14072" y="10852"/>
                  </a:lnTo>
                  <a:lnTo>
                    <a:pt x="14325" y="10852"/>
                  </a:lnTo>
                  <a:lnTo>
                    <a:pt x="15027" y="10644"/>
                  </a:lnTo>
                  <a:lnTo>
                    <a:pt x="15112" y="10644"/>
                  </a:lnTo>
                  <a:lnTo>
                    <a:pt x="15196" y="10644"/>
                  </a:lnTo>
                  <a:lnTo>
                    <a:pt x="15196" y="10541"/>
                  </a:lnTo>
                  <a:lnTo>
                    <a:pt x="15280" y="10541"/>
                  </a:lnTo>
                  <a:lnTo>
                    <a:pt x="15364" y="10541"/>
                  </a:lnTo>
                  <a:lnTo>
                    <a:pt x="15449" y="10403"/>
                  </a:lnTo>
                  <a:lnTo>
                    <a:pt x="15364" y="10541"/>
                  </a:lnTo>
                  <a:lnTo>
                    <a:pt x="15364" y="10644"/>
                  </a:lnTo>
                  <a:lnTo>
                    <a:pt x="15280" y="10644"/>
                  </a:lnTo>
                  <a:lnTo>
                    <a:pt x="15280" y="10748"/>
                  </a:lnTo>
                  <a:lnTo>
                    <a:pt x="15196" y="10852"/>
                  </a:lnTo>
                  <a:lnTo>
                    <a:pt x="15196" y="11059"/>
                  </a:lnTo>
                  <a:lnTo>
                    <a:pt x="15112" y="11267"/>
                  </a:lnTo>
                  <a:lnTo>
                    <a:pt x="15112" y="11474"/>
                  </a:lnTo>
                  <a:lnTo>
                    <a:pt x="15112" y="11681"/>
                  </a:lnTo>
                  <a:lnTo>
                    <a:pt x="15112" y="11923"/>
                  </a:lnTo>
                  <a:lnTo>
                    <a:pt x="15112" y="12131"/>
                  </a:lnTo>
                  <a:lnTo>
                    <a:pt x="15196" y="12338"/>
                  </a:lnTo>
                  <a:lnTo>
                    <a:pt x="15280" y="12545"/>
                  </a:lnTo>
                  <a:lnTo>
                    <a:pt x="15449" y="12753"/>
                  </a:lnTo>
                  <a:lnTo>
                    <a:pt x="15730" y="12960"/>
                  </a:lnTo>
                  <a:lnTo>
                    <a:pt x="15898" y="13167"/>
                  </a:lnTo>
                  <a:lnTo>
                    <a:pt x="16151" y="13167"/>
                  </a:lnTo>
                  <a:lnTo>
                    <a:pt x="16404" y="13306"/>
                  </a:lnTo>
                  <a:lnTo>
                    <a:pt x="16656" y="13167"/>
                  </a:lnTo>
                  <a:lnTo>
                    <a:pt x="16937" y="13064"/>
                  </a:lnTo>
                  <a:lnTo>
                    <a:pt x="17106" y="12960"/>
                  </a:lnTo>
                  <a:lnTo>
                    <a:pt x="17443" y="12649"/>
                  </a:lnTo>
                  <a:lnTo>
                    <a:pt x="17443" y="12856"/>
                  </a:lnTo>
                  <a:lnTo>
                    <a:pt x="17359" y="13064"/>
                  </a:lnTo>
                  <a:lnTo>
                    <a:pt x="17359" y="13167"/>
                  </a:lnTo>
                  <a:lnTo>
                    <a:pt x="17359" y="13409"/>
                  </a:lnTo>
                  <a:lnTo>
                    <a:pt x="17359" y="13513"/>
                  </a:lnTo>
                  <a:lnTo>
                    <a:pt x="17443" y="13720"/>
                  </a:lnTo>
                  <a:lnTo>
                    <a:pt x="17443" y="13928"/>
                  </a:lnTo>
                  <a:lnTo>
                    <a:pt x="17527" y="14031"/>
                  </a:lnTo>
                  <a:lnTo>
                    <a:pt x="17696" y="14342"/>
                  </a:lnTo>
                  <a:lnTo>
                    <a:pt x="17892" y="14550"/>
                  </a:lnTo>
                  <a:lnTo>
                    <a:pt x="18145" y="14688"/>
                  </a:lnTo>
                  <a:lnTo>
                    <a:pt x="18314" y="14792"/>
                  </a:lnTo>
                  <a:lnTo>
                    <a:pt x="18566" y="14895"/>
                  </a:lnTo>
                  <a:lnTo>
                    <a:pt x="18819" y="14895"/>
                  </a:lnTo>
                  <a:lnTo>
                    <a:pt x="19100" y="14792"/>
                  </a:lnTo>
                  <a:lnTo>
                    <a:pt x="19353" y="14688"/>
                  </a:lnTo>
                  <a:lnTo>
                    <a:pt x="19690" y="14342"/>
                  </a:lnTo>
                  <a:lnTo>
                    <a:pt x="19774" y="14239"/>
                  </a:lnTo>
                  <a:lnTo>
                    <a:pt x="19859" y="14239"/>
                  </a:lnTo>
                  <a:lnTo>
                    <a:pt x="19943" y="14135"/>
                  </a:lnTo>
                  <a:lnTo>
                    <a:pt x="20055" y="14031"/>
                  </a:lnTo>
                  <a:lnTo>
                    <a:pt x="20139" y="14031"/>
                  </a:lnTo>
                  <a:lnTo>
                    <a:pt x="20224" y="13928"/>
                  </a:lnTo>
                  <a:lnTo>
                    <a:pt x="20308" y="13928"/>
                  </a:lnTo>
                  <a:lnTo>
                    <a:pt x="20476" y="13824"/>
                  </a:lnTo>
                  <a:lnTo>
                    <a:pt x="20645" y="13720"/>
                  </a:lnTo>
                  <a:lnTo>
                    <a:pt x="20898" y="13513"/>
                  </a:lnTo>
                  <a:lnTo>
                    <a:pt x="20982" y="13167"/>
                  </a:lnTo>
                  <a:lnTo>
                    <a:pt x="21066" y="12960"/>
                  </a:lnTo>
                  <a:lnTo>
                    <a:pt x="21179" y="12649"/>
                  </a:lnTo>
                  <a:lnTo>
                    <a:pt x="21179" y="12338"/>
                  </a:lnTo>
                  <a:lnTo>
                    <a:pt x="21179" y="12027"/>
                  </a:lnTo>
                  <a:lnTo>
                    <a:pt x="21066" y="11681"/>
                  </a:lnTo>
                  <a:lnTo>
                    <a:pt x="20982" y="11578"/>
                  </a:lnTo>
                  <a:lnTo>
                    <a:pt x="20982" y="11474"/>
                  </a:lnTo>
                  <a:lnTo>
                    <a:pt x="20898" y="11474"/>
                  </a:lnTo>
                  <a:lnTo>
                    <a:pt x="20898" y="11370"/>
                  </a:lnTo>
                  <a:lnTo>
                    <a:pt x="20898" y="11267"/>
                  </a:lnTo>
                  <a:lnTo>
                    <a:pt x="20898" y="11163"/>
                  </a:lnTo>
                  <a:lnTo>
                    <a:pt x="20982" y="11163"/>
                  </a:lnTo>
                  <a:lnTo>
                    <a:pt x="20982" y="11059"/>
                  </a:lnTo>
                  <a:lnTo>
                    <a:pt x="20982" y="10956"/>
                  </a:lnTo>
                  <a:lnTo>
                    <a:pt x="21066" y="10956"/>
                  </a:lnTo>
                  <a:lnTo>
                    <a:pt x="21431" y="9988"/>
                  </a:lnTo>
                  <a:lnTo>
                    <a:pt x="21431" y="9884"/>
                  </a:lnTo>
                  <a:lnTo>
                    <a:pt x="21516" y="9884"/>
                  </a:lnTo>
                  <a:lnTo>
                    <a:pt x="21516" y="9780"/>
                  </a:lnTo>
                  <a:lnTo>
                    <a:pt x="21516" y="9677"/>
                  </a:lnTo>
                  <a:lnTo>
                    <a:pt x="21600" y="9366"/>
                  </a:lnTo>
                  <a:lnTo>
                    <a:pt x="21516" y="9020"/>
                  </a:lnTo>
                  <a:lnTo>
                    <a:pt x="21516" y="8709"/>
                  </a:lnTo>
                  <a:lnTo>
                    <a:pt x="21431" y="8398"/>
                  </a:lnTo>
                  <a:lnTo>
                    <a:pt x="21263" y="8191"/>
                  </a:lnTo>
                  <a:lnTo>
                    <a:pt x="21066" y="7983"/>
                  </a:lnTo>
                  <a:lnTo>
                    <a:pt x="20814" y="7776"/>
                  </a:lnTo>
                  <a:lnTo>
                    <a:pt x="20561" y="7638"/>
                  </a:lnTo>
                  <a:close/>
                  <a:moveTo>
                    <a:pt x="8370" y="6808"/>
                  </a:moveTo>
                  <a:lnTo>
                    <a:pt x="8286" y="7119"/>
                  </a:lnTo>
                  <a:lnTo>
                    <a:pt x="8202" y="7223"/>
                  </a:lnTo>
                  <a:lnTo>
                    <a:pt x="8202" y="7327"/>
                  </a:lnTo>
                  <a:lnTo>
                    <a:pt x="8118" y="7430"/>
                  </a:lnTo>
                  <a:lnTo>
                    <a:pt x="8118" y="7534"/>
                  </a:lnTo>
                  <a:lnTo>
                    <a:pt x="8118" y="7638"/>
                  </a:lnTo>
                  <a:lnTo>
                    <a:pt x="8118" y="7776"/>
                  </a:lnTo>
                  <a:lnTo>
                    <a:pt x="8118" y="7880"/>
                  </a:lnTo>
                  <a:lnTo>
                    <a:pt x="8033" y="7776"/>
                  </a:lnTo>
                  <a:lnTo>
                    <a:pt x="7949" y="7638"/>
                  </a:lnTo>
                  <a:lnTo>
                    <a:pt x="7865" y="7534"/>
                  </a:lnTo>
                  <a:lnTo>
                    <a:pt x="7865" y="7430"/>
                  </a:lnTo>
                  <a:lnTo>
                    <a:pt x="7752" y="7327"/>
                  </a:lnTo>
                  <a:lnTo>
                    <a:pt x="7668" y="7327"/>
                  </a:lnTo>
                  <a:lnTo>
                    <a:pt x="7584" y="7223"/>
                  </a:lnTo>
                  <a:lnTo>
                    <a:pt x="7500" y="7223"/>
                  </a:lnTo>
                  <a:lnTo>
                    <a:pt x="7584" y="7119"/>
                  </a:lnTo>
                  <a:lnTo>
                    <a:pt x="7752" y="7016"/>
                  </a:lnTo>
                  <a:lnTo>
                    <a:pt x="7865" y="6912"/>
                  </a:lnTo>
                  <a:lnTo>
                    <a:pt x="8033" y="6808"/>
                  </a:lnTo>
                  <a:lnTo>
                    <a:pt x="8202" y="6808"/>
                  </a:lnTo>
                  <a:lnTo>
                    <a:pt x="8286" y="6705"/>
                  </a:lnTo>
                  <a:lnTo>
                    <a:pt x="8455" y="6601"/>
                  </a:lnTo>
                  <a:lnTo>
                    <a:pt x="8539" y="6497"/>
                  </a:lnTo>
                  <a:lnTo>
                    <a:pt x="8539" y="6601"/>
                  </a:lnTo>
                  <a:lnTo>
                    <a:pt x="8455" y="6705"/>
                  </a:lnTo>
                  <a:lnTo>
                    <a:pt x="8455" y="6808"/>
                  </a:lnTo>
                  <a:lnTo>
                    <a:pt x="8370" y="6808"/>
                  </a:lnTo>
                  <a:close/>
                  <a:moveTo>
                    <a:pt x="8370" y="6808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AutoShape 65"/>
            <p:cNvSpPr/>
            <p:nvPr/>
          </p:nvSpPr>
          <p:spPr>
            <a:xfrm>
              <a:off x="6635880" y="1744560"/>
              <a:ext cx="1084320" cy="125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20" y="10431"/>
                  </a:moveTo>
                  <a:lnTo>
                    <a:pt x="21410" y="10349"/>
                  </a:lnTo>
                  <a:lnTo>
                    <a:pt x="21505" y="10158"/>
                  </a:lnTo>
                  <a:lnTo>
                    <a:pt x="21505" y="10076"/>
                  </a:lnTo>
                  <a:lnTo>
                    <a:pt x="21600" y="9913"/>
                  </a:lnTo>
                  <a:lnTo>
                    <a:pt x="21600" y="9749"/>
                  </a:lnTo>
                  <a:lnTo>
                    <a:pt x="21600" y="9667"/>
                  </a:lnTo>
                  <a:lnTo>
                    <a:pt x="21600" y="9503"/>
                  </a:lnTo>
                  <a:lnTo>
                    <a:pt x="21600" y="9339"/>
                  </a:lnTo>
                  <a:lnTo>
                    <a:pt x="21505" y="9066"/>
                  </a:lnTo>
                  <a:lnTo>
                    <a:pt x="21410" y="8902"/>
                  </a:lnTo>
                  <a:lnTo>
                    <a:pt x="21220" y="8656"/>
                  </a:lnTo>
                  <a:lnTo>
                    <a:pt x="21031" y="8493"/>
                  </a:lnTo>
                  <a:lnTo>
                    <a:pt x="20841" y="8411"/>
                  </a:lnTo>
                  <a:lnTo>
                    <a:pt x="20556" y="8329"/>
                  </a:lnTo>
                  <a:lnTo>
                    <a:pt x="20240" y="8329"/>
                  </a:lnTo>
                  <a:lnTo>
                    <a:pt x="19955" y="8329"/>
                  </a:lnTo>
                  <a:lnTo>
                    <a:pt x="19576" y="8329"/>
                  </a:lnTo>
                  <a:lnTo>
                    <a:pt x="19386" y="8411"/>
                  </a:lnTo>
                  <a:lnTo>
                    <a:pt x="19165" y="8411"/>
                  </a:lnTo>
                  <a:lnTo>
                    <a:pt x="18975" y="8411"/>
                  </a:lnTo>
                  <a:lnTo>
                    <a:pt x="18785" y="8493"/>
                  </a:lnTo>
                  <a:lnTo>
                    <a:pt x="18501" y="8493"/>
                  </a:lnTo>
                  <a:lnTo>
                    <a:pt x="18311" y="8574"/>
                  </a:lnTo>
                  <a:lnTo>
                    <a:pt x="18121" y="8574"/>
                  </a:lnTo>
                  <a:lnTo>
                    <a:pt x="17900" y="8656"/>
                  </a:lnTo>
                  <a:lnTo>
                    <a:pt x="18026" y="8574"/>
                  </a:lnTo>
                  <a:lnTo>
                    <a:pt x="18121" y="8493"/>
                  </a:lnTo>
                  <a:lnTo>
                    <a:pt x="18121" y="8411"/>
                  </a:lnTo>
                  <a:lnTo>
                    <a:pt x="18216" y="8329"/>
                  </a:lnTo>
                  <a:lnTo>
                    <a:pt x="18311" y="8247"/>
                  </a:lnTo>
                  <a:lnTo>
                    <a:pt x="18406" y="8165"/>
                  </a:lnTo>
                  <a:lnTo>
                    <a:pt x="18406" y="8056"/>
                  </a:lnTo>
                  <a:lnTo>
                    <a:pt x="18501" y="7974"/>
                  </a:lnTo>
                  <a:lnTo>
                    <a:pt x="19165" y="7073"/>
                  </a:lnTo>
                  <a:lnTo>
                    <a:pt x="19291" y="6963"/>
                  </a:lnTo>
                  <a:lnTo>
                    <a:pt x="19386" y="6881"/>
                  </a:lnTo>
                  <a:lnTo>
                    <a:pt x="19386" y="6799"/>
                  </a:lnTo>
                  <a:lnTo>
                    <a:pt x="19386" y="6718"/>
                  </a:lnTo>
                  <a:lnTo>
                    <a:pt x="19386" y="6636"/>
                  </a:lnTo>
                  <a:lnTo>
                    <a:pt x="19481" y="6554"/>
                  </a:lnTo>
                  <a:lnTo>
                    <a:pt x="19481" y="6390"/>
                  </a:lnTo>
                  <a:lnTo>
                    <a:pt x="19481" y="6308"/>
                  </a:lnTo>
                  <a:lnTo>
                    <a:pt x="19386" y="6062"/>
                  </a:lnTo>
                  <a:lnTo>
                    <a:pt x="19291" y="5789"/>
                  </a:lnTo>
                  <a:lnTo>
                    <a:pt x="19070" y="5625"/>
                  </a:lnTo>
                  <a:lnTo>
                    <a:pt x="18880" y="5461"/>
                  </a:lnTo>
                  <a:lnTo>
                    <a:pt x="18690" y="5298"/>
                  </a:lnTo>
                  <a:lnTo>
                    <a:pt x="18406" y="5216"/>
                  </a:lnTo>
                  <a:lnTo>
                    <a:pt x="18121" y="5134"/>
                  </a:lnTo>
                  <a:lnTo>
                    <a:pt x="17805" y="5134"/>
                  </a:lnTo>
                  <a:lnTo>
                    <a:pt x="17236" y="5298"/>
                  </a:lnTo>
                  <a:lnTo>
                    <a:pt x="16951" y="5380"/>
                  </a:lnTo>
                  <a:lnTo>
                    <a:pt x="16635" y="5461"/>
                  </a:lnTo>
                  <a:lnTo>
                    <a:pt x="16445" y="5543"/>
                  </a:lnTo>
                  <a:lnTo>
                    <a:pt x="16160" y="5625"/>
                  </a:lnTo>
                  <a:lnTo>
                    <a:pt x="15876" y="5707"/>
                  </a:lnTo>
                  <a:lnTo>
                    <a:pt x="15686" y="5789"/>
                  </a:lnTo>
                  <a:lnTo>
                    <a:pt x="15370" y="5871"/>
                  </a:lnTo>
                  <a:lnTo>
                    <a:pt x="15085" y="5980"/>
                  </a:lnTo>
                  <a:lnTo>
                    <a:pt x="15180" y="5871"/>
                  </a:lnTo>
                  <a:lnTo>
                    <a:pt x="15180" y="5789"/>
                  </a:lnTo>
                  <a:lnTo>
                    <a:pt x="15275" y="5789"/>
                  </a:lnTo>
                  <a:lnTo>
                    <a:pt x="15876" y="5134"/>
                  </a:lnTo>
                  <a:lnTo>
                    <a:pt x="15971" y="5052"/>
                  </a:lnTo>
                  <a:lnTo>
                    <a:pt x="16066" y="4888"/>
                  </a:lnTo>
                  <a:lnTo>
                    <a:pt x="16066" y="4779"/>
                  </a:lnTo>
                  <a:lnTo>
                    <a:pt x="16160" y="4615"/>
                  </a:lnTo>
                  <a:lnTo>
                    <a:pt x="16160" y="4533"/>
                  </a:lnTo>
                  <a:lnTo>
                    <a:pt x="16160" y="4369"/>
                  </a:lnTo>
                  <a:lnTo>
                    <a:pt x="16160" y="4287"/>
                  </a:lnTo>
                  <a:lnTo>
                    <a:pt x="16160" y="4123"/>
                  </a:lnTo>
                  <a:lnTo>
                    <a:pt x="16066" y="3878"/>
                  </a:lnTo>
                  <a:lnTo>
                    <a:pt x="15971" y="3605"/>
                  </a:lnTo>
                  <a:lnTo>
                    <a:pt x="15781" y="3441"/>
                  </a:lnTo>
                  <a:lnTo>
                    <a:pt x="15591" y="3277"/>
                  </a:lnTo>
                  <a:lnTo>
                    <a:pt x="15275" y="3195"/>
                  </a:lnTo>
                  <a:lnTo>
                    <a:pt x="14990" y="3113"/>
                  </a:lnTo>
                  <a:lnTo>
                    <a:pt x="14706" y="3113"/>
                  </a:lnTo>
                  <a:lnTo>
                    <a:pt x="14421" y="3113"/>
                  </a:lnTo>
                  <a:lnTo>
                    <a:pt x="13820" y="3195"/>
                  </a:lnTo>
                  <a:lnTo>
                    <a:pt x="13725" y="3277"/>
                  </a:lnTo>
                  <a:lnTo>
                    <a:pt x="13630" y="3277"/>
                  </a:lnTo>
                  <a:lnTo>
                    <a:pt x="13536" y="3359"/>
                  </a:lnTo>
                  <a:lnTo>
                    <a:pt x="13346" y="3441"/>
                  </a:lnTo>
                  <a:lnTo>
                    <a:pt x="13251" y="3441"/>
                  </a:lnTo>
                  <a:lnTo>
                    <a:pt x="13156" y="3523"/>
                  </a:lnTo>
                  <a:lnTo>
                    <a:pt x="12966" y="3523"/>
                  </a:lnTo>
                  <a:lnTo>
                    <a:pt x="12840" y="3605"/>
                  </a:lnTo>
                  <a:lnTo>
                    <a:pt x="13061" y="3441"/>
                  </a:lnTo>
                  <a:lnTo>
                    <a:pt x="13251" y="3277"/>
                  </a:lnTo>
                  <a:lnTo>
                    <a:pt x="13346" y="3113"/>
                  </a:lnTo>
                  <a:lnTo>
                    <a:pt x="13441" y="2949"/>
                  </a:lnTo>
                  <a:lnTo>
                    <a:pt x="13536" y="2785"/>
                  </a:lnTo>
                  <a:lnTo>
                    <a:pt x="13536" y="2594"/>
                  </a:lnTo>
                  <a:lnTo>
                    <a:pt x="13536" y="2430"/>
                  </a:lnTo>
                  <a:lnTo>
                    <a:pt x="13536" y="2266"/>
                  </a:lnTo>
                  <a:lnTo>
                    <a:pt x="13441" y="2021"/>
                  </a:lnTo>
                  <a:lnTo>
                    <a:pt x="13346" y="1857"/>
                  </a:lnTo>
                  <a:lnTo>
                    <a:pt x="13156" y="1611"/>
                  </a:lnTo>
                  <a:lnTo>
                    <a:pt x="12966" y="1420"/>
                  </a:lnTo>
                  <a:lnTo>
                    <a:pt x="12650" y="1338"/>
                  </a:lnTo>
                  <a:lnTo>
                    <a:pt x="12460" y="1256"/>
                  </a:lnTo>
                  <a:lnTo>
                    <a:pt x="12176" y="1174"/>
                  </a:lnTo>
                  <a:lnTo>
                    <a:pt x="11891" y="1256"/>
                  </a:lnTo>
                  <a:lnTo>
                    <a:pt x="11575" y="1256"/>
                  </a:lnTo>
                  <a:lnTo>
                    <a:pt x="11195" y="1420"/>
                  </a:lnTo>
                  <a:lnTo>
                    <a:pt x="11100" y="1420"/>
                  </a:lnTo>
                  <a:lnTo>
                    <a:pt x="11006" y="1502"/>
                  </a:lnTo>
                  <a:lnTo>
                    <a:pt x="10911" y="1502"/>
                  </a:lnTo>
                  <a:lnTo>
                    <a:pt x="10816" y="1502"/>
                  </a:lnTo>
                  <a:lnTo>
                    <a:pt x="10721" y="1611"/>
                  </a:lnTo>
                  <a:lnTo>
                    <a:pt x="10531" y="1611"/>
                  </a:lnTo>
                  <a:lnTo>
                    <a:pt x="10436" y="1693"/>
                  </a:lnTo>
                  <a:lnTo>
                    <a:pt x="10310" y="1693"/>
                  </a:lnTo>
                  <a:lnTo>
                    <a:pt x="10436" y="1611"/>
                  </a:lnTo>
                  <a:lnTo>
                    <a:pt x="10436" y="1502"/>
                  </a:lnTo>
                  <a:lnTo>
                    <a:pt x="10436" y="1338"/>
                  </a:lnTo>
                  <a:lnTo>
                    <a:pt x="10436" y="1256"/>
                  </a:lnTo>
                  <a:lnTo>
                    <a:pt x="10436" y="1174"/>
                  </a:lnTo>
                  <a:lnTo>
                    <a:pt x="10436" y="1092"/>
                  </a:lnTo>
                  <a:lnTo>
                    <a:pt x="10436" y="928"/>
                  </a:lnTo>
                  <a:lnTo>
                    <a:pt x="10310" y="847"/>
                  </a:lnTo>
                  <a:lnTo>
                    <a:pt x="10215" y="601"/>
                  </a:lnTo>
                  <a:lnTo>
                    <a:pt x="10025" y="410"/>
                  </a:lnTo>
                  <a:lnTo>
                    <a:pt x="9835" y="246"/>
                  </a:lnTo>
                  <a:lnTo>
                    <a:pt x="9551" y="164"/>
                  </a:lnTo>
                  <a:lnTo>
                    <a:pt x="9361" y="82"/>
                  </a:lnTo>
                  <a:lnTo>
                    <a:pt x="9045" y="0"/>
                  </a:lnTo>
                  <a:lnTo>
                    <a:pt x="8760" y="0"/>
                  </a:lnTo>
                  <a:lnTo>
                    <a:pt x="8476" y="82"/>
                  </a:lnTo>
                  <a:lnTo>
                    <a:pt x="7495" y="519"/>
                  </a:lnTo>
                  <a:lnTo>
                    <a:pt x="6610" y="1010"/>
                  </a:lnTo>
                  <a:lnTo>
                    <a:pt x="5851" y="1693"/>
                  </a:lnTo>
                  <a:lnTo>
                    <a:pt x="5060" y="2266"/>
                  </a:lnTo>
                  <a:lnTo>
                    <a:pt x="4301" y="2949"/>
                  </a:lnTo>
                  <a:lnTo>
                    <a:pt x="3510" y="3605"/>
                  </a:lnTo>
                  <a:lnTo>
                    <a:pt x="2625" y="4205"/>
                  </a:lnTo>
                  <a:lnTo>
                    <a:pt x="1771" y="4697"/>
                  </a:lnTo>
                  <a:lnTo>
                    <a:pt x="1360" y="5052"/>
                  </a:lnTo>
                  <a:lnTo>
                    <a:pt x="1265" y="5134"/>
                  </a:lnTo>
                  <a:lnTo>
                    <a:pt x="1170" y="5216"/>
                  </a:lnTo>
                  <a:lnTo>
                    <a:pt x="1075" y="5380"/>
                  </a:lnTo>
                  <a:lnTo>
                    <a:pt x="980" y="5461"/>
                  </a:lnTo>
                  <a:lnTo>
                    <a:pt x="980" y="5625"/>
                  </a:lnTo>
                  <a:lnTo>
                    <a:pt x="886" y="5707"/>
                  </a:lnTo>
                  <a:lnTo>
                    <a:pt x="886" y="5871"/>
                  </a:lnTo>
                  <a:lnTo>
                    <a:pt x="886" y="6062"/>
                  </a:lnTo>
                  <a:lnTo>
                    <a:pt x="980" y="6226"/>
                  </a:lnTo>
                  <a:lnTo>
                    <a:pt x="980" y="6390"/>
                  </a:lnTo>
                  <a:lnTo>
                    <a:pt x="1075" y="6554"/>
                  </a:lnTo>
                  <a:lnTo>
                    <a:pt x="1170" y="6636"/>
                  </a:lnTo>
                  <a:lnTo>
                    <a:pt x="1265" y="6799"/>
                  </a:lnTo>
                  <a:lnTo>
                    <a:pt x="1455" y="6881"/>
                  </a:lnTo>
                  <a:lnTo>
                    <a:pt x="1550" y="6963"/>
                  </a:lnTo>
                  <a:lnTo>
                    <a:pt x="1771" y="7073"/>
                  </a:lnTo>
                  <a:lnTo>
                    <a:pt x="1676" y="7154"/>
                  </a:lnTo>
                  <a:lnTo>
                    <a:pt x="1455" y="7236"/>
                  </a:lnTo>
                  <a:lnTo>
                    <a:pt x="1360" y="7318"/>
                  </a:lnTo>
                  <a:lnTo>
                    <a:pt x="1265" y="7400"/>
                  </a:lnTo>
                  <a:lnTo>
                    <a:pt x="1170" y="7482"/>
                  </a:lnTo>
                  <a:lnTo>
                    <a:pt x="980" y="7564"/>
                  </a:lnTo>
                  <a:lnTo>
                    <a:pt x="886" y="7646"/>
                  </a:lnTo>
                  <a:lnTo>
                    <a:pt x="791" y="7728"/>
                  </a:lnTo>
                  <a:lnTo>
                    <a:pt x="601" y="7892"/>
                  </a:lnTo>
                  <a:lnTo>
                    <a:pt x="411" y="7974"/>
                  </a:lnTo>
                  <a:lnTo>
                    <a:pt x="285" y="8056"/>
                  </a:lnTo>
                  <a:lnTo>
                    <a:pt x="190" y="8247"/>
                  </a:lnTo>
                  <a:lnTo>
                    <a:pt x="190" y="8329"/>
                  </a:lnTo>
                  <a:lnTo>
                    <a:pt x="95" y="8493"/>
                  </a:lnTo>
                  <a:lnTo>
                    <a:pt x="95" y="8574"/>
                  </a:lnTo>
                  <a:lnTo>
                    <a:pt x="0" y="8738"/>
                  </a:lnTo>
                  <a:lnTo>
                    <a:pt x="0" y="8902"/>
                  </a:lnTo>
                  <a:lnTo>
                    <a:pt x="95" y="9148"/>
                  </a:lnTo>
                  <a:lnTo>
                    <a:pt x="95" y="9339"/>
                  </a:lnTo>
                  <a:lnTo>
                    <a:pt x="285" y="9585"/>
                  </a:lnTo>
                  <a:lnTo>
                    <a:pt x="506" y="9749"/>
                  </a:lnTo>
                  <a:lnTo>
                    <a:pt x="696" y="9913"/>
                  </a:lnTo>
                  <a:lnTo>
                    <a:pt x="886" y="10076"/>
                  </a:lnTo>
                  <a:lnTo>
                    <a:pt x="1170" y="10076"/>
                  </a:lnTo>
                  <a:lnTo>
                    <a:pt x="1455" y="10158"/>
                  </a:lnTo>
                  <a:lnTo>
                    <a:pt x="2056" y="10158"/>
                  </a:lnTo>
                  <a:lnTo>
                    <a:pt x="2151" y="10076"/>
                  </a:lnTo>
                  <a:lnTo>
                    <a:pt x="2245" y="10076"/>
                  </a:lnTo>
                  <a:lnTo>
                    <a:pt x="2340" y="10076"/>
                  </a:lnTo>
                  <a:lnTo>
                    <a:pt x="2530" y="10076"/>
                  </a:lnTo>
                  <a:lnTo>
                    <a:pt x="2625" y="10076"/>
                  </a:lnTo>
                  <a:lnTo>
                    <a:pt x="2720" y="10076"/>
                  </a:lnTo>
                  <a:lnTo>
                    <a:pt x="2815" y="10076"/>
                  </a:lnTo>
                  <a:lnTo>
                    <a:pt x="2941" y="10076"/>
                  </a:lnTo>
                  <a:lnTo>
                    <a:pt x="3226" y="9994"/>
                  </a:lnTo>
                  <a:lnTo>
                    <a:pt x="3510" y="9913"/>
                  </a:lnTo>
                  <a:lnTo>
                    <a:pt x="3700" y="9749"/>
                  </a:lnTo>
                  <a:lnTo>
                    <a:pt x="3890" y="9585"/>
                  </a:lnTo>
                  <a:lnTo>
                    <a:pt x="4080" y="9421"/>
                  </a:lnTo>
                  <a:lnTo>
                    <a:pt x="4206" y="9148"/>
                  </a:lnTo>
                  <a:lnTo>
                    <a:pt x="4301" y="8902"/>
                  </a:lnTo>
                  <a:lnTo>
                    <a:pt x="4301" y="8656"/>
                  </a:lnTo>
                  <a:lnTo>
                    <a:pt x="4491" y="8493"/>
                  </a:lnTo>
                  <a:lnTo>
                    <a:pt x="4681" y="8411"/>
                  </a:lnTo>
                  <a:lnTo>
                    <a:pt x="4870" y="8247"/>
                  </a:lnTo>
                  <a:lnTo>
                    <a:pt x="5060" y="8165"/>
                  </a:lnTo>
                  <a:lnTo>
                    <a:pt x="5155" y="7974"/>
                  </a:lnTo>
                  <a:lnTo>
                    <a:pt x="5345" y="7892"/>
                  </a:lnTo>
                  <a:lnTo>
                    <a:pt x="5566" y="7728"/>
                  </a:lnTo>
                  <a:lnTo>
                    <a:pt x="5756" y="7646"/>
                  </a:lnTo>
                  <a:lnTo>
                    <a:pt x="5851" y="7810"/>
                  </a:lnTo>
                  <a:lnTo>
                    <a:pt x="6040" y="7974"/>
                  </a:lnTo>
                  <a:lnTo>
                    <a:pt x="6325" y="8165"/>
                  </a:lnTo>
                  <a:lnTo>
                    <a:pt x="6515" y="8247"/>
                  </a:lnTo>
                  <a:lnTo>
                    <a:pt x="6831" y="8329"/>
                  </a:lnTo>
                  <a:lnTo>
                    <a:pt x="7021" y="8329"/>
                  </a:lnTo>
                  <a:lnTo>
                    <a:pt x="7305" y="8329"/>
                  </a:lnTo>
                  <a:lnTo>
                    <a:pt x="7590" y="8247"/>
                  </a:lnTo>
                  <a:lnTo>
                    <a:pt x="8096" y="8056"/>
                  </a:lnTo>
                  <a:lnTo>
                    <a:pt x="8476" y="7974"/>
                  </a:lnTo>
                  <a:lnTo>
                    <a:pt x="8760" y="7810"/>
                  </a:lnTo>
                  <a:lnTo>
                    <a:pt x="9045" y="7728"/>
                  </a:lnTo>
                  <a:lnTo>
                    <a:pt x="9361" y="7564"/>
                  </a:lnTo>
                  <a:lnTo>
                    <a:pt x="9646" y="7482"/>
                  </a:lnTo>
                  <a:lnTo>
                    <a:pt x="9930" y="7318"/>
                  </a:lnTo>
                  <a:lnTo>
                    <a:pt x="10310" y="7236"/>
                  </a:lnTo>
                  <a:lnTo>
                    <a:pt x="10626" y="7154"/>
                  </a:lnTo>
                  <a:lnTo>
                    <a:pt x="10531" y="7236"/>
                  </a:lnTo>
                  <a:lnTo>
                    <a:pt x="10436" y="7318"/>
                  </a:lnTo>
                  <a:lnTo>
                    <a:pt x="10436" y="7400"/>
                  </a:lnTo>
                  <a:lnTo>
                    <a:pt x="10310" y="7482"/>
                  </a:lnTo>
                  <a:lnTo>
                    <a:pt x="10215" y="7564"/>
                  </a:lnTo>
                  <a:lnTo>
                    <a:pt x="10120" y="7646"/>
                  </a:lnTo>
                  <a:lnTo>
                    <a:pt x="10025" y="7728"/>
                  </a:lnTo>
                  <a:lnTo>
                    <a:pt x="9930" y="7892"/>
                  </a:lnTo>
                  <a:lnTo>
                    <a:pt x="9741" y="8329"/>
                  </a:lnTo>
                  <a:lnTo>
                    <a:pt x="9646" y="8411"/>
                  </a:lnTo>
                  <a:lnTo>
                    <a:pt x="9646" y="8574"/>
                  </a:lnTo>
                  <a:lnTo>
                    <a:pt x="9646" y="8738"/>
                  </a:lnTo>
                  <a:lnTo>
                    <a:pt x="9646" y="8820"/>
                  </a:lnTo>
                  <a:lnTo>
                    <a:pt x="9646" y="8984"/>
                  </a:lnTo>
                  <a:lnTo>
                    <a:pt x="9646" y="9066"/>
                  </a:lnTo>
                  <a:lnTo>
                    <a:pt x="9741" y="9257"/>
                  </a:lnTo>
                  <a:lnTo>
                    <a:pt x="9741" y="9339"/>
                  </a:lnTo>
                  <a:lnTo>
                    <a:pt x="9930" y="9585"/>
                  </a:lnTo>
                  <a:lnTo>
                    <a:pt x="10120" y="9749"/>
                  </a:lnTo>
                  <a:lnTo>
                    <a:pt x="10436" y="9913"/>
                  </a:lnTo>
                  <a:lnTo>
                    <a:pt x="10626" y="9994"/>
                  </a:lnTo>
                  <a:lnTo>
                    <a:pt x="10911" y="9994"/>
                  </a:lnTo>
                  <a:lnTo>
                    <a:pt x="11195" y="9994"/>
                  </a:lnTo>
                  <a:lnTo>
                    <a:pt x="11480" y="9994"/>
                  </a:lnTo>
                  <a:lnTo>
                    <a:pt x="11796" y="9913"/>
                  </a:lnTo>
                  <a:lnTo>
                    <a:pt x="12271" y="9667"/>
                  </a:lnTo>
                  <a:lnTo>
                    <a:pt x="12460" y="9585"/>
                  </a:lnTo>
                  <a:lnTo>
                    <a:pt x="12555" y="9585"/>
                  </a:lnTo>
                  <a:lnTo>
                    <a:pt x="12745" y="9503"/>
                  </a:lnTo>
                  <a:lnTo>
                    <a:pt x="12966" y="9421"/>
                  </a:lnTo>
                  <a:lnTo>
                    <a:pt x="13061" y="9421"/>
                  </a:lnTo>
                  <a:lnTo>
                    <a:pt x="13251" y="9339"/>
                  </a:lnTo>
                  <a:lnTo>
                    <a:pt x="13441" y="9339"/>
                  </a:lnTo>
                  <a:lnTo>
                    <a:pt x="13536" y="9257"/>
                  </a:lnTo>
                  <a:lnTo>
                    <a:pt x="13536" y="9339"/>
                  </a:lnTo>
                  <a:lnTo>
                    <a:pt x="13441" y="9421"/>
                  </a:lnTo>
                  <a:lnTo>
                    <a:pt x="13346" y="9503"/>
                  </a:lnTo>
                  <a:lnTo>
                    <a:pt x="13346" y="9585"/>
                  </a:lnTo>
                  <a:lnTo>
                    <a:pt x="13251" y="9667"/>
                  </a:lnTo>
                  <a:lnTo>
                    <a:pt x="13156" y="9749"/>
                  </a:lnTo>
                  <a:lnTo>
                    <a:pt x="13156" y="9831"/>
                  </a:lnTo>
                  <a:lnTo>
                    <a:pt x="13061" y="9913"/>
                  </a:lnTo>
                  <a:lnTo>
                    <a:pt x="12840" y="10349"/>
                  </a:lnTo>
                  <a:lnTo>
                    <a:pt x="12745" y="10513"/>
                  </a:lnTo>
                  <a:lnTo>
                    <a:pt x="12745" y="10595"/>
                  </a:lnTo>
                  <a:lnTo>
                    <a:pt x="12650" y="10677"/>
                  </a:lnTo>
                  <a:lnTo>
                    <a:pt x="12650" y="10841"/>
                  </a:lnTo>
                  <a:lnTo>
                    <a:pt x="12650" y="10923"/>
                  </a:lnTo>
                  <a:lnTo>
                    <a:pt x="12650" y="11087"/>
                  </a:lnTo>
                  <a:lnTo>
                    <a:pt x="12650" y="11169"/>
                  </a:lnTo>
                  <a:lnTo>
                    <a:pt x="12745" y="11251"/>
                  </a:lnTo>
                  <a:lnTo>
                    <a:pt x="12840" y="11524"/>
                  </a:lnTo>
                  <a:lnTo>
                    <a:pt x="13061" y="11769"/>
                  </a:lnTo>
                  <a:lnTo>
                    <a:pt x="13251" y="11933"/>
                  </a:lnTo>
                  <a:lnTo>
                    <a:pt x="13441" y="12015"/>
                  </a:lnTo>
                  <a:lnTo>
                    <a:pt x="13725" y="12097"/>
                  </a:lnTo>
                  <a:lnTo>
                    <a:pt x="14010" y="12179"/>
                  </a:lnTo>
                  <a:lnTo>
                    <a:pt x="14326" y="12179"/>
                  </a:lnTo>
                  <a:lnTo>
                    <a:pt x="14611" y="12097"/>
                  </a:lnTo>
                  <a:lnTo>
                    <a:pt x="14801" y="12097"/>
                  </a:lnTo>
                  <a:lnTo>
                    <a:pt x="14611" y="12261"/>
                  </a:lnTo>
                  <a:lnTo>
                    <a:pt x="14421" y="12425"/>
                  </a:lnTo>
                  <a:lnTo>
                    <a:pt x="14231" y="12616"/>
                  </a:lnTo>
                  <a:lnTo>
                    <a:pt x="13915" y="12780"/>
                  </a:lnTo>
                  <a:lnTo>
                    <a:pt x="13725" y="12944"/>
                  </a:lnTo>
                  <a:lnTo>
                    <a:pt x="13536" y="13107"/>
                  </a:lnTo>
                  <a:lnTo>
                    <a:pt x="13346" y="13353"/>
                  </a:lnTo>
                  <a:lnTo>
                    <a:pt x="13156" y="13517"/>
                  </a:lnTo>
                  <a:lnTo>
                    <a:pt x="13061" y="13708"/>
                  </a:lnTo>
                  <a:lnTo>
                    <a:pt x="12966" y="13708"/>
                  </a:lnTo>
                  <a:lnTo>
                    <a:pt x="12966" y="13790"/>
                  </a:lnTo>
                  <a:lnTo>
                    <a:pt x="12840" y="13872"/>
                  </a:lnTo>
                  <a:lnTo>
                    <a:pt x="12840" y="13954"/>
                  </a:lnTo>
                  <a:lnTo>
                    <a:pt x="12745" y="14036"/>
                  </a:lnTo>
                  <a:lnTo>
                    <a:pt x="12745" y="14118"/>
                  </a:lnTo>
                  <a:lnTo>
                    <a:pt x="12650" y="14364"/>
                  </a:lnTo>
                  <a:lnTo>
                    <a:pt x="12650" y="14527"/>
                  </a:lnTo>
                  <a:lnTo>
                    <a:pt x="12745" y="14801"/>
                  </a:lnTo>
                  <a:lnTo>
                    <a:pt x="12840" y="14964"/>
                  </a:lnTo>
                  <a:lnTo>
                    <a:pt x="12966" y="15128"/>
                  </a:lnTo>
                  <a:lnTo>
                    <a:pt x="13061" y="15292"/>
                  </a:lnTo>
                  <a:lnTo>
                    <a:pt x="13251" y="15456"/>
                  </a:lnTo>
                  <a:lnTo>
                    <a:pt x="13441" y="15538"/>
                  </a:lnTo>
                  <a:lnTo>
                    <a:pt x="13061" y="15811"/>
                  </a:lnTo>
                  <a:lnTo>
                    <a:pt x="12745" y="16057"/>
                  </a:lnTo>
                  <a:lnTo>
                    <a:pt x="12365" y="16302"/>
                  </a:lnTo>
                  <a:lnTo>
                    <a:pt x="11986" y="16548"/>
                  </a:lnTo>
                  <a:lnTo>
                    <a:pt x="11575" y="16794"/>
                  </a:lnTo>
                  <a:lnTo>
                    <a:pt x="11195" y="17067"/>
                  </a:lnTo>
                  <a:lnTo>
                    <a:pt x="10911" y="17313"/>
                  </a:lnTo>
                  <a:lnTo>
                    <a:pt x="10531" y="17559"/>
                  </a:lnTo>
                  <a:lnTo>
                    <a:pt x="10120" y="17995"/>
                  </a:lnTo>
                  <a:lnTo>
                    <a:pt x="10025" y="18077"/>
                  </a:lnTo>
                  <a:lnTo>
                    <a:pt x="9930" y="18241"/>
                  </a:lnTo>
                  <a:lnTo>
                    <a:pt x="9835" y="18405"/>
                  </a:lnTo>
                  <a:lnTo>
                    <a:pt x="9835" y="18487"/>
                  </a:lnTo>
                  <a:lnTo>
                    <a:pt x="9835" y="18651"/>
                  </a:lnTo>
                  <a:lnTo>
                    <a:pt x="9835" y="18815"/>
                  </a:lnTo>
                  <a:lnTo>
                    <a:pt x="9835" y="18979"/>
                  </a:lnTo>
                  <a:lnTo>
                    <a:pt x="9930" y="19088"/>
                  </a:lnTo>
                  <a:lnTo>
                    <a:pt x="10025" y="19334"/>
                  </a:lnTo>
                  <a:lnTo>
                    <a:pt x="10215" y="19579"/>
                  </a:lnTo>
                  <a:lnTo>
                    <a:pt x="10436" y="19743"/>
                  </a:lnTo>
                  <a:lnTo>
                    <a:pt x="10626" y="19825"/>
                  </a:lnTo>
                  <a:lnTo>
                    <a:pt x="10911" y="19907"/>
                  </a:lnTo>
                  <a:lnTo>
                    <a:pt x="11195" y="19989"/>
                  </a:lnTo>
                  <a:lnTo>
                    <a:pt x="11480" y="19989"/>
                  </a:lnTo>
                  <a:lnTo>
                    <a:pt x="11796" y="19907"/>
                  </a:lnTo>
                  <a:lnTo>
                    <a:pt x="12176" y="19825"/>
                  </a:lnTo>
                  <a:lnTo>
                    <a:pt x="12365" y="19743"/>
                  </a:lnTo>
                  <a:lnTo>
                    <a:pt x="12650" y="19661"/>
                  </a:lnTo>
                  <a:lnTo>
                    <a:pt x="12840" y="19579"/>
                  </a:lnTo>
                  <a:lnTo>
                    <a:pt x="13156" y="19497"/>
                  </a:lnTo>
                  <a:lnTo>
                    <a:pt x="13441" y="19415"/>
                  </a:lnTo>
                  <a:lnTo>
                    <a:pt x="13630" y="19334"/>
                  </a:lnTo>
                  <a:lnTo>
                    <a:pt x="13915" y="19334"/>
                  </a:lnTo>
                  <a:lnTo>
                    <a:pt x="14105" y="19252"/>
                  </a:lnTo>
                  <a:lnTo>
                    <a:pt x="14010" y="19334"/>
                  </a:lnTo>
                  <a:lnTo>
                    <a:pt x="13915" y="19415"/>
                  </a:lnTo>
                  <a:lnTo>
                    <a:pt x="13820" y="19497"/>
                  </a:lnTo>
                  <a:lnTo>
                    <a:pt x="13725" y="19579"/>
                  </a:lnTo>
                  <a:lnTo>
                    <a:pt x="13630" y="19661"/>
                  </a:lnTo>
                  <a:lnTo>
                    <a:pt x="13915" y="19907"/>
                  </a:lnTo>
                  <a:lnTo>
                    <a:pt x="14105" y="20180"/>
                  </a:lnTo>
                  <a:lnTo>
                    <a:pt x="14421" y="20426"/>
                  </a:lnTo>
                  <a:lnTo>
                    <a:pt x="14611" y="20672"/>
                  </a:lnTo>
                  <a:lnTo>
                    <a:pt x="14895" y="20835"/>
                  </a:lnTo>
                  <a:lnTo>
                    <a:pt x="15085" y="21081"/>
                  </a:lnTo>
                  <a:lnTo>
                    <a:pt x="15370" y="21354"/>
                  </a:lnTo>
                  <a:lnTo>
                    <a:pt x="15686" y="21600"/>
                  </a:lnTo>
                  <a:lnTo>
                    <a:pt x="15781" y="21518"/>
                  </a:lnTo>
                  <a:lnTo>
                    <a:pt x="15876" y="21436"/>
                  </a:lnTo>
                  <a:lnTo>
                    <a:pt x="15971" y="21354"/>
                  </a:lnTo>
                  <a:lnTo>
                    <a:pt x="16066" y="21272"/>
                  </a:lnTo>
                  <a:lnTo>
                    <a:pt x="16160" y="21163"/>
                  </a:lnTo>
                  <a:lnTo>
                    <a:pt x="16160" y="21081"/>
                  </a:lnTo>
                  <a:lnTo>
                    <a:pt x="16540" y="20835"/>
                  </a:lnTo>
                  <a:lnTo>
                    <a:pt x="16856" y="20508"/>
                  </a:lnTo>
                  <a:lnTo>
                    <a:pt x="17236" y="20262"/>
                  </a:lnTo>
                  <a:lnTo>
                    <a:pt x="17520" y="19989"/>
                  </a:lnTo>
                  <a:lnTo>
                    <a:pt x="17805" y="19661"/>
                  </a:lnTo>
                  <a:lnTo>
                    <a:pt x="18216" y="19415"/>
                  </a:lnTo>
                  <a:lnTo>
                    <a:pt x="18501" y="19088"/>
                  </a:lnTo>
                  <a:lnTo>
                    <a:pt x="18785" y="18815"/>
                  </a:lnTo>
                  <a:lnTo>
                    <a:pt x="19576" y="17804"/>
                  </a:lnTo>
                  <a:lnTo>
                    <a:pt x="19576" y="17722"/>
                  </a:lnTo>
                  <a:lnTo>
                    <a:pt x="19671" y="17559"/>
                  </a:lnTo>
                  <a:lnTo>
                    <a:pt x="19671" y="17477"/>
                  </a:lnTo>
                  <a:lnTo>
                    <a:pt x="19671" y="17395"/>
                  </a:lnTo>
                  <a:lnTo>
                    <a:pt x="19671" y="17231"/>
                  </a:lnTo>
                  <a:lnTo>
                    <a:pt x="19671" y="17149"/>
                  </a:lnTo>
                  <a:lnTo>
                    <a:pt x="19671" y="16985"/>
                  </a:lnTo>
                  <a:lnTo>
                    <a:pt x="19576" y="16903"/>
                  </a:lnTo>
                  <a:lnTo>
                    <a:pt x="19481" y="16630"/>
                  </a:lnTo>
                  <a:lnTo>
                    <a:pt x="19386" y="16466"/>
                  </a:lnTo>
                  <a:lnTo>
                    <a:pt x="19291" y="16302"/>
                  </a:lnTo>
                  <a:lnTo>
                    <a:pt x="19070" y="16139"/>
                  </a:lnTo>
                  <a:lnTo>
                    <a:pt x="18880" y="15975"/>
                  </a:lnTo>
                  <a:lnTo>
                    <a:pt x="18690" y="15893"/>
                  </a:lnTo>
                  <a:lnTo>
                    <a:pt x="18501" y="15811"/>
                  </a:lnTo>
                  <a:lnTo>
                    <a:pt x="18311" y="15811"/>
                  </a:lnTo>
                  <a:lnTo>
                    <a:pt x="18026" y="15811"/>
                  </a:lnTo>
                  <a:lnTo>
                    <a:pt x="18216" y="15620"/>
                  </a:lnTo>
                  <a:lnTo>
                    <a:pt x="18406" y="15456"/>
                  </a:lnTo>
                  <a:lnTo>
                    <a:pt x="18596" y="15374"/>
                  </a:lnTo>
                  <a:lnTo>
                    <a:pt x="18785" y="15210"/>
                  </a:lnTo>
                  <a:lnTo>
                    <a:pt x="18975" y="15128"/>
                  </a:lnTo>
                  <a:lnTo>
                    <a:pt x="19165" y="14964"/>
                  </a:lnTo>
                  <a:lnTo>
                    <a:pt x="19386" y="14801"/>
                  </a:lnTo>
                  <a:lnTo>
                    <a:pt x="19576" y="14719"/>
                  </a:lnTo>
                  <a:lnTo>
                    <a:pt x="20145" y="14036"/>
                  </a:lnTo>
                  <a:lnTo>
                    <a:pt x="20240" y="13954"/>
                  </a:lnTo>
                  <a:lnTo>
                    <a:pt x="20335" y="13790"/>
                  </a:lnTo>
                  <a:lnTo>
                    <a:pt x="20335" y="13708"/>
                  </a:lnTo>
                  <a:lnTo>
                    <a:pt x="20461" y="13626"/>
                  </a:lnTo>
                  <a:lnTo>
                    <a:pt x="20461" y="13435"/>
                  </a:lnTo>
                  <a:lnTo>
                    <a:pt x="20556" y="13353"/>
                  </a:lnTo>
                  <a:lnTo>
                    <a:pt x="20556" y="13271"/>
                  </a:lnTo>
                  <a:lnTo>
                    <a:pt x="20556" y="13107"/>
                  </a:lnTo>
                  <a:lnTo>
                    <a:pt x="20461" y="12944"/>
                  </a:lnTo>
                  <a:lnTo>
                    <a:pt x="20461" y="12698"/>
                  </a:lnTo>
                  <a:lnTo>
                    <a:pt x="20240" y="12534"/>
                  </a:lnTo>
                  <a:lnTo>
                    <a:pt x="20145" y="12343"/>
                  </a:lnTo>
                  <a:lnTo>
                    <a:pt x="19955" y="12179"/>
                  </a:lnTo>
                  <a:lnTo>
                    <a:pt x="19766" y="12097"/>
                  </a:lnTo>
                  <a:lnTo>
                    <a:pt x="19576" y="12015"/>
                  </a:lnTo>
                  <a:lnTo>
                    <a:pt x="19386" y="11933"/>
                  </a:lnTo>
                  <a:lnTo>
                    <a:pt x="19481" y="11851"/>
                  </a:lnTo>
                  <a:lnTo>
                    <a:pt x="19576" y="11769"/>
                  </a:lnTo>
                  <a:lnTo>
                    <a:pt x="19671" y="11687"/>
                  </a:lnTo>
                  <a:lnTo>
                    <a:pt x="19766" y="11606"/>
                  </a:lnTo>
                  <a:lnTo>
                    <a:pt x="19861" y="11524"/>
                  </a:lnTo>
                  <a:lnTo>
                    <a:pt x="19955" y="11442"/>
                  </a:lnTo>
                  <a:lnTo>
                    <a:pt x="20050" y="11332"/>
                  </a:lnTo>
                  <a:lnTo>
                    <a:pt x="20145" y="11251"/>
                  </a:lnTo>
                  <a:lnTo>
                    <a:pt x="21220" y="10431"/>
                  </a:lnTo>
                  <a:close/>
                  <a:moveTo>
                    <a:pt x="16856" y="16794"/>
                  </a:moveTo>
                  <a:lnTo>
                    <a:pt x="16856" y="16712"/>
                  </a:lnTo>
                  <a:lnTo>
                    <a:pt x="16856" y="16794"/>
                  </a:lnTo>
                  <a:close/>
                  <a:moveTo>
                    <a:pt x="16856" y="16794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AutoShape 66"/>
            <p:cNvSpPr/>
            <p:nvPr/>
          </p:nvSpPr>
          <p:spPr>
            <a:xfrm>
              <a:off x="5262840" y="2114640"/>
              <a:ext cx="1857240" cy="164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3268"/>
                  </a:moveTo>
                  <a:lnTo>
                    <a:pt x="21545" y="13081"/>
                  </a:lnTo>
                  <a:lnTo>
                    <a:pt x="21489" y="12935"/>
                  </a:lnTo>
                  <a:lnTo>
                    <a:pt x="21378" y="12810"/>
                  </a:lnTo>
                  <a:lnTo>
                    <a:pt x="21249" y="12685"/>
                  </a:lnTo>
                  <a:lnTo>
                    <a:pt x="21083" y="12623"/>
                  </a:lnTo>
                  <a:lnTo>
                    <a:pt x="20972" y="12560"/>
                  </a:lnTo>
                  <a:lnTo>
                    <a:pt x="20806" y="12560"/>
                  </a:lnTo>
                  <a:lnTo>
                    <a:pt x="20640" y="12560"/>
                  </a:lnTo>
                  <a:lnTo>
                    <a:pt x="20806" y="12373"/>
                  </a:lnTo>
                  <a:lnTo>
                    <a:pt x="20862" y="12310"/>
                  </a:lnTo>
                  <a:lnTo>
                    <a:pt x="20917" y="12248"/>
                  </a:lnTo>
                  <a:lnTo>
                    <a:pt x="20972" y="12102"/>
                  </a:lnTo>
                  <a:lnTo>
                    <a:pt x="20972" y="12039"/>
                  </a:lnTo>
                  <a:lnTo>
                    <a:pt x="20972" y="11914"/>
                  </a:lnTo>
                  <a:lnTo>
                    <a:pt x="21028" y="11789"/>
                  </a:lnTo>
                  <a:lnTo>
                    <a:pt x="21028" y="11727"/>
                  </a:lnTo>
                  <a:lnTo>
                    <a:pt x="21028" y="11602"/>
                  </a:lnTo>
                  <a:lnTo>
                    <a:pt x="20972" y="11477"/>
                  </a:lnTo>
                  <a:lnTo>
                    <a:pt x="20972" y="11414"/>
                  </a:lnTo>
                  <a:lnTo>
                    <a:pt x="20917" y="11269"/>
                  </a:lnTo>
                  <a:lnTo>
                    <a:pt x="20862" y="11144"/>
                  </a:lnTo>
                  <a:lnTo>
                    <a:pt x="20751" y="11081"/>
                  </a:lnTo>
                  <a:lnTo>
                    <a:pt x="20695" y="11019"/>
                  </a:lnTo>
                  <a:lnTo>
                    <a:pt x="20640" y="10956"/>
                  </a:lnTo>
                  <a:lnTo>
                    <a:pt x="20511" y="10894"/>
                  </a:lnTo>
                  <a:lnTo>
                    <a:pt x="20511" y="10831"/>
                  </a:lnTo>
                  <a:lnTo>
                    <a:pt x="20511" y="10769"/>
                  </a:lnTo>
                  <a:lnTo>
                    <a:pt x="20455" y="10644"/>
                  </a:lnTo>
                  <a:lnTo>
                    <a:pt x="20455" y="10581"/>
                  </a:lnTo>
                  <a:lnTo>
                    <a:pt x="20455" y="10519"/>
                  </a:lnTo>
                  <a:lnTo>
                    <a:pt x="20400" y="10373"/>
                  </a:lnTo>
                  <a:lnTo>
                    <a:pt x="20345" y="10311"/>
                  </a:lnTo>
                  <a:lnTo>
                    <a:pt x="20345" y="10248"/>
                  </a:lnTo>
                  <a:lnTo>
                    <a:pt x="20289" y="10186"/>
                  </a:lnTo>
                  <a:lnTo>
                    <a:pt x="20234" y="10123"/>
                  </a:lnTo>
                  <a:lnTo>
                    <a:pt x="20123" y="10061"/>
                  </a:lnTo>
                  <a:lnTo>
                    <a:pt x="20068" y="9998"/>
                  </a:lnTo>
                  <a:lnTo>
                    <a:pt x="20123" y="9602"/>
                  </a:lnTo>
                  <a:lnTo>
                    <a:pt x="20123" y="9540"/>
                  </a:lnTo>
                  <a:lnTo>
                    <a:pt x="20123" y="9477"/>
                  </a:lnTo>
                  <a:lnTo>
                    <a:pt x="20123" y="9415"/>
                  </a:lnTo>
                  <a:lnTo>
                    <a:pt x="20123" y="9352"/>
                  </a:lnTo>
                  <a:lnTo>
                    <a:pt x="20068" y="9227"/>
                  </a:lnTo>
                  <a:lnTo>
                    <a:pt x="20012" y="9165"/>
                  </a:lnTo>
                  <a:lnTo>
                    <a:pt x="20012" y="9102"/>
                  </a:lnTo>
                  <a:lnTo>
                    <a:pt x="19957" y="9040"/>
                  </a:lnTo>
                  <a:lnTo>
                    <a:pt x="19902" y="8977"/>
                  </a:lnTo>
                  <a:lnTo>
                    <a:pt x="19828" y="8915"/>
                  </a:lnTo>
                  <a:lnTo>
                    <a:pt x="19772" y="8852"/>
                  </a:lnTo>
                  <a:lnTo>
                    <a:pt x="19717" y="8769"/>
                  </a:lnTo>
                  <a:lnTo>
                    <a:pt x="19828" y="8644"/>
                  </a:lnTo>
                  <a:lnTo>
                    <a:pt x="19902" y="8519"/>
                  </a:lnTo>
                  <a:lnTo>
                    <a:pt x="20012" y="8394"/>
                  </a:lnTo>
                  <a:lnTo>
                    <a:pt x="20068" y="8207"/>
                  </a:lnTo>
                  <a:lnTo>
                    <a:pt x="20068" y="8082"/>
                  </a:lnTo>
                  <a:lnTo>
                    <a:pt x="20068" y="7873"/>
                  </a:lnTo>
                  <a:lnTo>
                    <a:pt x="20068" y="7686"/>
                  </a:lnTo>
                  <a:lnTo>
                    <a:pt x="20012" y="7561"/>
                  </a:lnTo>
                  <a:lnTo>
                    <a:pt x="19902" y="7374"/>
                  </a:lnTo>
                  <a:lnTo>
                    <a:pt x="19772" y="7249"/>
                  </a:lnTo>
                  <a:lnTo>
                    <a:pt x="19662" y="7186"/>
                  </a:lnTo>
                  <a:lnTo>
                    <a:pt x="19551" y="7103"/>
                  </a:lnTo>
                  <a:lnTo>
                    <a:pt x="19385" y="7040"/>
                  </a:lnTo>
                  <a:lnTo>
                    <a:pt x="19274" y="7040"/>
                  </a:lnTo>
                  <a:lnTo>
                    <a:pt x="19089" y="7040"/>
                  </a:lnTo>
                  <a:lnTo>
                    <a:pt x="18923" y="7040"/>
                  </a:lnTo>
                  <a:lnTo>
                    <a:pt x="18868" y="6978"/>
                  </a:lnTo>
                  <a:lnTo>
                    <a:pt x="18757" y="6853"/>
                  </a:lnTo>
                  <a:lnTo>
                    <a:pt x="18646" y="6790"/>
                  </a:lnTo>
                  <a:lnTo>
                    <a:pt x="18535" y="6728"/>
                  </a:lnTo>
                  <a:lnTo>
                    <a:pt x="18425" y="6728"/>
                  </a:lnTo>
                  <a:lnTo>
                    <a:pt x="18295" y="6728"/>
                  </a:lnTo>
                  <a:lnTo>
                    <a:pt x="18129" y="6728"/>
                  </a:lnTo>
                  <a:lnTo>
                    <a:pt x="18018" y="6790"/>
                  </a:lnTo>
                  <a:lnTo>
                    <a:pt x="17686" y="6915"/>
                  </a:lnTo>
                  <a:lnTo>
                    <a:pt x="17612" y="6915"/>
                  </a:lnTo>
                  <a:lnTo>
                    <a:pt x="17557" y="6915"/>
                  </a:lnTo>
                  <a:lnTo>
                    <a:pt x="17557" y="6978"/>
                  </a:lnTo>
                  <a:lnTo>
                    <a:pt x="17502" y="6978"/>
                  </a:lnTo>
                  <a:lnTo>
                    <a:pt x="17446" y="6978"/>
                  </a:lnTo>
                  <a:lnTo>
                    <a:pt x="18018" y="6540"/>
                  </a:lnTo>
                  <a:lnTo>
                    <a:pt x="18129" y="6603"/>
                  </a:lnTo>
                  <a:lnTo>
                    <a:pt x="18185" y="6603"/>
                  </a:lnTo>
                  <a:lnTo>
                    <a:pt x="18295" y="6665"/>
                  </a:lnTo>
                  <a:lnTo>
                    <a:pt x="18425" y="6665"/>
                  </a:lnTo>
                  <a:lnTo>
                    <a:pt x="18535" y="6665"/>
                  </a:lnTo>
                  <a:lnTo>
                    <a:pt x="18646" y="6665"/>
                  </a:lnTo>
                  <a:lnTo>
                    <a:pt x="18757" y="6603"/>
                  </a:lnTo>
                  <a:lnTo>
                    <a:pt x="18868" y="6603"/>
                  </a:lnTo>
                  <a:lnTo>
                    <a:pt x="18978" y="6540"/>
                  </a:lnTo>
                  <a:lnTo>
                    <a:pt x="19034" y="6478"/>
                  </a:lnTo>
                  <a:lnTo>
                    <a:pt x="19163" y="6415"/>
                  </a:lnTo>
                  <a:lnTo>
                    <a:pt x="19274" y="6353"/>
                  </a:lnTo>
                  <a:lnTo>
                    <a:pt x="19329" y="6270"/>
                  </a:lnTo>
                  <a:lnTo>
                    <a:pt x="19440" y="6207"/>
                  </a:lnTo>
                  <a:lnTo>
                    <a:pt x="19495" y="6145"/>
                  </a:lnTo>
                  <a:lnTo>
                    <a:pt x="19606" y="6082"/>
                  </a:lnTo>
                  <a:lnTo>
                    <a:pt x="20068" y="5186"/>
                  </a:lnTo>
                  <a:lnTo>
                    <a:pt x="20068" y="5124"/>
                  </a:lnTo>
                  <a:lnTo>
                    <a:pt x="20068" y="5062"/>
                  </a:lnTo>
                  <a:lnTo>
                    <a:pt x="20068" y="4812"/>
                  </a:lnTo>
                  <a:lnTo>
                    <a:pt x="20068" y="4541"/>
                  </a:lnTo>
                  <a:lnTo>
                    <a:pt x="19957" y="4291"/>
                  </a:lnTo>
                  <a:lnTo>
                    <a:pt x="19828" y="4103"/>
                  </a:lnTo>
                  <a:lnTo>
                    <a:pt x="19662" y="3916"/>
                  </a:lnTo>
                  <a:lnTo>
                    <a:pt x="19495" y="3770"/>
                  </a:lnTo>
                  <a:lnTo>
                    <a:pt x="19274" y="3645"/>
                  </a:lnTo>
                  <a:lnTo>
                    <a:pt x="19034" y="3583"/>
                  </a:lnTo>
                  <a:lnTo>
                    <a:pt x="18480" y="3583"/>
                  </a:lnTo>
                  <a:lnTo>
                    <a:pt x="18425" y="3583"/>
                  </a:lnTo>
                  <a:lnTo>
                    <a:pt x="18351" y="3645"/>
                  </a:lnTo>
                  <a:lnTo>
                    <a:pt x="18295" y="3645"/>
                  </a:lnTo>
                  <a:lnTo>
                    <a:pt x="18240" y="3645"/>
                  </a:lnTo>
                  <a:lnTo>
                    <a:pt x="18185" y="3645"/>
                  </a:lnTo>
                  <a:lnTo>
                    <a:pt x="18240" y="3583"/>
                  </a:lnTo>
                  <a:lnTo>
                    <a:pt x="18295" y="3520"/>
                  </a:lnTo>
                  <a:lnTo>
                    <a:pt x="18351" y="3395"/>
                  </a:lnTo>
                  <a:lnTo>
                    <a:pt x="18351" y="3333"/>
                  </a:lnTo>
                  <a:lnTo>
                    <a:pt x="18425" y="3270"/>
                  </a:lnTo>
                  <a:lnTo>
                    <a:pt x="18425" y="3145"/>
                  </a:lnTo>
                  <a:lnTo>
                    <a:pt x="18480" y="3083"/>
                  </a:lnTo>
                  <a:lnTo>
                    <a:pt x="18480" y="2937"/>
                  </a:lnTo>
                  <a:lnTo>
                    <a:pt x="18535" y="2749"/>
                  </a:lnTo>
                  <a:lnTo>
                    <a:pt x="18535" y="2687"/>
                  </a:lnTo>
                  <a:lnTo>
                    <a:pt x="18535" y="2624"/>
                  </a:lnTo>
                  <a:lnTo>
                    <a:pt x="18535" y="2562"/>
                  </a:lnTo>
                  <a:lnTo>
                    <a:pt x="18535" y="2500"/>
                  </a:lnTo>
                  <a:lnTo>
                    <a:pt x="18535" y="2437"/>
                  </a:lnTo>
                  <a:lnTo>
                    <a:pt x="18535" y="2375"/>
                  </a:lnTo>
                  <a:lnTo>
                    <a:pt x="18480" y="2375"/>
                  </a:lnTo>
                  <a:lnTo>
                    <a:pt x="18480" y="2312"/>
                  </a:lnTo>
                  <a:lnTo>
                    <a:pt x="18425" y="2041"/>
                  </a:lnTo>
                  <a:lnTo>
                    <a:pt x="18295" y="1791"/>
                  </a:lnTo>
                  <a:lnTo>
                    <a:pt x="18185" y="1604"/>
                  </a:lnTo>
                  <a:lnTo>
                    <a:pt x="17963" y="1416"/>
                  </a:lnTo>
                  <a:lnTo>
                    <a:pt x="17797" y="1354"/>
                  </a:lnTo>
                  <a:lnTo>
                    <a:pt x="17557" y="1208"/>
                  </a:lnTo>
                  <a:lnTo>
                    <a:pt x="17335" y="1208"/>
                  </a:lnTo>
                  <a:lnTo>
                    <a:pt x="17114" y="1208"/>
                  </a:lnTo>
                  <a:lnTo>
                    <a:pt x="16708" y="1354"/>
                  </a:lnTo>
                  <a:lnTo>
                    <a:pt x="16431" y="1416"/>
                  </a:lnTo>
                  <a:lnTo>
                    <a:pt x="16209" y="1416"/>
                  </a:lnTo>
                  <a:lnTo>
                    <a:pt x="15914" y="1479"/>
                  </a:lnTo>
                  <a:lnTo>
                    <a:pt x="15637" y="1541"/>
                  </a:lnTo>
                  <a:lnTo>
                    <a:pt x="15397" y="1604"/>
                  </a:lnTo>
                  <a:lnTo>
                    <a:pt x="15120" y="1666"/>
                  </a:lnTo>
                  <a:lnTo>
                    <a:pt x="14898" y="1729"/>
                  </a:lnTo>
                  <a:lnTo>
                    <a:pt x="14603" y="1791"/>
                  </a:lnTo>
                  <a:lnTo>
                    <a:pt x="14658" y="1729"/>
                  </a:lnTo>
                  <a:lnTo>
                    <a:pt x="14658" y="1604"/>
                  </a:lnTo>
                  <a:lnTo>
                    <a:pt x="14714" y="1541"/>
                  </a:lnTo>
                  <a:lnTo>
                    <a:pt x="14714" y="1416"/>
                  </a:lnTo>
                  <a:lnTo>
                    <a:pt x="14714" y="1271"/>
                  </a:lnTo>
                  <a:lnTo>
                    <a:pt x="14714" y="1208"/>
                  </a:lnTo>
                  <a:lnTo>
                    <a:pt x="14714" y="1083"/>
                  </a:lnTo>
                  <a:lnTo>
                    <a:pt x="14658" y="1021"/>
                  </a:lnTo>
                  <a:lnTo>
                    <a:pt x="14658" y="896"/>
                  </a:lnTo>
                  <a:lnTo>
                    <a:pt x="14548" y="646"/>
                  </a:lnTo>
                  <a:lnTo>
                    <a:pt x="14437" y="437"/>
                  </a:lnTo>
                  <a:lnTo>
                    <a:pt x="14271" y="250"/>
                  </a:lnTo>
                  <a:lnTo>
                    <a:pt x="14105" y="125"/>
                  </a:lnTo>
                  <a:lnTo>
                    <a:pt x="13865" y="0"/>
                  </a:lnTo>
                  <a:lnTo>
                    <a:pt x="13643" y="0"/>
                  </a:lnTo>
                  <a:lnTo>
                    <a:pt x="13422" y="0"/>
                  </a:lnTo>
                  <a:lnTo>
                    <a:pt x="13182" y="62"/>
                  </a:lnTo>
                  <a:lnTo>
                    <a:pt x="12738" y="187"/>
                  </a:lnTo>
                  <a:lnTo>
                    <a:pt x="12572" y="250"/>
                  </a:lnTo>
                  <a:lnTo>
                    <a:pt x="12388" y="312"/>
                  </a:lnTo>
                  <a:lnTo>
                    <a:pt x="12166" y="375"/>
                  </a:lnTo>
                  <a:lnTo>
                    <a:pt x="12000" y="437"/>
                  </a:lnTo>
                  <a:lnTo>
                    <a:pt x="11760" y="521"/>
                  </a:lnTo>
                  <a:lnTo>
                    <a:pt x="11594" y="583"/>
                  </a:lnTo>
                  <a:lnTo>
                    <a:pt x="11372" y="646"/>
                  </a:lnTo>
                  <a:lnTo>
                    <a:pt x="11206" y="708"/>
                  </a:lnTo>
                  <a:lnTo>
                    <a:pt x="11095" y="708"/>
                  </a:lnTo>
                  <a:lnTo>
                    <a:pt x="11022" y="708"/>
                  </a:lnTo>
                  <a:lnTo>
                    <a:pt x="10966" y="708"/>
                  </a:lnTo>
                  <a:lnTo>
                    <a:pt x="10911" y="708"/>
                  </a:lnTo>
                  <a:lnTo>
                    <a:pt x="10855" y="708"/>
                  </a:lnTo>
                  <a:lnTo>
                    <a:pt x="10745" y="771"/>
                  </a:lnTo>
                  <a:lnTo>
                    <a:pt x="10689" y="771"/>
                  </a:lnTo>
                  <a:lnTo>
                    <a:pt x="10634" y="833"/>
                  </a:lnTo>
                  <a:lnTo>
                    <a:pt x="10578" y="833"/>
                  </a:lnTo>
                  <a:lnTo>
                    <a:pt x="10523" y="896"/>
                  </a:lnTo>
                  <a:lnTo>
                    <a:pt x="10468" y="896"/>
                  </a:lnTo>
                  <a:lnTo>
                    <a:pt x="10412" y="896"/>
                  </a:lnTo>
                  <a:lnTo>
                    <a:pt x="10357" y="896"/>
                  </a:lnTo>
                  <a:lnTo>
                    <a:pt x="10357" y="958"/>
                  </a:lnTo>
                  <a:lnTo>
                    <a:pt x="10283" y="896"/>
                  </a:lnTo>
                  <a:lnTo>
                    <a:pt x="10283" y="833"/>
                  </a:lnTo>
                  <a:lnTo>
                    <a:pt x="10228" y="771"/>
                  </a:lnTo>
                  <a:lnTo>
                    <a:pt x="10228" y="708"/>
                  </a:lnTo>
                  <a:lnTo>
                    <a:pt x="10172" y="646"/>
                  </a:lnTo>
                  <a:lnTo>
                    <a:pt x="10172" y="583"/>
                  </a:lnTo>
                  <a:lnTo>
                    <a:pt x="10117" y="583"/>
                  </a:lnTo>
                  <a:lnTo>
                    <a:pt x="10062" y="521"/>
                  </a:lnTo>
                  <a:lnTo>
                    <a:pt x="9895" y="312"/>
                  </a:lnTo>
                  <a:lnTo>
                    <a:pt x="9674" y="187"/>
                  </a:lnTo>
                  <a:lnTo>
                    <a:pt x="9434" y="125"/>
                  </a:lnTo>
                  <a:lnTo>
                    <a:pt x="9212" y="125"/>
                  </a:lnTo>
                  <a:lnTo>
                    <a:pt x="8991" y="125"/>
                  </a:lnTo>
                  <a:lnTo>
                    <a:pt x="8806" y="187"/>
                  </a:lnTo>
                  <a:lnTo>
                    <a:pt x="8585" y="312"/>
                  </a:lnTo>
                  <a:lnTo>
                    <a:pt x="8418" y="521"/>
                  </a:lnTo>
                  <a:lnTo>
                    <a:pt x="8197" y="708"/>
                  </a:lnTo>
                  <a:lnTo>
                    <a:pt x="8012" y="833"/>
                  </a:lnTo>
                  <a:lnTo>
                    <a:pt x="7846" y="1021"/>
                  </a:lnTo>
                  <a:lnTo>
                    <a:pt x="7625" y="1146"/>
                  </a:lnTo>
                  <a:lnTo>
                    <a:pt x="7458" y="1354"/>
                  </a:lnTo>
                  <a:lnTo>
                    <a:pt x="7274" y="1479"/>
                  </a:lnTo>
                  <a:lnTo>
                    <a:pt x="7052" y="1666"/>
                  </a:lnTo>
                  <a:lnTo>
                    <a:pt x="6886" y="1791"/>
                  </a:lnTo>
                  <a:lnTo>
                    <a:pt x="6886" y="1854"/>
                  </a:lnTo>
                  <a:lnTo>
                    <a:pt x="6886" y="1916"/>
                  </a:lnTo>
                  <a:lnTo>
                    <a:pt x="6942" y="1916"/>
                  </a:lnTo>
                  <a:lnTo>
                    <a:pt x="6942" y="1979"/>
                  </a:lnTo>
                  <a:lnTo>
                    <a:pt x="6942" y="2041"/>
                  </a:lnTo>
                  <a:lnTo>
                    <a:pt x="6886" y="2041"/>
                  </a:lnTo>
                  <a:lnTo>
                    <a:pt x="6886" y="2104"/>
                  </a:lnTo>
                  <a:lnTo>
                    <a:pt x="6886" y="2187"/>
                  </a:lnTo>
                  <a:lnTo>
                    <a:pt x="6942" y="2187"/>
                  </a:lnTo>
                  <a:lnTo>
                    <a:pt x="6942" y="2250"/>
                  </a:lnTo>
                  <a:lnTo>
                    <a:pt x="6997" y="2312"/>
                  </a:lnTo>
                  <a:lnTo>
                    <a:pt x="6997" y="2375"/>
                  </a:lnTo>
                  <a:lnTo>
                    <a:pt x="6997" y="2437"/>
                  </a:lnTo>
                  <a:lnTo>
                    <a:pt x="6997" y="2375"/>
                  </a:lnTo>
                  <a:lnTo>
                    <a:pt x="6942" y="2375"/>
                  </a:lnTo>
                  <a:lnTo>
                    <a:pt x="6942" y="2312"/>
                  </a:lnTo>
                  <a:lnTo>
                    <a:pt x="6942" y="2250"/>
                  </a:lnTo>
                  <a:lnTo>
                    <a:pt x="6886" y="2187"/>
                  </a:lnTo>
                  <a:lnTo>
                    <a:pt x="6886" y="2104"/>
                  </a:lnTo>
                  <a:lnTo>
                    <a:pt x="6535" y="2187"/>
                  </a:lnTo>
                  <a:lnTo>
                    <a:pt x="6831" y="3020"/>
                  </a:lnTo>
                  <a:lnTo>
                    <a:pt x="6775" y="3020"/>
                  </a:lnTo>
                  <a:lnTo>
                    <a:pt x="6775" y="3083"/>
                  </a:lnTo>
                  <a:lnTo>
                    <a:pt x="6720" y="3083"/>
                  </a:lnTo>
                  <a:lnTo>
                    <a:pt x="6646" y="3145"/>
                  </a:lnTo>
                  <a:lnTo>
                    <a:pt x="6591" y="3145"/>
                  </a:lnTo>
                  <a:lnTo>
                    <a:pt x="6203" y="2375"/>
                  </a:lnTo>
                  <a:lnTo>
                    <a:pt x="6092" y="2500"/>
                  </a:lnTo>
                  <a:lnTo>
                    <a:pt x="5908" y="2624"/>
                  </a:lnTo>
                  <a:lnTo>
                    <a:pt x="5852" y="2749"/>
                  </a:lnTo>
                  <a:lnTo>
                    <a:pt x="5742" y="2937"/>
                  </a:lnTo>
                  <a:lnTo>
                    <a:pt x="5686" y="3145"/>
                  </a:lnTo>
                  <a:lnTo>
                    <a:pt x="5686" y="3333"/>
                  </a:lnTo>
                  <a:lnTo>
                    <a:pt x="5686" y="3520"/>
                  </a:lnTo>
                  <a:lnTo>
                    <a:pt x="5686" y="3708"/>
                  </a:lnTo>
                  <a:lnTo>
                    <a:pt x="5575" y="3770"/>
                  </a:lnTo>
                  <a:lnTo>
                    <a:pt x="5520" y="3853"/>
                  </a:lnTo>
                  <a:lnTo>
                    <a:pt x="5409" y="3916"/>
                  </a:lnTo>
                  <a:lnTo>
                    <a:pt x="5354" y="3978"/>
                  </a:lnTo>
                  <a:lnTo>
                    <a:pt x="5243" y="4041"/>
                  </a:lnTo>
                  <a:lnTo>
                    <a:pt x="5169" y="4103"/>
                  </a:lnTo>
                  <a:lnTo>
                    <a:pt x="5058" y="4166"/>
                  </a:lnTo>
                  <a:lnTo>
                    <a:pt x="5003" y="4228"/>
                  </a:lnTo>
                  <a:lnTo>
                    <a:pt x="4726" y="4416"/>
                  </a:lnTo>
                  <a:lnTo>
                    <a:pt x="4671" y="4478"/>
                  </a:lnTo>
                  <a:lnTo>
                    <a:pt x="4560" y="4541"/>
                  </a:lnTo>
                  <a:lnTo>
                    <a:pt x="4505" y="4687"/>
                  </a:lnTo>
                  <a:lnTo>
                    <a:pt x="4375" y="4812"/>
                  </a:lnTo>
                  <a:lnTo>
                    <a:pt x="4375" y="4937"/>
                  </a:lnTo>
                  <a:lnTo>
                    <a:pt x="4320" y="5062"/>
                  </a:lnTo>
                  <a:lnTo>
                    <a:pt x="4320" y="5186"/>
                  </a:lnTo>
                  <a:lnTo>
                    <a:pt x="4320" y="5374"/>
                  </a:lnTo>
                  <a:lnTo>
                    <a:pt x="4375" y="5582"/>
                  </a:lnTo>
                  <a:lnTo>
                    <a:pt x="4431" y="5707"/>
                  </a:lnTo>
                  <a:lnTo>
                    <a:pt x="4560" y="5895"/>
                  </a:lnTo>
                  <a:lnTo>
                    <a:pt x="4671" y="6020"/>
                  </a:lnTo>
                  <a:lnTo>
                    <a:pt x="4782" y="6082"/>
                  </a:lnTo>
                  <a:lnTo>
                    <a:pt x="4948" y="6145"/>
                  </a:lnTo>
                  <a:lnTo>
                    <a:pt x="5114" y="6207"/>
                  </a:lnTo>
                  <a:lnTo>
                    <a:pt x="5298" y="6207"/>
                  </a:lnTo>
                  <a:lnTo>
                    <a:pt x="5742" y="6145"/>
                  </a:lnTo>
                  <a:lnTo>
                    <a:pt x="5631" y="6207"/>
                  </a:lnTo>
                  <a:lnTo>
                    <a:pt x="5575" y="6207"/>
                  </a:lnTo>
                  <a:lnTo>
                    <a:pt x="5465" y="6270"/>
                  </a:lnTo>
                  <a:lnTo>
                    <a:pt x="5409" y="6353"/>
                  </a:lnTo>
                  <a:lnTo>
                    <a:pt x="5298" y="6415"/>
                  </a:lnTo>
                  <a:lnTo>
                    <a:pt x="5169" y="6478"/>
                  </a:lnTo>
                  <a:lnTo>
                    <a:pt x="5114" y="6478"/>
                  </a:lnTo>
                  <a:lnTo>
                    <a:pt x="5003" y="6540"/>
                  </a:lnTo>
                  <a:lnTo>
                    <a:pt x="4892" y="6603"/>
                  </a:lnTo>
                  <a:lnTo>
                    <a:pt x="4782" y="6665"/>
                  </a:lnTo>
                  <a:lnTo>
                    <a:pt x="4615" y="6790"/>
                  </a:lnTo>
                  <a:lnTo>
                    <a:pt x="4505" y="6915"/>
                  </a:lnTo>
                  <a:lnTo>
                    <a:pt x="4375" y="7040"/>
                  </a:lnTo>
                  <a:lnTo>
                    <a:pt x="4320" y="7249"/>
                  </a:lnTo>
                  <a:lnTo>
                    <a:pt x="4265" y="7374"/>
                  </a:lnTo>
                  <a:lnTo>
                    <a:pt x="4265" y="7561"/>
                  </a:lnTo>
                  <a:lnTo>
                    <a:pt x="4265" y="7749"/>
                  </a:lnTo>
                  <a:lnTo>
                    <a:pt x="4320" y="7936"/>
                  </a:lnTo>
                  <a:lnTo>
                    <a:pt x="4375" y="8019"/>
                  </a:lnTo>
                  <a:lnTo>
                    <a:pt x="4375" y="8082"/>
                  </a:lnTo>
                  <a:lnTo>
                    <a:pt x="4431" y="8144"/>
                  </a:lnTo>
                  <a:lnTo>
                    <a:pt x="4505" y="8207"/>
                  </a:lnTo>
                  <a:lnTo>
                    <a:pt x="4560" y="8269"/>
                  </a:lnTo>
                  <a:lnTo>
                    <a:pt x="4615" y="8332"/>
                  </a:lnTo>
                  <a:lnTo>
                    <a:pt x="4671" y="8394"/>
                  </a:lnTo>
                  <a:lnTo>
                    <a:pt x="4726" y="8394"/>
                  </a:lnTo>
                  <a:lnTo>
                    <a:pt x="4671" y="8457"/>
                  </a:lnTo>
                  <a:lnTo>
                    <a:pt x="4671" y="8519"/>
                  </a:lnTo>
                  <a:lnTo>
                    <a:pt x="4615" y="8519"/>
                  </a:lnTo>
                  <a:lnTo>
                    <a:pt x="4560" y="8582"/>
                  </a:lnTo>
                  <a:lnTo>
                    <a:pt x="4505" y="8644"/>
                  </a:lnTo>
                  <a:lnTo>
                    <a:pt x="4431" y="8707"/>
                  </a:lnTo>
                  <a:lnTo>
                    <a:pt x="4375" y="8769"/>
                  </a:lnTo>
                  <a:lnTo>
                    <a:pt x="4209" y="8977"/>
                  </a:lnTo>
                  <a:lnTo>
                    <a:pt x="4154" y="9102"/>
                  </a:lnTo>
                  <a:lnTo>
                    <a:pt x="4043" y="9165"/>
                  </a:lnTo>
                  <a:lnTo>
                    <a:pt x="3988" y="9290"/>
                  </a:lnTo>
                  <a:lnTo>
                    <a:pt x="3988" y="9477"/>
                  </a:lnTo>
                  <a:lnTo>
                    <a:pt x="3932" y="9602"/>
                  </a:lnTo>
                  <a:lnTo>
                    <a:pt x="3932" y="9748"/>
                  </a:lnTo>
                  <a:lnTo>
                    <a:pt x="3988" y="9936"/>
                  </a:lnTo>
                  <a:lnTo>
                    <a:pt x="3988" y="10061"/>
                  </a:lnTo>
                  <a:lnTo>
                    <a:pt x="3526" y="10373"/>
                  </a:lnTo>
                  <a:lnTo>
                    <a:pt x="3138" y="10706"/>
                  </a:lnTo>
                  <a:lnTo>
                    <a:pt x="2677" y="11081"/>
                  </a:lnTo>
                  <a:lnTo>
                    <a:pt x="2215" y="11414"/>
                  </a:lnTo>
                  <a:lnTo>
                    <a:pt x="1828" y="11727"/>
                  </a:lnTo>
                  <a:lnTo>
                    <a:pt x="1366" y="12039"/>
                  </a:lnTo>
                  <a:lnTo>
                    <a:pt x="923" y="12435"/>
                  </a:lnTo>
                  <a:lnTo>
                    <a:pt x="462" y="12685"/>
                  </a:lnTo>
                  <a:lnTo>
                    <a:pt x="240" y="13018"/>
                  </a:lnTo>
                  <a:lnTo>
                    <a:pt x="185" y="13143"/>
                  </a:lnTo>
                  <a:lnTo>
                    <a:pt x="129" y="13206"/>
                  </a:lnTo>
                  <a:lnTo>
                    <a:pt x="55" y="13331"/>
                  </a:lnTo>
                  <a:lnTo>
                    <a:pt x="0" y="13393"/>
                  </a:lnTo>
                  <a:lnTo>
                    <a:pt x="0" y="13518"/>
                  </a:lnTo>
                  <a:lnTo>
                    <a:pt x="0" y="13643"/>
                  </a:lnTo>
                  <a:lnTo>
                    <a:pt x="0" y="13768"/>
                  </a:lnTo>
                  <a:lnTo>
                    <a:pt x="0" y="13914"/>
                  </a:lnTo>
                  <a:lnTo>
                    <a:pt x="55" y="14101"/>
                  </a:lnTo>
                  <a:lnTo>
                    <a:pt x="185" y="14226"/>
                  </a:lnTo>
                  <a:lnTo>
                    <a:pt x="295" y="14351"/>
                  </a:lnTo>
                  <a:lnTo>
                    <a:pt x="406" y="14476"/>
                  </a:lnTo>
                  <a:lnTo>
                    <a:pt x="572" y="14539"/>
                  </a:lnTo>
                  <a:lnTo>
                    <a:pt x="738" y="14601"/>
                  </a:lnTo>
                  <a:lnTo>
                    <a:pt x="923" y="14601"/>
                  </a:lnTo>
                  <a:lnTo>
                    <a:pt x="1089" y="14601"/>
                  </a:lnTo>
                  <a:lnTo>
                    <a:pt x="1606" y="14476"/>
                  </a:lnTo>
                  <a:lnTo>
                    <a:pt x="1717" y="14414"/>
                  </a:lnTo>
                  <a:lnTo>
                    <a:pt x="1828" y="14351"/>
                  </a:lnTo>
                  <a:lnTo>
                    <a:pt x="1938" y="14289"/>
                  </a:lnTo>
                  <a:lnTo>
                    <a:pt x="2105" y="14289"/>
                  </a:lnTo>
                  <a:lnTo>
                    <a:pt x="2215" y="14226"/>
                  </a:lnTo>
                  <a:lnTo>
                    <a:pt x="2345" y="14164"/>
                  </a:lnTo>
                  <a:lnTo>
                    <a:pt x="2455" y="14101"/>
                  </a:lnTo>
                  <a:lnTo>
                    <a:pt x="2566" y="14101"/>
                  </a:lnTo>
                  <a:lnTo>
                    <a:pt x="2511" y="14101"/>
                  </a:lnTo>
                  <a:lnTo>
                    <a:pt x="2511" y="14164"/>
                  </a:lnTo>
                  <a:lnTo>
                    <a:pt x="2455" y="14164"/>
                  </a:lnTo>
                  <a:lnTo>
                    <a:pt x="2400" y="14226"/>
                  </a:lnTo>
                  <a:lnTo>
                    <a:pt x="2345" y="14289"/>
                  </a:lnTo>
                  <a:lnTo>
                    <a:pt x="2105" y="14476"/>
                  </a:lnTo>
                  <a:lnTo>
                    <a:pt x="1994" y="14601"/>
                  </a:lnTo>
                  <a:lnTo>
                    <a:pt x="1938" y="14747"/>
                  </a:lnTo>
                  <a:lnTo>
                    <a:pt x="1828" y="14872"/>
                  </a:lnTo>
                  <a:lnTo>
                    <a:pt x="1828" y="14997"/>
                  </a:lnTo>
                  <a:lnTo>
                    <a:pt x="1772" y="15185"/>
                  </a:lnTo>
                  <a:lnTo>
                    <a:pt x="1772" y="15310"/>
                  </a:lnTo>
                  <a:lnTo>
                    <a:pt x="1828" y="15518"/>
                  </a:lnTo>
                  <a:lnTo>
                    <a:pt x="1883" y="15643"/>
                  </a:lnTo>
                  <a:lnTo>
                    <a:pt x="1883" y="15768"/>
                  </a:lnTo>
                  <a:lnTo>
                    <a:pt x="1994" y="15830"/>
                  </a:lnTo>
                  <a:lnTo>
                    <a:pt x="2049" y="15955"/>
                  </a:lnTo>
                  <a:lnTo>
                    <a:pt x="2105" y="16018"/>
                  </a:lnTo>
                  <a:lnTo>
                    <a:pt x="2215" y="16080"/>
                  </a:lnTo>
                  <a:lnTo>
                    <a:pt x="2345" y="16143"/>
                  </a:lnTo>
                  <a:lnTo>
                    <a:pt x="2400" y="16143"/>
                  </a:lnTo>
                  <a:lnTo>
                    <a:pt x="2511" y="16205"/>
                  </a:lnTo>
                  <a:lnTo>
                    <a:pt x="2455" y="16268"/>
                  </a:lnTo>
                  <a:lnTo>
                    <a:pt x="2400" y="16414"/>
                  </a:lnTo>
                  <a:lnTo>
                    <a:pt x="2400" y="16538"/>
                  </a:lnTo>
                  <a:lnTo>
                    <a:pt x="2345" y="16663"/>
                  </a:lnTo>
                  <a:lnTo>
                    <a:pt x="2345" y="16726"/>
                  </a:lnTo>
                  <a:lnTo>
                    <a:pt x="2345" y="16851"/>
                  </a:lnTo>
                  <a:lnTo>
                    <a:pt x="2400" y="16976"/>
                  </a:lnTo>
                  <a:lnTo>
                    <a:pt x="2400" y="17101"/>
                  </a:lnTo>
                  <a:lnTo>
                    <a:pt x="2511" y="17309"/>
                  </a:lnTo>
                  <a:lnTo>
                    <a:pt x="2566" y="17434"/>
                  </a:lnTo>
                  <a:lnTo>
                    <a:pt x="2732" y="17559"/>
                  </a:lnTo>
                  <a:lnTo>
                    <a:pt x="2843" y="17684"/>
                  </a:lnTo>
                  <a:lnTo>
                    <a:pt x="3009" y="17747"/>
                  </a:lnTo>
                  <a:lnTo>
                    <a:pt x="3194" y="17747"/>
                  </a:lnTo>
                  <a:lnTo>
                    <a:pt x="3360" y="17747"/>
                  </a:lnTo>
                  <a:lnTo>
                    <a:pt x="3526" y="17684"/>
                  </a:lnTo>
                  <a:lnTo>
                    <a:pt x="3822" y="17559"/>
                  </a:lnTo>
                  <a:lnTo>
                    <a:pt x="4043" y="17497"/>
                  </a:lnTo>
                  <a:lnTo>
                    <a:pt x="4265" y="17372"/>
                  </a:lnTo>
                  <a:lnTo>
                    <a:pt x="4505" y="17309"/>
                  </a:lnTo>
                  <a:lnTo>
                    <a:pt x="4726" y="17247"/>
                  </a:lnTo>
                  <a:lnTo>
                    <a:pt x="4948" y="17101"/>
                  </a:lnTo>
                  <a:lnTo>
                    <a:pt x="5169" y="17038"/>
                  </a:lnTo>
                  <a:lnTo>
                    <a:pt x="5354" y="16976"/>
                  </a:lnTo>
                  <a:lnTo>
                    <a:pt x="5575" y="16913"/>
                  </a:lnTo>
                  <a:lnTo>
                    <a:pt x="5465" y="17038"/>
                  </a:lnTo>
                  <a:lnTo>
                    <a:pt x="5298" y="17184"/>
                  </a:lnTo>
                  <a:lnTo>
                    <a:pt x="5114" y="17309"/>
                  </a:lnTo>
                  <a:lnTo>
                    <a:pt x="4948" y="17434"/>
                  </a:lnTo>
                  <a:lnTo>
                    <a:pt x="4782" y="17559"/>
                  </a:lnTo>
                  <a:lnTo>
                    <a:pt x="4671" y="17684"/>
                  </a:lnTo>
                  <a:lnTo>
                    <a:pt x="4505" y="17809"/>
                  </a:lnTo>
                  <a:lnTo>
                    <a:pt x="4320" y="17934"/>
                  </a:lnTo>
                  <a:lnTo>
                    <a:pt x="4098" y="18142"/>
                  </a:lnTo>
                  <a:lnTo>
                    <a:pt x="3988" y="18267"/>
                  </a:lnTo>
                  <a:lnTo>
                    <a:pt x="3932" y="18392"/>
                  </a:lnTo>
                  <a:lnTo>
                    <a:pt x="3877" y="18517"/>
                  </a:lnTo>
                  <a:lnTo>
                    <a:pt x="3822" y="18642"/>
                  </a:lnTo>
                  <a:lnTo>
                    <a:pt x="3822" y="18767"/>
                  </a:lnTo>
                  <a:lnTo>
                    <a:pt x="3822" y="18913"/>
                  </a:lnTo>
                  <a:lnTo>
                    <a:pt x="3822" y="19100"/>
                  </a:lnTo>
                  <a:lnTo>
                    <a:pt x="3877" y="19225"/>
                  </a:lnTo>
                  <a:lnTo>
                    <a:pt x="3932" y="19413"/>
                  </a:lnTo>
                  <a:lnTo>
                    <a:pt x="4043" y="19538"/>
                  </a:lnTo>
                  <a:lnTo>
                    <a:pt x="4154" y="19684"/>
                  </a:lnTo>
                  <a:lnTo>
                    <a:pt x="4320" y="19746"/>
                  </a:lnTo>
                  <a:lnTo>
                    <a:pt x="4431" y="19809"/>
                  </a:lnTo>
                  <a:lnTo>
                    <a:pt x="4615" y="19871"/>
                  </a:lnTo>
                  <a:lnTo>
                    <a:pt x="4782" y="19871"/>
                  </a:lnTo>
                  <a:lnTo>
                    <a:pt x="4948" y="19809"/>
                  </a:lnTo>
                  <a:lnTo>
                    <a:pt x="5169" y="19746"/>
                  </a:lnTo>
                  <a:lnTo>
                    <a:pt x="5354" y="19600"/>
                  </a:lnTo>
                  <a:lnTo>
                    <a:pt x="5520" y="19538"/>
                  </a:lnTo>
                  <a:lnTo>
                    <a:pt x="5686" y="19413"/>
                  </a:lnTo>
                  <a:lnTo>
                    <a:pt x="5908" y="19350"/>
                  </a:lnTo>
                  <a:lnTo>
                    <a:pt x="6092" y="19225"/>
                  </a:lnTo>
                  <a:lnTo>
                    <a:pt x="6258" y="19163"/>
                  </a:lnTo>
                  <a:lnTo>
                    <a:pt x="6425" y="19100"/>
                  </a:lnTo>
                  <a:lnTo>
                    <a:pt x="6646" y="18976"/>
                  </a:lnTo>
                  <a:lnTo>
                    <a:pt x="6591" y="19038"/>
                  </a:lnTo>
                  <a:lnTo>
                    <a:pt x="6535" y="19100"/>
                  </a:lnTo>
                  <a:lnTo>
                    <a:pt x="6480" y="19163"/>
                  </a:lnTo>
                  <a:lnTo>
                    <a:pt x="6369" y="19225"/>
                  </a:lnTo>
                  <a:lnTo>
                    <a:pt x="6314" y="19288"/>
                  </a:lnTo>
                  <a:lnTo>
                    <a:pt x="6258" y="19350"/>
                  </a:lnTo>
                  <a:lnTo>
                    <a:pt x="6203" y="19413"/>
                  </a:lnTo>
                  <a:lnTo>
                    <a:pt x="6148" y="19475"/>
                  </a:lnTo>
                  <a:lnTo>
                    <a:pt x="5908" y="19746"/>
                  </a:lnTo>
                  <a:lnTo>
                    <a:pt x="5797" y="19871"/>
                  </a:lnTo>
                  <a:lnTo>
                    <a:pt x="5742" y="20059"/>
                  </a:lnTo>
                  <a:lnTo>
                    <a:pt x="5686" y="20184"/>
                  </a:lnTo>
                  <a:lnTo>
                    <a:pt x="5686" y="20371"/>
                  </a:lnTo>
                  <a:lnTo>
                    <a:pt x="5686" y="20517"/>
                  </a:lnTo>
                  <a:lnTo>
                    <a:pt x="5686" y="20704"/>
                  </a:lnTo>
                  <a:lnTo>
                    <a:pt x="5742" y="20892"/>
                  </a:lnTo>
                  <a:lnTo>
                    <a:pt x="5852" y="21017"/>
                  </a:lnTo>
                  <a:lnTo>
                    <a:pt x="5982" y="21142"/>
                  </a:lnTo>
                  <a:lnTo>
                    <a:pt x="6092" y="21267"/>
                  </a:lnTo>
                  <a:lnTo>
                    <a:pt x="6258" y="21350"/>
                  </a:lnTo>
                  <a:lnTo>
                    <a:pt x="6425" y="21413"/>
                  </a:lnTo>
                  <a:lnTo>
                    <a:pt x="6591" y="21413"/>
                  </a:lnTo>
                  <a:lnTo>
                    <a:pt x="6775" y="21413"/>
                  </a:lnTo>
                  <a:lnTo>
                    <a:pt x="6886" y="21350"/>
                  </a:lnTo>
                  <a:lnTo>
                    <a:pt x="7052" y="21204"/>
                  </a:lnTo>
                  <a:lnTo>
                    <a:pt x="7218" y="21079"/>
                  </a:lnTo>
                  <a:lnTo>
                    <a:pt x="7385" y="21017"/>
                  </a:lnTo>
                  <a:lnTo>
                    <a:pt x="7625" y="20892"/>
                  </a:lnTo>
                  <a:lnTo>
                    <a:pt x="7791" y="20829"/>
                  </a:lnTo>
                  <a:lnTo>
                    <a:pt x="7957" y="20767"/>
                  </a:lnTo>
                  <a:lnTo>
                    <a:pt x="8123" y="20704"/>
                  </a:lnTo>
                  <a:lnTo>
                    <a:pt x="8308" y="20579"/>
                  </a:lnTo>
                  <a:lnTo>
                    <a:pt x="8529" y="20517"/>
                  </a:lnTo>
                  <a:lnTo>
                    <a:pt x="8529" y="20579"/>
                  </a:lnTo>
                  <a:lnTo>
                    <a:pt x="8529" y="20642"/>
                  </a:lnTo>
                  <a:lnTo>
                    <a:pt x="8529" y="20704"/>
                  </a:lnTo>
                  <a:lnTo>
                    <a:pt x="8529" y="20767"/>
                  </a:lnTo>
                  <a:lnTo>
                    <a:pt x="8529" y="20829"/>
                  </a:lnTo>
                  <a:lnTo>
                    <a:pt x="8585" y="21017"/>
                  </a:lnTo>
                  <a:lnTo>
                    <a:pt x="8640" y="21142"/>
                  </a:lnTo>
                  <a:lnTo>
                    <a:pt x="8751" y="21350"/>
                  </a:lnTo>
                  <a:lnTo>
                    <a:pt x="8935" y="21413"/>
                  </a:lnTo>
                  <a:lnTo>
                    <a:pt x="9046" y="21538"/>
                  </a:lnTo>
                  <a:lnTo>
                    <a:pt x="9212" y="21600"/>
                  </a:lnTo>
                  <a:lnTo>
                    <a:pt x="9378" y="21600"/>
                  </a:lnTo>
                  <a:lnTo>
                    <a:pt x="9545" y="21600"/>
                  </a:lnTo>
                  <a:lnTo>
                    <a:pt x="9895" y="21475"/>
                  </a:lnTo>
                  <a:lnTo>
                    <a:pt x="10523" y="21204"/>
                  </a:lnTo>
                  <a:lnTo>
                    <a:pt x="11151" y="21017"/>
                  </a:lnTo>
                  <a:lnTo>
                    <a:pt x="11834" y="20767"/>
                  </a:lnTo>
                  <a:lnTo>
                    <a:pt x="12443" y="20579"/>
                  </a:lnTo>
                  <a:lnTo>
                    <a:pt x="13126" y="20371"/>
                  </a:lnTo>
                  <a:lnTo>
                    <a:pt x="13754" y="20184"/>
                  </a:lnTo>
                  <a:lnTo>
                    <a:pt x="14437" y="19996"/>
                  </a:lnTo>
                  <a:lnTo>
                    <a:pt x="15065" y="19809"/>
                  </a:lnTo>
                  <a:lnTo>
                    <a:pt x="15175" y="19684"/>
                  </a:lnTo>
                  <a:lnTo>
                    <a:pt x="15286" y="19600"/>
                  </a:lnTo>
                  <a:lnTo>
                    <a:pt x="15397" y="19475"/>
                  </a:lnTo>
                  <a:lnTo>
                    <a:pt x="15452" y="19350"/>
                  </a:lnTo>
                  <a:lnTo>
                    <a:pt x="15526" y="19225"/>
                  </a:lnTo>
                  <a:lnTo>
                    <a:pt x="15582" y="19100"/>
                  </a:lnTo>
                  <a:lnTo>
                    <a:pt x="15582" y="18976"/>
                  </a:lnTo>
                  <a:lnTo>
                    <a:pt x="15582" y="18767"/>
                  </a:lnTo>
                  <a:lnTo>
                    <a:pt x="15692" y="18767"/>
                  </a:lnTo>
                  <a:lnTo>
                    <a:pt x="15803" y="18705"/>
                  </a:lnTo>
                  <a:lnTo>
                    <a:pt x="15914" y="18642"/>
                  </a:lnTo>
                  <a:lnTo>
                    <a:pt x="16025" y="18642"/>
                  </a:lnTo>
                  <a:lnTo>
                    <a:pt x="16135" y="18580"/>
                  </a:lnTo>
                  <a:lnTo>
                    <a:pt x="16265" y="18580"/>
                  </a:lnTo>
                  <a:lnTo>
                    <a:pt x="16375" y="18517"/>
                  </a:lnTo>
                  <a:lnTo>
                    <a:pt x="16486" y="18455"/>
                  </a:lnTo>
                  <a:lnTo>
                    <a:pt x="16542" y="18517"/>
                  </a:lnTo>
                  <a:lnTo>
                    <a:pt x="16542" y="18580"/>
                  </a:lnTo>
                  <a:lnTo>
                    <a:pt x="16542" y="18642"/>
                  </a:lnTo>
                  <a:lnTo>
                    <a:pt x="16597" y="18642"/>
                  </a:lnTo>
                  <a:lnTo>
                    <a:pt x="16597" y="18705"/>
                  </a:lnTo>
                  <a:lnTo>
                    <a:pt x="16652" y="18705"/>
                  </a:lnTo>
                  <a:lnTo>
                    <a:pt x="16652" y="18767"/>
                  </a:lnTo>
                  <a:lnTo>
                    <a:pt x="16708" y="18851"/>
                  </a:lnTo>
                  <a:lnTo>
                    <a:pt x="16818" y="18976"/>
                  </a:lnTo>
                  <a:lnTo>
                    <a:pt x="17003" y="19038"/>
                  </a:lnTo>
                  <a:lnTo>
                    <a:pt x="17169" y="19100"/>
                  </a:lnTo>
                  <a:lnTo>
                    <a:pt x="17335" y="19100"/>
                  </a:lnTo>
                  <a:lnTo>
                    <a:pt x="17502" y="19038"/>
                  </a:lnTo>
                  <a:lnTo>
                    <a:pt x="17686" y="18976"/>
                  </a:lnTo>
                  <a:lnTo>
                    <a:pt x="17797" y="18913"/>
                  </a:lnTo>
                  <a:lnTo>
                    <a:pt x="17963" y="18767"/>
                  </a:lnTo>
                  <a:lnTo>
                    <a:pt x="18074" y="18642"/>
                  </a:lnTo>
                  <a:lnTo>
                    <a:pt x="18240" y="18580"/>
                  </a:lnTo>
                  <a:lnTo>
                    <a:pt x="18351" y="18455"/>
                  </a:lnTo>
                  <a:lnTo>
                    <a:pt x="18535" y="18330"/>
                  </a:lnTo>
                  <a:lnTo>
                    <a:pt x="18646" y="18267"/>
                  </a:lnTo>
                  <a:lnTo>
                    <a:pt x="18812" y="18142"/>
                  </a:lnTo>
                  <a:lnTo>
                    <a:pt x="18978" y="18080"/>
                  </a:lnTo>
                  <a:lnTo>
                    <a:pt x="19089" y="17934"/>
                  </a:lnTo>
                  <a:lnTo>
                    <a:pt x="19662" y="17434"/>
                  </a:lnTo>
                  <a:lnTo>
                    <a:pt x="19717" y="17372"/>
                  </a:lnTo>
                  <a:lnTo>
                    <a:pt x="19772" y="17309"/>
                  </a:lnTo>
                  <a:lnTo>
                    <a:pt x="19772" y="17247"/>
                  </a:lnTo>
                  <a:lnTo>
                    <a:pt x="19828" y="17184"/>
                  </a:lnTo>
                  <a:lnTo>
                    <a:pt x="19902" y="17038"/>
                  </a:lnTo>
                  <a:lnTo>
                    <a:pt x="19902" y="16976"/>
                  </a:lnTo>
                  <a:lnTo>
                    <a:pt x="19902" y="16851"/>
                  </a:lnTo>
                  <a:lnTo>
                    <a:pt x="19902" y="16788"/>
                  </a:lnTo>
                  <a:lnTo>
                    <a:pt x="19902" y="16601"/>
                  </a:lnTo>
                  <a:lnTo>
                    <a:pt x="19828" y="16414"/>
                  </a:lnTo>
                  <a:lnTo>
                    <a:pt x="19772" y="16268"/>
                  </a:lnTo>
                  <a:lnTo>
                    <a:pt x="19662" y="16080"/>
                  </a:lnTo>
                  <a:lnTo>
                    <a:pt x="19551" y="15955"/>
                  </a:lnTo>
                  <a:lnTo>
                    <a:pt x="19385" y="15893"/>
                  </a:lnTo>
                  <a:lnTo>
                    <a:pt x="19218" y="15830"/>
                  </a:lnTo>
                  <a:lnTo>
                    <a:pt x="19034" y="15768"/>
                  </a:lnTo>
                  <a:lnTo>
                    <a:pt x="19218" y="15705"/>
                  </a:lnTo>
                  <a:lnTo>
                    <a:pt x="19329" y="15643"/>
                  </a:lnTo>
                  <a:lnTo>
                    <a:pt x="19495" y="15518"/>
                  </a:lnTo>
                  <a:lnTo>
                    <a:pt x="19606" y="15435"/>
                  </a:lnTo>
                  <a:lnTo>
                    <a:pt x="19772" y="15310"/>
                  </a:lnTo>
                  <a:lnTo>
                    <a:pt x="19902" y="15247"/>
                  </a:lnTo>
                  <a:lnTo>
                    <a:pt x="20068" y="15122"/>
                  </a:lnTo>
                  <a:lnTo>
                    <a:pt x="20178" y="15060"/>
                  </a:lnTo>
                  <a:lnTo>
                    <a:pt x="21249" y="14289"/>
                  </a:lnTo>
                  <a:lnTo>
                    <a:pt x="21378" y="14164"/>
                  </a:lnTo>
                  <a:lnTo>
                    <a:pt x="21434" y="14101"/>
                  </a:lnTo>
                  <a:lnTo>
                    <a:pt x="21489" y="13976"/>
                  </a:lnTo>
                  <a:lnTo>
                    <a:pt x="21545" y="13851"/>
                  </a:lnTo>
                  <a:lnTo>
                    <a:pt x="21600" y="13706"/>
                  </a:lnTo>
                  <a:lnTo>
                    <a:pt x="21600" y="13581"/>
                  </a:lnTo>
                  <a:lnTo>
                    <a:pt x="21600" y="13393"/>
                  </a:lnTo>
                  <a:lnTo>
                    <a:pt x="21600" y="13268"/>
                  </a:lnTo>
                  <a:close/>
                  <a:moveTo>
                    <a:pt x="5742" y="9998"/>
                  </a:moveTo>
                  <a:lnTo>
                    <a:pt x="5797" y="9998"/>
                  </a:lnTo>
                  <a:lnTo>
                    <a:pt x="5742" y="9998"/>
                  </a:lnTo>
                  <a:lnTo>
                    <a:pt x="5742" y="10061"/>
                  </a:lnTo>
                  <a:lnTo>
                    <a:pt x="5686" y="10061"/>
                  </a:lnTo>
                  <a:lnTo>
                    <a:pt x="5742" y="10061"/>
                  </a:lnTo>
                  <a:lnTo>
                    <a:pt x="5742" y="9998"/>
                  </a:lnTo>
                  <a:close/>
                  <a:moveTo>
                    <a:pt x="5797" y="10894"/>
                  </a:moveTo>
                  <a:lnTo>
                    <a:pt x="5797" y="10956"/>
                  </a:lnTo>
                  <a:lnTo>
                    <a:pt x="5742" y="10956"/>
                  </a:lnTo>
                  <a:lnTo>
                    <a:pt x="5686" y="10956"/>
                  </a:lnTo>
                  <a:lnTo>
                    <a:pt x="5631" y="10956"/>
                  </a:lnTo>
                  <a:lnTo>
                    <a:pt x="5631" y="11019"/>
                  </a:lnTo>
                  <a:lnTo>
                    <a:pt x="5575" y="11019"/>
                  </a:lnTo>
                  <a:lnTo>
                    <a:pt x="5631" y="10956"/>
                  </a:lnTo>
                  <a:lnTo>
                    <a:pt x="5631" y="10831"/>
                  </a:lnTo>
                  <a:lnTo>
                    <a:pt x="5631" y="10769"/>
                  </a:lnTo>
                  <a:lnTo>
                    <a:pt x="5631" y="10706"/>
                  </a:lnTo>
                  <a:lnTo>
                    <a:pt x="5631" y="10644"/>
                  </a:lnTo>
                  <a:lnTo>
                    <a:pt x="5631" y="10519"/>
                  </a:lnTo>
                  <a:lnTo>
                    <a:pt x="5631" y="10435"/>
                  </a:lnTo>
                  <a:lnTo>
                    <a:pt x="5631" y="10373"/>
                  </a:lnTo>
                  <a:lnTo>
                    <a:pt x="5742" y="10311"/>
                  </a:lnTo>
                  <a:lnTo>
                    <a:pt x="5852" y="10248"/>
                  </a:lnTo>
                  <a:lnTo>
                    <a:pt x="5982" y="10186"/>
                  </a:lnTo>
                  <a:lnTo>
                    <a:pt x="6037" y="10186"/>
                  </a:lnTo>
                  <a:lnTo>
                    <a:pt x="6148" y="10123"/>
                  </a:lnTo>
                  <a:lnTo>
                    <a:pt x="6258" y="10061"/>
                  </a:lnTo>
                  <a:lnTo>
                    <a:pt x="6369" y="9998"/>
                  </a:lnTo>
                  <a:lnTo>
                    <a:pt x="6480" y="9936"/>
                  </a:lnTo>
                  <a:lnTo>
                    <a:pt x="6480" y="9998"/>
                  </a:lnTo>
                  <a:lnTo>
                    <a:pt x="6535" y="10061"/>
                  </a:lnTo>
                  <a:lnTo>
                    <a:pt x="6535" y="10123"/>
                  </a:lnTo>
                  <a:lnTo>
                    <a:pt x="6591" y="10123"/>
                  </a:lnTo>
                  <a:lnTo>
                    <a:pt x="6591" y="10186"/>
                  </a:lnTo>
                  <a:lnTo>
                    <a:pt x="6535" y="10311"/>
                  </a:lnTo>
                  <a:lnTo>
                    <a:pt x="6425" y="10373"/>
                  </a:lnTo>
                  <a:lnTo>
                    <a:pt x="6314" y="10435"/>
                  </a:lnTo>
                  <a:lnTo>
                    <a:pt x="6203" y="10581"/>
                  </a:lnTo>
                  <a:lnTo>
                    <a:pt x="6092" y="10644"/>
                  </a:lnTo>
                  <a:lnTo>
                    <a:pt x="6037" y="10769"/>
                  </a:lnTo>
                  <a:lnTo>
                    <a:pt x="5908" y="10831"/>
                  </a:lnTo>
                  <a:lnTo>
                    <a:pt x="5797" y="10894"/>
                  </a:lnTo>
                  <a:close/>
                  <a:moveTo>
                    <a:pt x="10006" y="9540"/>
                  </a:moveTo>
                  <a:lnTo>
                    <a:pt x="10006" y="9540"/>
                  </a:lnTo>
                  <a:lnTo>
                    <a:pt x="9951" y="9540"/>
                  </a:lnTo>
                  <a:lnTo>
                    <a:pt x="10006" y="9477"/>
                  </a:lnTo>
                  <a:lnTo>
                    <a:pt x="10062" y="9477"/>
                  </a:lnTo>
                  <a:lnTo>
                    <a:pt x="10117" y="9415"/>
                  </a:lnTo>
                  <a:lnTo>
                    <a:pt x="10172" y="9352"/>
                  </a:lnTo>
                  <a:lnTo>
                    <a:pt x="10228" y="9290"/>
                  </a:lnTo>
                  <a:lnTo>
                    <a:pt x="10283" y="9227"/>
                  </a:lnTo>
                  <a:lnTo>
                    <a:pt x="10357" y="9165"/>
                  </a:lnTo>
                  <a:lnTo>
                    <a:pt x="10412" y="9102"/>
                  </a:lnTo>
                  <a:lnTo>
                    <a:pt x="10468" y="9102"/>
                  </a:lnTo>
                  <a:lnTo>
                    <a:pt x="10523" y="9040"/>
                  </a:lnTo>
                  <a:lnTo>
                    <a:pt x="10578" y="9040"/>
                  </a:lnTo>
                  <a:lnTo>
                    <a:pt x="10634" y="9040"/>
                  </a:lnTo>
                  <a:lnTo>
                    <a:pt x="10689" y="9040"/>
                  </a:lnTo>
                  <a:lnTo>
                    <a:pt x="10745" y="8977"/>
                  </a:lnTo>
                  <a:lnTo>
                    <a:pt x="10800" y="8977"/>
                  </a:lnTo>
                  <a:lnTo>
                    <a:pt x="10745" y="9040"/>
                  </a:lnTo>
                  <a:lnTo>
                    <a:pt x="10634" y="9102"/>
                  </a:lnTo>
                  <a:lnTo>
                    <a:pt x="10523" y="9165"/>
                  </a:lnTo>
                  <a:lnTo>
                    <a:pt x="10412" y="9227"/>
                  </a:lnTo>
                  <a:lnTo>
                    <a:pt x="10283" y="9290"/>
                  </a:lnTo>
                  <a:lnTo>
                    <a:pt x="10228" y="9415"/>
                  </a:lnTo>
                  <a:lnTo>
                    <a:pt x="10117" y="9477"/>
                  </a:lnTo>
                  <a:lnTo>
                    <a:pt x="10006" y="9540"/>
                  </a:lnTo>
                  <a:close/>
                  <a:moveTo>
                    <a:pt x="10006" y="9540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Freeform 67"/>
            <p:cNvSpPr/>
            <p:nvPr/>
          </p:nvSpPr>
          <p:spPr>
            <a:xfrm>
              <a:off x="5380200" y="3727440"/>
              <a:ext cx="523800" cy="47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873"/>
                  </a:moveTo>
                  <a:lnTo>
                    <a:pt x="21338" y="11229"/>
                  </a:lnTo>
                  <a:lnTo>
                    <a:pt x="20945" y="10800"/>
                  </a:lnTo>
                  <a:lnTo>
                    <a:pt x="20749" y="10371"/>
                  </a:lnTo>
                  <a:lnTo>
                    <a:pt x="20356" y="9942"/>
                  </a:lnTo>
                  <a:lnTo>
                    <a:pt x="19964" y="9727"/>
                  </a:lnTo>
                  <a:lnTo>
                    <a:pt x="19375" y="9513"/>
                  </a:lnTo>
                  <a:lnTo>
                    <a:pt x="18982" y="9298"/>
                  </a:lnTo>
                  <a:lnTo>
                    <a:pt x="18327" y="9298"/>
                  </a:lnTo>
                  <a:lnTo>
                    <a:pt x="18524" y="9012"/>
                  </a:lnTo>
                  <a:lnTo>
                    <a:pt x="18720" y="8797"/>
                  </a:lnTo>
                  <a:lnTo>
                    <a:pt x="18982" y="8368"/>
                  </a:lnTo>
                  <a:lnTo>
                    <a:pt x="18982" y="8154"/>
                  </a:lnTo>
                  <a:lnTo>
                    <a:pt x="18982" y="7939"/>
                  </a:lnTo>
                  <a:lnTo>
                    <a:pt x="19178" y="7510"/>
                  </a:lnTo>
                  <a:lnTo>
                    <a:pt x="19178" y="7295"/>
                  </a:lnTo>
                  <a:lnTo>
                    <a:pt x="19178" y="6866"/>
                  </a:lnTo>
                  <a:lnTo>
                    <a:pt x="19178" y="6652"/>
                  </a:lnTo>
                  <a:lnTo>
                    <a:pt x="18982" y="5936"/>
                  </a:lnTo>
                  <a:lnTo>
                    <a:pt x="18524" y="5293"/>
                  </a:lnTo>
                  <a:lnTo>
                    <a:pt x="18327" y="4864"/>
                  </a:lnTo>
                  <a:lnTo>
                    <a:pt x="17738" y="4434"/>
                  </a:lnTo>
                  <a:lnTo>
                    <a:pt x="17345" y="4220"/>
                  </a:lnTo>
                  <a:lnTo>
                    <a:pt x="16756" y="4005"/>
                  </a:lnTo>
                  <a:lnTo>
                    <a:pt x="16102" y="3791"/>
                  </a:lnTo>
                  <a:lnTo>
                    <a:pt x="15513" y="4005"/>
                  </a:lnTo>
                  <a:lnTo>
                    <a:pt x="15120" y="4005"/>
                  </a:lnTo>
                  <a:lnTo>
                    <a:pt x="15120" y="3791"/>
                  </a:lnTo>
                  <a:lnTo>
                    <a:pt x="15120" y="3576"/>
                  </a:lnTo>
                  <a:lnTo>
                    <a:pt x="15120" y="3290"/>
                  </a:lnTo>
                  <a:lnTo>
                    <a:pt x="15120" y="3075"/>
                  </a:lnTo>
                  <a:lnTo>
                    <a:pt x="15120" y="2861"/>
                  </a:lnTo>
                  <a:lnTo>
                    <a:pt x="15120" y="2432"/>
                  </a:lnTo>
                  <a:lnTo>
                    <a:pt x="14924" y="2217"/>
                  </a:lnTo>
                  <a:lnTo>
                    <a:pt x="14924" y="2003"/>
                  </a:lnTo>
                  <a:lnTo>
                    <a:pt x="14531" y="1574"/>
                  </a:lnTo>
                  <a:lnTo>
                    <a:pt x="14138" y="930"/>
                  </a:lnTo>
                  <a:lnTo>
                    <a:pt x="13745" y="715"/>
                  </a:lnTo>
                  <a:lnTo>
                    <a:pt x="13287" y="215"/>
                  </a:lnTo>
                  <a:lnTo>
                    <a:pt x="12698" y="0"/>
                  </a:lnTo>
                  <a:lnTo>
                    <a:pt x="12109" y="0"/>
                  </a:lnTo>
                  <a:lnTo>
                    <a:pt x="11520" y="0"/>
                  </a:lnTo>
                  <a:lnTo>
                    <a:pt x="10865" y="215"/>
                  </a:lnTo>
                  <a:lnTo>
                    <a:pt x="9491" y="1144"/>
                  </a:lnTo>
                  <a:lnTo>
                    <a:pt x="8247" y="1788"/>
                  </a:lnTo>
                  <a:lnTo>
                    <a:pt x="7069" y="2646"/>
                  </a:lnTo>
                  <a:lnTo>
                    <a:pt x="5825" y="3576"/>
                  </a:lnTo>
                  <a:lnTo>
                    <a:pt x="4647" y="4649"/>
                  </a:lnTo>
                  <a:lnTo>
                    <a:pt x="3469" y="5507"/>
                  </a:lnTo>
                  <a:lnTo>
                    <a:pt x="2422" y="6652"/>
                  </a:lnTo>
                  <a:lnTo>
                    <a:pt x="1440" y="7725"/>
                  </a:lnTo>
                  <a:lnTo>
                    <a:pt x="1047" y="8154"/>
                  </a:lnTo>
                  <a:lnTo>
                    <a:pt x="589" y="8583"/>
                  </a:lnTo>
                  <a:lnTo>
                    <a:pt x="393" y="9012"/>
                  </a:lnTo>
                  <a:lnTo>
                    <a:pt x="196" y="9513"/>
                  </a:lnTo>
                  <a:lnTo>
                    <a:pt x="196" y="9942"/>
                  </a:lnTo>
                  <a:lnTo>
                    <a:pt x="0" y="10371"/>
                  </a:lnTo>
                  <a:lnTo>
                    <a:pt x="0" y="11015"/>
                  </a:lnTo>
                  <a:lnTo>
                    <a:pt x="196" y="11444"/>
                  </a:lnTo>
                  <a:lnTo>
                    <a:pt x="393" y="11873"/>
                  </a:lnTo>
                  <a:lnTo>
                    <a:pt x="589" y="12588"/>
                  </a:lnTo>
                  <a:lnTo>
                    <a:pt x="1047" y="13017"/>
                  </a:lnTo>
                  <a:lnTo>
                    <a:pt x="1636" y="13446"/>
                  </a:lnTo>
                  <a:lnTo>
                    <a:pt x="2029" y="13661"/>
                  </a:lnTo>
                  <a:lnTo>
                    <a:pt x="2618" y="13875"/>
                  </a:lnTo>
                  <a:lnTo>
                    <a:pt x="3207" y="13875"/>
                  </a:lnTo>
                  <a:lnTo>
                    <a:pt x="3862" y="13875"/>
                  </a:lnTo>
                  <a:lnTo>
                    <a:pt x="4451" y="13661"/>
                  </a:lnTo>
                  <a:lnTo>
                    <a:pt x="4647" y="13446"/>
                  </a:lnTo>
                  <a:lnTo>
                    <a:pt x="4451" y="13661"/>
                  </a:lnTo>
                  <a:lnTo>
                    <a:pt x="4451" y="13875"/>
                  </a:lnTo>
                  <a:lnTo>
                    <a:pt x="4255" y="14305"/>
                  </a:lnTo>
                  <a:lnTo>
                    <a:pt x="4255" y="14519"/>
                  </a:lnTo>
                  <a:lnTo>
                    <a:pt x="4255" y="14734"/>
                  </a:lnTo>
                  <a:lnTo>
                    <a:pt x="4255" y="15234"/>
                  </a:lnTo>
                  <a:lnTo>
                    <a:pt x="4255" y="15449"/>
                  </a:lnTo>
                  <a:lnTo>
                    <a:pt x="4255" y="15878"/>
                  </a:lnTo>
                  <a:lnTo>
                    <a:pt x="4451" y="16522"/>
                  </a:lnTo>
                  <a:lnTo>
                    <a:pt x="4647" y="16951"/>
                  </a:lnTo>
                  <a:lnTo>
                    <a:pt x="5040" y="17380"/>
                  </a:lnTo>
                  <a:lnTo>
                    <a:pt x="5629" y="17881"/>
                  </a:lnTo>
                  <a:lnTo>
                    <a:pt x="6087" y="18310"/>
                  </a:lnTo>
                  <a:lnTo>
                    <a:pt x="6676" y="18310"/>
                  </a:lnTo>
                  <a:lnTo>
                    <a:pt x="7265" y="18525"/>
                  </a:lnTo>
                  <a:lnTo>
                    <a:pt x="7855" y="18310"/>
                  </a:lnTo>
                  <a:lnTo>
                    <a:pt x="8902" y="18095"/>
                  </a:lnTo>
                  <a:lnTo>
                    <a:pt x="9098" y="18095"/>
                  </a:lnTo>
                  <a:lnTo>
                    <a:pt x="9295" y="18095"/>
                  </a:lnTo>
                  <a:lnTo>
                    <a:pt x="9491" y="18095"/>
                  </a:lnTo>
                  <a:lnTo>
                    <a:pt x="9491" y="18310"/>
                  </a:lnTo>
                  <a:lnTo>
                    <a:pt x="9491" y="18525"/>
                  </a:lnTo>
                  <a:lnTo>
                    <a:pt x="9491" y="18954"/>
                  </a:lnTo>
                  <a:lnTo>
                    <a:pt x="9491" y="19168"/>
                  </a:lnTo>
                  <a:lnTo>
                    <a:pt x="9687" y="19383"/>
                  </a:lnTo>
                  <a:lnTo>
                    <a:pt x="9687" y="19597"/>
                  </a:lnTo>
                  <a:lnTo>
                    <a:pt x="9884" y="20026"/>
                  </a:lnTo>
                  <a:lnTo>
                    <a:pt x="10080" y="20241"/>
                  </a:lnTo>
                  <a:lnTo>
                    <a:pt x="10473" y="20742"/>
                  </a:lnTo>
                  <a:lnTo>
                    <a:pt x="10865" y="21171"/>
                  </a:lnTo>
                  <a:lnTo>
                    <a:pt x="11520" y="21385"/>
                  </a:lnTo>
                  <a:lnTo>
                    <a:pt x="12109" y="21600"/>
                  </a:lnTo>
                  <a:lnTo>
                    <a:pt x="12502" y="21600"/>
                  </a:lnTo>
                  <a:lnTo>
                    <a:pt x="13091" y="21600"/>
                  </a:lnTo>
                  <a:lnTo>
                    <a:pt x="13745" y="21385"/>
                  </a:lnTo>
                  <a:lnTo>
                    <a:pt x="14335" y="20956"/>
                  </a:lnTo>
                  <a:lnTo>
                    <a:pt x="15120" y="20241"/>
                  </a:lnTo>
                  <a:lnTo>
                    <a:pt x="15905" y="19597"/>
                  </a:lnTo>
                  <a:lnTo>
                    <a:pt x="16560" y="18954"/>
                  </a:lnTo>
                  <a:lnTo>
                    <a:pt x="17345" y="18310"/>
                  </a:lnTo>
                  <a:lnTo>
                    <a:pt x="18131" y="17595"/>
                  </a:lnTo>
                  <a:lnTo>
                    <a:pt x="18720" y="16736"/>
                  </a:lnTo>
                  <a:lnTo>
                    <a:pt x="19571" y="16093"/>
                  </a:lnTo>
                  <a:lnTo>
                    <a:pt x="20356" y="15449"/>
                  </a:lnTo>
                  <a:lnTo>
                    <a:pt x="21142" y="14305"/>
                  </a:lnTo>
                  <a:lnTo>
                    <a:pt x="21142" y="14090"/>
                  </a:lnTo>
                  <a:lnTo>
                    <a:pt x="21338" y="13661"/>
                  </a:lnTo>
                  <a:lnTo>
                    <a:pt x="21338" y="13446"/>
                  </a:lnTo>
                  <a:lnTo>
                    <a:pt x="21600" y="13232"/>
                  </a:lnTo>
                  <a:lnTo>
                    <a:pt x="21600" y="12803"/>
                  </a:lnTo>
                  <a:lnTo>
                    <a:pt x="21600" y="12588"/>
                  </a:lnTo>
                  <a:lnTo>
                    <a:pt x="21600" y="12159"/>
                  </a:lnTo>
                  <a:lnTo>
                    <a:pt x="21600" y="11873"/>
                  </a:lnTo>
                  <a:close/>
                  <a:moveTo>
                    <a:pt x="21600" y="11873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AutoShape 68"/>
            <p:cNvSpPr/>
            <p:nvPr/>
          </p:nvSpPr>
          <p:spPr>
            <a:xfrm>
              <a:off x="5921640" y="3743280"/>
              <a:ext cx="785880" cy="62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69" y="6327"/>
                  </a:moveTo>
                  <a:lnTo>
                    <a:pt x="21207" y="5836"/>
                  </a:lnTo>
                  <a:lnTo>
                    <a:pt x="20945" y="5509"/>
                  </a:lnTo>
                  <a:lnTo>
                    <a:pt x="20684" y="5182"/>
                  </a:lnTo>
                  <a:lnTo>
                    <a:pt x="20291" y="5018"/>
                  </a:lnTo>
                  <a:lnTo>
                    <a:pt x="19855" y="4855"/>
                  </a:lnTo>
                  <a:lnTo>
                    <a:pt x="19462" y="4855"/>
                  </a:lnTo>
                  <a:lnTo>
                    <a:pt x="19200" y="4855"/>
                  </a:lnTo>
                  <a:lnTo>
                    <a:pt x="18807" y="5018"/>
                  </a:lnTo>
                  <a:lnTo>
                    <a:pt x="18109" y="5345"/>
                  </a:lnTo>
                  <a:lnTo>
                    <a:pt x="17978" y="5345"/>
                  </a:lnTo>
                  <a:lnTo>
                    <a:pt x="18109" y="5182"/>
                  </a:lnTo>
                  <a:lnTo>
                    <a:pt x="18109" y="5018"/>
                  </a:lnTo>
                  <a:lnTo>
                    <a:pt x="18109" y="4855"/>
                  </a:lnTo>
                  <a:lnTo>
                    <a:pt x="18240" y="4691"/>
                  </a:lnTo>
                  <a:lnTo>
                    <a:pt x="18240" y="4527"/>
                  </a:lnTo>
                  <a:lnTo>
                    <a:pt x="18240" y="4364"/>
                  </a:lnTo>
                  <a:lnTo>
                    <a:pt x="18240" y="4145"/>
                  </a:lnTo>
                  <a:lnTo>
                    <a:pt x="18240" y="3982"/>
                  </a:lnTo>
                  <a:lnTo>
                    <a:pt x="18240" y="3655"/>
                  </a:lnTo>
                  <a:lnTo>
                    <a:pt x="18109" y="3655"/>
                  </a:lnTo>
                  <a:lnTo>
                    <a:pt x="18109" y="3491"/>
                  </a:lnTo>
                  <a:lnTo>
                    <a:pt x="17978" y="3000"/>
                  </a:lnTo>
                  <a:lnTo>
                    <a:pt x="17847" y="2509"/>
                  </a:lnTo>
                  <a:lnTo>
                    <a:pt x="17585" y="2182"/>
                  </a:lnTo>
                  <a:lnTo>
                    <a:pt x="17193" y="1800"/>
                  </a:lnTo>
                  <a:lnTo>
                    <a:pt x="16931" y="1636"/>
                  </a:lnTo>
                  <a:lnTo>
                    <a:pt x="16495" y="1473"/>
                  </a:lnTo>
                  <a:lnTo>
                    <a:pt x="16102" y="1473"/>
                  </a:lnTo>
                  <a:lnTo>
                    <a:pt x="15709" y="1473"/>
                  </a:lnTo>
                  <a:lnTo>
                    <a:pt x="15316" y="1636"/>
                  </a:lnTo>
                  <a:lnTo>
                    <a:pt x="14880" y="1800"/>
                  </a:lnTo>
                  <a:lnTo>
                    <a:pt x="14618" y="1800"/>
                  </a:lnTo>
                  <a:lnTo>
                    <a:pt x="14225" y="1964"/>
                  </a:lnTo>
                  <a:lnTo>
                    <a:pt x="13964" y="2182"/>
                  </a:lnTo>
                  <a:lnTo>
                    <a:pt x="13571" y="2182"/>
                  </a:lnTo>
                  <a:lnTo>
                    <a:pt x="13309" y="2345"/>
                  </a:lnTo>
                  <a:lnTo>
                    <a:pt x="12873" y="2345"/>
                  </a:lnTo>
                  <a:lnTo>
                    <a:pt x="12480" y="2509"/>
                  </a:lnTo>
                  <a:lnTo>
                    <a:pt x="12480" y="2345"/>
                  </a:lnTo>
                  <a:lnTo>
                    <a:pt x="12480" y="2182"/>
                  </a:lnTo>
                  <a:lnTo>
                    <a:pt x="12480" y="1964"/>
                  </a:lnTo>
                  <a:lnTo>
                    <a:pt x="12480" y="1800"/>
                  </a:lnTo>
                  <a:lnTo>
                    <a:pt x="12480" y="1636"/>
                  </a:lnTo>
                  <a:lnTo>
                    <a:pt x="12218" y="1145"/>
                  </a:lnTo>
                  <a:lnTo>
                    <a:pt x="12087" y="818"/>
                  </a:lnTo>
                  <a:lnTo>
                    <a:pt x="11695" y="491"/>
                  </a:lnTo>
                  <a:lnTo>
                    <a:pt x="11389" y="327"/>
                  </a:lnTo>
                  <a:lnTo>
                    <a:pt x="10996" y="164"/>
                  </a:lnTo>
                  <a:lnTo>
                    <a:pt x="10604" y="0"/>
                  </a:lnTo>
                  <a:lnTo>
                    <a:pt x="10211" y="0"/>
                  </a:lnTo>
                  <a:lnTo>
                    <a:pt x="9818" y="164"/>
                  </a:lnTo>
                  <a:lnTo>
                    <a:pt x="8858" y="818"/>
                  </a:lnTo>
                  <a:lnTo>
                    <a:pt x="8073" y="1473"/>
                  </a:lnTo>
                  <a:lnTo>
                    <a:pt x="7244" y="2182"/>
                  </a:lnTo>
                  <a:lnTo>
                    <a:pt x="6458" y="3000"/>
                  </a:lnTo>
                  <a:lnTo>
                    <a:pt x="5629" y="3818"/>
                  </a:lnTo>
                  <a:lnTo>
                    <a:pt x="4844" y="4527"/>
                  </a:lnTo>
                  <a:lnTo>
                    <a:pt x="4015" y="5345"/>
                  </a:lnTo>
                  <a:lnTo>
                    <a:pt x="3229" y="5836"/>
                  </a:lnTo>
                  <a:lnTo>
                    <a:pt x="2967" y="6164"/>
                  </a:lnTo>
                  <a:lnTo>
                    <a:pt x="2531" y="6545"/>
                  </a:lnTo>
                  <a:lnTo>
                    <a:pt x="2400" y="6709"/>
                  </a:lnTo>
                  <a:lnTo>
                    <a:pt x="2138" y="7036"/>
                  </a:lnTo>
                  <a:lnTo>
                    <a:pt x="2007" y="7527"/>
                  </a:lnTo>
                  <a:lnTo>
                    <a:pt x="2007" y="7855"/>
                  </a:lnTo>
                  <a:lnTo>
                    <a:pt x="1876" y="8345"/>
                  </a:lnTo>
                  <a:lnTo>
                    <a:pt x="2007" y="8727"/>
                  </a:lnTo>
                  <a:lnTo>
                    <a:pt x="2007" y="9218"/>
                  </a:lnTo>
                  <a:lnTo>
                    <a:pt x="2269" y="9545"/>
                  </a:lnTo>
                  <a:lnTo>
                    <a:pt x="2400" y="10036"/>
                  </a:lnTo>
                  <a:lnTo>
                    <a:pt x="2662" y="10364"/>
                  </a:lnTo>
                  <a:lnTo>
                    <a:pt x="3098" y="10527"/>
                  </a:lnTo>
                  <a:lnTo>
                    <a:pt x="3360" y="10691"/>
                  </a:lnTo>
                  <a:lnTo>
                    <a:pt x="3753" y="10909"/>
                  </a:lnTo>
                  <a:lnTo>
                    <a:pt x="4145" y="10909"/>
                  </a:lnTo>
                  <a:lnTo>
                    <a:pt x="4538" y="10691"/>
                  </a:lnTo>
                  <a:lnTo>
                    <a:pt x="4145" y="11073"/>
                  </a:lnTo>
                  <a:lnTo>
                    <a:pt x="3884" y="11400"/>
                  </a:lnTo>
                  <a:lnTo>
                    <a:pt x="3491" y="11727"/>
                  </a:lnTo>
                  <a:lnTo>
                    <a:pt x="3098" y="12055"/>
                  </a:lnTo>
                  <a:lnTo>
                    <a:pt x="2793" y="12382"/>
                  </a:lnTo>
                  <a:lnTo>
                    <a:pt x="2400" y="12709"/>
                  </a:lnTo>
                  <a:lnTo>
                    <a:pt x="2138" y="12873"/>
                  </a:lnTo>
                  <a:lnTo>
                    <a:pt x="1745" y="13255"/>
                  </a:lnTo>
                  <a:lnTo>
                    <a:pt x="1484" y="13582"/>
                  </a:lnTo>
                  <a:lnTo>
                    <a:pt x="1353" y="13745"/>
                  </a:lnTo>
                  <a:lnTo>
                    <a:pt x="1047" y="14073"/>
                  </a:lnTo>
                  <a:lnTo>
                    <a:pt x="785" y="14400"/>
                  </a:lnTo>
                  <a:lnTo>
                    <a:pt x="655" y="14727"/>
                  </a:lnTo>
                  <a:lnTo>
                    <a:pt x="524" y="15273"/>
                  </a:lnTo>
                  <a:lnTo>
                    <a:pt x="524" y="15764"/>
                  </a:lnTo>
                  <a:lnTo>
                    <a:pt x="524" y="16255"/>
                  </a:lnTo>
                  <a:lnTo>
                    <a:pt x="655" y="16745"/>
                  </a:lnTo>
                  <a:lnTo>
                    <a:pt x="785" y="17073"/>
                  </a:lnTo>
                  <a:lnTo>
                    <a:pt x="524" y="17455"/>
                  </a:lnTo>
                  <a:lnTo>
                    <a:pt x="393" y="17618"/>
                  </a:lnTo>
                  <a:lnTo>
                    <a:pt x="262" y="17945"/>
                  </a:lnTo>
                  <a:lnTo>
                    <a:pt x="131" y="18273"/>
                  </a:lnTo>
                  <a:lnTo>
                    <a:pt x="0" y="18600"/>
                  </a:lnTo>
                  <a:lnTo>
                    <a:pt x="0" y="19091"/>
                  </a:lnTo>
                  <a:lnTo>
                    <a:pt x="0" y="19418"/>
                  </a:lnTo>
                  <a:lnTo>
                    <a:pt x="131" y="19800"/>
                  </a:lnTo>
                  <a:lnTo>
                    <a:pt x="262" y="20291"/>
                  </a:lnTo>
                  <a:lnTo>
                    <a:pt x="393" y="20618"/>
                  </a:lnTo>
                  <a:lnTo>
                    <a:pt x="655" y="21109"/>
                  </a:lnTo>
                  <a:lnTo>
                    <a:pt x="1047" y="21273"/>
                  </a:lnTo>
                  <a:lnTo>
                    <a:pt x="1353" y="21600"/>
                  </a:lnTo>
                  <a:lnTo>
                    <a:pt x="1745" y="21600"/>
                  </a:lnTo>
                  <a:lnTo>
                    <a:pt x="2138" y="21600"/>
                  </a:lnTo>
                  <a:lnTo>
                    <a:pt x="2531" y="21600"/>
                  </a:lnTo>
                  <a:lnTo>
                    <a:pt x="3622" y="21109"/>
                  </a:lnTo>
                  <a:lnTo>
                    <a:pt x="4538" y="20618"/>
                  </a:lnTo>
                  <a:lnTo>
                    <a:pt x="5629" y="20127"/>
                  </a:lnTo>
                  <a:lnTo>
                    <a:pt x="6720" y="19636"/>
                  </a:lnTo>
                  <a:lnTo>
                    <a:pt x="7767" y="19255"/>
                  </a:lnTo>
                  <a:lnTo>
                    <a:pt x="8858" y="18927"/>
                  </a:lnTo>
                  <a:lnTo>
                    <a:pt x="9949" y="18436"/>
                  </a:lnTo>
                  <a:lnTo>
                    <a:pt x="10996" y="18109"/>
                  </a:lnTo>
                  <a:lnTo>
                    <a:pt x="12087" y="17618"/>
                  </a:lnTo>
                  <a:lnTo>
                    <a:pt x="12480" y="17455"/>
                  </a:lnTo>
                  <a:lnTo>
                    <a:pt x="12742" y="17073"/>
                  </a:lnTo>
                  <a:lnTo>
                    <a:pt x="13004" y="16745"/>
                  </a:lnTo>
                  <a:lnTo>
                    <a:pt x="13309" y="16255"/>
                  </a:lnTo>
                  <a:lnTo>
                    <a:pt x="13440" y="15927"/>
                  </a:lnTo>
                  <a:lnTo>
                    <a:pt x="13440" y="15436"/>
                  </a:lnTo>
                  <a:lnTo>
                    <a:pt x="13440" y="14891"/>
                  </a:lnTo>
                  <a:lnTo>
                    <a:pt x="13440" y="14400"/>
                  </a:lnTo>
                  <a:lnTo>
                    <a:pt x="14095" y="13909"/>
                  </a:lnTo>
                  <a:lnTo>
                    <a:pt x="14749" y="13418"/>
                  </a:lnTo>
                  <a:lnTo>
                    <a:pt x="15447" y="12873"/>
                  </a:lnTo>
                  <a:lnTo>
                    <a:pt x="16102" y="12545"/>
                  </a:lnTo>
                  <a:lnTo>
                    <a:pt x="16800" y="12055"/>
                  </a:lnTo>
                  <a:lnTo>
                    <a:pt x="17455" y="11564"/>
                  </a:lnTo>
                  <a:lnTo>
                    <a:pt x="18109" y="11236"/>
                  </a:lnTo>
                  <a:lnTo>
                    <a:pt x="18807" y="10691"/>
                  </a:lnTo>
                  <a:lnTo>
                    <a:pt x="19985" y="9873"/>
                  </a:lnTo>
                  <a:lnTo>
                    <a:pt x="20422" y="9709"/>
                  </a:lnTo>
                  <a:lnTo>
                    <a:pt x="20291" y="9545"/>
                  </a:lnTo>
                  <a:lnTo>
                    <a:pt x="20945" y="9218"/>
                  </a:lnTo>
                  <a:lnTo>
                    <a:pt x="21207" y="8891"/>
                  </a:lnTo>
                  <a:lnTo>
                    <a:pt x="21338" y="8509"/>
                  </a:lnTo>
                  <a:lnTo>
                    <a:pt x="21469" y="8182"/>
                  </a:lnTo>
                  <a:lnTo>
                    <a:pt x="21469" y="7855"/>
                  </a:lnTo>
                  <a:lnTo>
                    <a:pt x="21600" y="7364"/>
                  </a:lnTo>
                  <a:lnTo>
                    <a:pt x="21600" y="7036"/>
                  </a:lnTo>
                  <a:lnTo>
                    <a:pt x="21469" y="6709"/>
                  </a:lnTo>
                  <a:lnTo>
                    <a:pt x="21469" y="6327"/>
                  </a:lnTo>
                  <a:close/>
                  <a:moveTo>
                    <a:pt x="18109" y="5509"/>
                  </a:moveTo>
                  <a:lnTo>
                    <a:pt x="18371" y="5345"/>
                  </a:lnTo>
                  <a:lnTo>
                    <a:pt x="18371" y="5509"/>
                  </a:lnTo>
                  <a:lnTo>
                    <a:pt x="18240" y="5509"/>
                  </a:lnTo>
                  <a:lnTo>
                    <a:pt x="18109" y="5509"/>
                  </a:lnTo>
                  <a:close/>
                  <a:moveTo>
                    <a:pt x="18109" y="5509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>
              <a:off x="6078600" y="4016160"/>
              <a:ext cx="733680" cy="75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60" y="8977"/>
                  </a:moveTo>
                  <a:lnTo>
                    <a:pt x="21460" y="8704"/>
                  </a:lnTo>
                  <a:lnTo>
                    <a:pt x="21319" y="8567"/>
                  </a:lnTo>
                  <a:lnTo>
                    <a:pt x="21179" y="8248"/>
                  </a:lnTo>
                  <a:lnTo>
                    <a:pt x="21039" y="8111"/>
                  </a:lnTo>
                  <a:lnTo>
                    <a:pt x="20899" y="7975"/>
                  </a:lnTo>
                  <a:lnTo>
                    <a:pt x="20571" y="7838"/>
                  </a:lnTo>
                  <a:lnTo>
                    <a:pt x="20431" y="7701"/>
                  </a:lnTo>
                  <a:lnTo>
                    <a:pt x="20151" y="7565"/>
                  </a:lnTo>
                  <a:lnTo>
                    <a:pt x="20431" y="7428"/>
                  </a:lnTo>
                  <a:lnTo>
                    <a:pt x="20571" y="7154"/>
                  </a:lnTo>
                  <a:lnTo>
                    <a:pt x="20758" y="6881"/>
                  </a:lnTo>
                  <a:lnTo>
                    <a:pt x="20899" y="6562"/>
                  </a:lnTo>
                  <a:lnTo>
                    <a:pt x="21039" y="6289"/>
                  </a:lnTo>
                  <a:lnTo>
                    <a:pt x="21039" y="6015"/>
                  </a:lnTo>
                  <a:lnTo>
                    <a:pt x="21039" y="5742"/>
                  </a:lnTo>
                  <a:lnTo>
                    <a:pt x="20899" y="5468"/>
                  </a:lnTo>
                  <a:lnTo>
                    <a:pt x="20758" y="5058"/>
                  </a:lnTo>
                  <a:lnTo>
                    <a:pt x="20571" y="4603"/>
                  </a:lnTo>
                  <a:lnTo>
                    <a:pt x="20291" y="4329"/>
                  </a:lnTo>
                  <a:lnTo>
                    <a:pt x="19870" y="4192"/>
                  </a:lnTo>
                  <a:lnTo>
                    <a:pt x="19590" y="3919"/>
                  </a:lnTo>
                  <a:lnTo>
                    <a:pt x="19169" y="3919"/>
                  </a:lnTo>
                  <a:lnTo>
                    <a:pt x="18701" y="3919"/>
                  </a:lnTo>
                  <a:lnTo>
                    <a:pt x="18281" y="3919"/>
                  </a:lnTo>
                  <a:lnTo>
                    <a:pt x="17860" y="4056"/>
                  </a:lnTo>
                  <a:lnTo>
                    <a:pt x="17719" y="4056"/>
                  </a:lnTo>
                  <a:lnTo>
                    <a:pt x="17579" y="4056"/>
                  </a:lnTo>
                  <a:lnTo>
                    <a:pt x="17579" y="4192"/>
                  </a:lnTo>
                  <a:lnTo>
                    <a:pt x="17439" y="4192"/>
                  </a:lnTo>
                  <a:lnTo>
                    <a:pt x="17299" y="4192"/>
                  </a:lnTo>
                  <a:lnTo>
                    <a:pt x="17439" y="4056"/>
                  </a:lnTo>
                  <a:lnTo>
                    <a:pt x="17579" y="4056"/>
                  </a:lnTo>
                  <a:lnTo>
                    <a:pt x="17579" y="3919"/>
                  </a:lnTo>
                  <a:lnTo>
                    <a:pt x="17719" y="3782"/>
                  </a:lnTo>
                  <a:lnTo>
                    <a:pt x="17860" y="3646"/>
                  </a:lnTo>
                  <a:lnTo>
                    <a:pt x="17860" y="3509"/>
                  </a:lnTo>
                  <a:lnTo>
                    <a:pt x="18000" y="3509"/>
                  </a:lnTo>
                  <a:lnTo>
                    <a:pt x="18281" y="3099"/>
                  </a:lnTo>
                  <a:lnTo>
                    <a:pt x="18421" y="2643"/>
                  </a:lnTo>
                  <a:lnTo>
                    <a:pt x="18421" y="2233"/>
                  </a:lnTo>
                  <a:lnTo>
                    <a:pt x="18421" y="1823"/>
                  </a:lnTo>
                  <a:lnTo>
                    <a:pt x="18281" y="1549"/>
                  </a:lnTo>
                  <a:lnTo>
                    <a:pt x="18140" y="1094"/>
                  </a:lnTo>
                  <a:lnTo>
                    <a:pt x="17860" y="684"/>
                  </a:lnTo>
                  <a:lnTo>
                    <a:pt x="17579" y="410"/>
                  </a:lnTo>
                  <a:lnTo>
                    <a:pt x="17158" y="273"/>
                  </a:lnTo>
                  <a:lnTo>
                    <a:pt x="16691" y="137"/>
                  </a:lnTo>
                  <a:lnTo>
                    <a:pt x="16410" y="0"/>
                  </a:lnTo>
                  <a:lnTo>
                    <a:pt x="15990" y="137"/>
                  </a:lnTo>
                  <a:lnTo>
                    <a:pt x="15569" y="137"/>
                  </a:lnTo>
                  <a:lnTo>
                    <a:pt x="15101" y="410"/>
                  </a:lnTo>
                  <a:lnTo>
                    <a:pt x="14821" y="547"/>
                  </a:lnTo>
                  <a:lnTo>
                    <a:pt x="14540" y="957"/>
                  </a:lnTo>
                  <a:lnTo>
                    <a:pt x="13231" y="2233"/>
                  </a:lnTo>
                  <a:lnTo>
                    <a:pt x="11829" y="3235"/>
                  </a:lnTo>
                  <a:lnTo>
                    <a:pt x="10239" y="4329"/>
                  </a:lnTo>
                  <a:lnTo>
                    <a:pt x="8649" y="5195"/>
                  </a:lnTo>
                  <a:lnTo>
                    <a:pt x="7060" y="6015"/>
                  </a:lnTo>
                  <a:lnTo>
                    <a:pt x="5330" y="6744"/>
                  </a:lnTo>
                  <a:lnTo>
                    <a:pt x="3600" y="7428"/>
                  </a:lnTo>
                  <a:lnTo>
                    <a:pt x="2010" y="7975"/>
                  </a:lnTo>
                  <a:lnTo>
                    <a:pt x="1449" y="8248"/>
                  </a:lnTo>
                  <a:lnTo>
                    <a:pt x="1169" y="8385"/>
                  </a:lnTo>
                  <a:lnTo>
                    <a:pt x="748" y="8567"/>
                  </a:lnTo>
                  <a:lnTo>
                    <a:pt x="608" y="8841"/>
                  </a:lnTo>
                  <a:lnTo>
                    <a:pt x="281" y="9114"/>
                  </a:lnTo>
                  <a:lnTo>
                    <a:pt x="140" y="9387"/>
                  </a:lnTo>
                  <a:lnTo>
                    <a:pt x="0" y="9797"/>
                  </a:lnTo>
                  <a:lnTo>
                    <a:pt x="0" y="10071"/>
                  </a:lnTo>
                  <a:lnTo>
                    <a:pt x="0" y="10527"/>
                  </a:lnTo>
                  <a:lnTo>
                    <a:pt x="140" y="10937"/>
                  </a:lnTo>
                  <a:lnTo>
                    <a:pt x="281" y="11210"/>
                  </a:lnTo>
                  <a:lnTo>
                    <a:pt x="608" y="11620"/>
                  </a:lnTo>
                  <a:lnTo>
                    <a:pt x="888" y="11894"/>
                  </a:lnTo>
                  <a:lnTo>
                    <a:pt x="1169" y="12030"/>
                  </a:lnTo>
                  <a:lnTo>
                    <a:pt x="1590" y="12349"/>
                  </a:lnTo>
                  <a:lnTo>
                    <a:pt x="2010" y="12349"/>
                  </a:lnTo>
                  <a:lnTo>
                    <a:pt x="2478" y="12349"/>
                  </a:lnTo>
                  <a:lnTo>
                    <a:pt x="3740" y="12213"/>
                  </a:lnTo>
                  <a:lnTo>
                    <a:pt x="4208" y="12030"/>
                  </a:lnTo>
                  <a:lnTo>
                    <a:pt x="4629" y="11894"/>
                  </a:lnTo>
                  <a:lnTo>
                    <a:pt x="5049" y="11894"/>
                  </a:lnTo>
                  <a:lnTo>
                    <a:pt x="5330" y="11757"/>
                  </a:lnTo>
                  <a:lnTo>
                    <a:pt x="5751" y="11620"/>
                  </a:lnTo>
                  <a:lnTo>
                    <a:pt x="6218" y="11484"/>
                  </a:lnTo>
                  <a:lnTo>
                    <a:pt x="6639" y="11484"/>
                  </a:lnTo>
                  <a:lnTo>
                    <a:pt x="6919" y="11347"/>
                  </a:lnTo>
                  <a:lnTo>
                    <a:pt x="6358" y="11757"/>
                  </a:lnTo>
                  <a:lnTo>
                    <a:pt x="5751" y="12213"/>
                  </a:lnTo>
                  <a:lnTo>
                    <a:pt x="5190" y="12623"/>
                  </a:lnTo>
                  <a:lnTo>
                    <a:pt x="4629" y="13033"/>
                  </a:lnTo>
                  <a:lnTo>
                    <a:pt x="4208" y="13306"/>
                  </a:lnTo>
                  <a:lnTo>
                    <a:pt x="3600" y="13716"/>
                  </a:lnTo>
                  <a:lnTo>
                    <a:pt x="3039" y="14172"/>
                  </a:lnTo>
                  <a:lnTo>
                    <a:pt x="2478" y="14582"/>
                  </a:lnTo>
                  <a:lnTo>
                    <a:pt x="1730" y="15266"/>
                  </a:lnTo>
                  <a:lnTo>
                    <a:pt x="1590" y="15539"/>
                  </a:lnTo>
                  <a:lnTo>
                    <a:pt x="1449" y="15858"/>
                  </a:lnTo>
                  <a:lnTo>
                    <a:pt x="1309" y="16268"/>
                  </a:lnTo>
                  <a:lnTo>
                    <a:pt x="1309" y="16542"/>
                  </a:lnTo>
                  <a:lnTo>
                    <a:pt x="1309" y="16815"/>
                  </a:lnTo>
                  <a:lnTo>
                    <a:pt x="1449" y="17225"/>
                  </a:lnTo>
                  <a:lnTo>
                    <a:pt x="1590" y="17499"/>
                  </a:lnTo>
                  <a:lnTo>
                    <a:pt x="1730" y="17818"/>
                  </a:lnTo>
                  <a:lnTo>
                    <a:pt x="1870" y="17954"/>
                  </a:lnTo>
                  <a:lnTo>
                    <a:pt x="2010" y="18091"/>
                  </a:lnTo>
                  <a:lnTo>
                    <a:pt x="2197" y="18228"/>
                  </a:lnTo>
                  <a:lnTo>
                    <a:pt x="2338" y="18228"/>
                  </a:lnTo>
                  <a:lnTo>
                    <a:pt x="2338" y="18365"/>
                  </a:lnTo>
                  <a:lnTo>
                    <a:pt x="2478" y="18365"/>
                  </a:lnTo>
                  <a:lnTo>
                    <a:pt x="2618" y="18501"/>
                  </a:lnTo>
                  <a:lnTo>
                    <a:pt x="2618" y="18638"/>
                  </a:lnTo>
                  <a:lnTo>
                    <a:pt x="2618" y="18775"/>
                  </a:lnTo>
                  <a:lnTo>
                    <a:pt x="2618" y="18911"/>
                  </a:lnTo>
                  <a:lnTo>
                    <a:pt x="2618" y="19048"/>
                  </a:lnTo>
                  <a:lnTo>
                    <a:pt x="2618" y="19185"/>
                  </a:lnTo>
                  <a:lnTo>
                    <a:pt x="2758" y="19322"/>
                  </a:lnTo>
                  <a:lnTo>
                    <a:pt x="2758" y="19504"/>
                  </a:lnTo>
                  <a:lnTo>
                    <a:pt x="2899" y="19641"/>
                  </a:lnTo>
                  <a:lnTo>
                    <a:pt x="3039" y="20051"/>
                  </a:lnTo>
                  <a:lnTo>
                    <a:pt x="3319" y="20324"/>
                  </a:lnTo>
                  <a:lnTo>
                    <a:pt x="3740" y="20461"/>
                  </a:lnTo>
                  <a:lnTo>
                    <a:pt x="4068" y="20734"/>
                  </a:lnTo>
                  <a:lnTo>
                    <a:pt x="4488" y="20734"/>
                  </a:lnTo>
                  <a:lnTo>
                    <a:pt x="4909" y="20734"/>
                  </a:lnTo>
                  <a:lnTo>
                    <a:pt x="5330" y="20734"/>
                  </a:lnTo>
                  <a:lnTo>
                    <a:pt x="5751" y="20597"/>
                  </a:lnTo>
                  <a:lnTo>
                    <a:pt x="6218" y="20461"/>
                  </a:lnTo>
                  <a:lnTo>
                    <a:pt x="6779" y="20187"/>
                  </a:lnTo>
                  <a:lnTo>
                    <a:pt x="7340" y="20051"/>
                  </a:lnTo>
                  <a:lnTo>
                    <a:pt x="7948" y="19914"/>
                  </a:lnTo>
                  <a:lnTo>
                    <a:pt x="8509" y="19777"/>
                  </a:lnTo>
                  <a:lnTo>
                    <a:pt x="9070" y="19504"/>
                  </a:lnTo>
                  <a:lnTo>
                    <a:pt x="9491" y="19322"/>
                  </a:lnTo>
                  <a:lnTo>
                    <a:pt x="10099" y="19185"/>
                  </a:lnTo>
                  <a:lnTo>
                    <a:pt x="10239" y="19504"/>
                  </a:lnTo>
                  <a:lnTo>
                    <a:pt x="10519" y="19777"/>
                  </a:lnTo>
                  <a:lnTo>
                    <a:pt x="10660" y="20051"/>
                  </a:lnTo>
                  <a:lnTo>
                    <a:pt x="10800" y="20324"/>
                  </a:lnTo>
                  <a:lnTo>
                    <a:pt x="11081" y="20734"/>
                  </a:lnTo>
                  <a:lnTo>
                    <a:pt x="11221" y="21008"/>
                  </a:lnTo>
                  <a:lnTo>
                    <a:pt x="11361" y="21327"/>
                  </a:lnTo>
                  <a:lnTo>
                    <a:pt x="11688" y="21600"/>
                  </a:lnTo>
                  <a:lnTo>
                    <a:pt x="11969" y="21600"/>
                  </a:lnTo>
                  <a:lnTo>
                    <a:pt x="12109" y="21463"/>
                  </a:lnTo>
                  <a:lnTo>
                    <a:pt x="12390" y="21327"/>
                  </a:lnTo>
                  <a:lnTo>
                    <a:pt x="12670" y="21144"/>
                  </a:lnTo>
                  <a:lnTo>
                    <a:pt x="12810" y="21008"/>
                  </a:lnTo>
                  <a:lnTo>
                    <a:pt x="12951" y="20734"/>
                  </a:lnTo>
                  <a:lnTo>
                    <a:pt x="13231" y="20597"/>
                  </a:lnTo>
                  <a:lnTo>
                    <a:pt x="13231" y="20324"/>
                  </a:lnTo>
                  <a:lnTo>
                    <a:pt x="13558" y="20051"/>
                  </a:lnTo>
                  <a:lnTo>
                    <a:pt x="13839" y="19914"/>
                  </a:lnTo>
                  <a:lnTo>
                    <a:pt x="14119" y="19777"/>
                  </a:lnTo>
                  <a:lnTo>
                    <a:pt x="14260" y="19504"/>
                  </a:lnTo>
                  <a:lnTo>
                    <a:pt x="14540" y="19322"/>
                  </a:lnTo>
                  <a:lnTo>
                    <a:pt x="14821" y="19048"/>
                  </a:lnTo>
                  <a:lnTo>
                    <a:pt x="14961" y="18911"/>
                  </a:lnTo>
                  <a:lnTo>
                    <a:pt x="15288" y="18775"/>
                  </a:lnTo>
                  <a:lnTo>
                    <a:pt x="17299" y="16952"/>
                  </a:lnTo>
                  <a:lnTo>
                    <a:pt x="17439" y="16952"/>
                  </a:lnTo>
                  <a:lnTo>
                    <a:pt x="17579" y="16815"/>
                  </a:lnTo>
                  <a:lnTo>
                    <a:pt x="17579" y="16678"/>
                  </a:lnTo>
                  <a:lnTo>
                    <a:pt x="17719" y="16542"/>
                  </a:lnTo>
                  <a:lnTo>
                    <a:pt x="17719" y="16405"/>
                  </a:lnTo>
                  <a:lnTo>
                    <a:pt x="17860" y="16268"/>
                  </a:lnTo>
                  <a:lnTo>
                    <a:pt x="17860" y="16132"/>
                  </a:lnTo>
                  <a:lnTo>
                    <a:pt x="18000" y="15995"/>
                  </a:lnTo>
                  <a:lnTo>
                    <a:pt x="18140" y="15403"/>
                  </a:lnTo>
                  <a:lnTo>
                    <a:pt x="18140" y="15266"/>
                  </a:lnTo>
                  <a:lnTo>
                    <a:pt x="18140" y="15129"/>
                  </a:lnTo>
                  <a:lnTo>
                    <a:pt x="18140" y="14992"/>
                  </a:lnTo>
                  <a:lnTo>
                    <a:pt x="18140" y="14856"/>
                  </a:lnTo>
                  <a:lnTo>
                    <a:pt x="18140" y="14719"/>
                  </a:lnTo>
                  <a:lnTo>
                    <a:pt x="18140" y="14582"/>
                  </a:lnTo>
                  <a:lnTo>
                    <a:pt x="18140" y="14446"/>
                  </a:lnTo>
                  <a:lnTo>
                    <a:pt x="18140" y="14309"/>
                  </a:lnTo>
                  <a:lnTo>
                    <a:pt x="18000" y="14172"/>
                  </a:lnTo>
                  <a:lnTo>
                    <a:pt x="18000" y="14035"/>
                  </a:lnTo>
                  <a:lnTo>
                    <a:pt x="17860" y="13853"/>
                  </a:lnTo>
                  <a:lnTo>
                    <a:pt x="17860" y="13716"/>
                  </a:lnTo>
                  <a:lnTo>
                    <a:pt x="17719" y="13580"/>
                  </a:lnTo>
                  <a:lnTo>
                    <a:pt x="17579" y="13443"/>
                  </a:lnTo>
                  <a:lnTo>
                    <a:pt x="17439" y="13306"/>
                  </a:lnTo>
                  <a:lnTo>
                    <a:pt x="17299" y="13170"/>
                  </a:lnTo>
                  <a:lnTo>
                    <a:pt x="17579" y="13033"/>
                  </a:lnTo>
                  <a:lnTo>
                    <a:pt x="17860" y="12896"/>
                  </a:lnTo>
                  <a:lnTo>
                    <a:pt x="18000" y="12759"/>
                  </a:lnTo>
                  <a:lnTo>
                    <a:pt x="18281" y="12623"/>
                  </a:lnTo>
                  <a:lnTo>
                    <a:pt x="18421" y="12486"/>
                  </a:lnTo>
                  <a:lnTo>
                    <a:pt x="18701" y="12349"/>
                  </a:lnTo>
                  <a:lnTo>
                    <a:pt x="19029" y="12213"/>
                  </a:lnTo>
                  <a:lnTo>
                    <a:pt x="19169" y="12030"/>
                  </a:lnTo>
                  <a:lnTo>
                    <a:pt x="20010" y="11620"/>
                  </a:lnTo>
                  <a:lnTo>
                    <a:pt x="20431" y="11484"/>
                  </a:lnTo>
                  <a:lnTo>
                    <a:pt x="20899" y="11210"/>
                  </a:lnTo>
                  <a:lnTo>
                    <a:pt x="21179" y="10937"/>
                  </a:lnTo>
                  <a:lnTo>
                    <a:pt x="21319" y="10663"/>
                  </a:lnTo>
                  <a:lnTo>
                    <a:pt x="21460" y="10208"/>
                  </a:lnTo>
                  <a:lnTo>
                    <a:pt x="21600" y="9797"/>
                  </a:lnTo>
                  <a:lnTo>
                    <a:pt x="21600" y="9387"/>
                  </a:lnTo>
                  <a:lnTo>
                    <a:pt x="21460" y="8977"/>
                  </a:lnTo>
                  <a:close/>
                  <a:moveTo>
                    <a:pt x="13418" y="19777"/>
                  </a:moveTo>
                  <a:lnTo>
                    <a:pt x="13418" y="19641"/>
                  </a:lnTo>
                  <a:lnTo>
                    <a:pt x="13418" y="19504"/>
                  </a:lnTo>
                  <a:lnTo>
                    <a:pt x="13418" y="19322"/>
                  </a:lnTo>
                  <a:lnTo>
                    <a:pt x="13418" y="19185"/>
                  </a:lnTo>
                  <a:lnTo>
                    <a:pt x="13418" y="19048"/>
                  </a:lnTo>
                  <a:lnTo>
                    <a:pt x="13418" y="18911"/>
                  </a:lnTo>
                  <a:lnTo>
                    <a:pt x="13418" y="18775"/>
                  </a:lnTo>
                  <a:lnTo>
                    <a:pt x="13231" y="18775"/>
                  </a:lnTo>
                  <a:lnTo>
                    <a:pt x="13231" y="18638"/>
                  </a:lnTo>
                  <a:lnTo>
                    <a:pt x="13418" y="18638"/>
                  </a:lnTo>
                  <a:lnTo>
                    <a:pt x="13558" y="18775"/>
                  </a:lnTo>
                  <a:lnTo>
                    <a:pt x="13558" y="18911"/>
                  </a:lnTo>
                  <a:lnTo>
                    <a:pt x="13699" y="19048"/>
                  </a:lnTo>
                  <a:lnTo>
                    <a:pt x="13699" y="19185"/>
                  </a:lnTo>
                  <a:lnTo>
                    <a:pt x="13699" y="19322"/>
                  </a:lnTo>
                  <a:lnTo>
                    <a:pt x="13558" y="19504"/>
                  </a:lnTo>
                  <a:lnTo>
                    <a:pt x="13418" y="19777"/>
                  </a:lnTo>
                  <a:close/>
                  <a:moveTo>
                    <a:pt x="13418" y="19777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Freeform 70"/>
            <p:cNvSpPr/>
            <p:nvPr/>
          </p:nvSpPr>
          <p:spPr>
            <a:xfrm>
              <a:off x="5727960" y="4265640"/>
              <a:ext cx="644400" cy="51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472" y="12973"/>
                  </a:moveTo>
                  <a:lnTo>
                    <a:pt x="19312" y="12973"/>
                  </a:lnTo>
                  <a:lnTo>
                    <a:pt x="19153" y="12973"/>
                  </a:lnTo>
                  <a:lnTo>
                    <a:pt x="18993" y="12973"/>
                  </a:lnTo>
                  <a:lnTo>
                    <a:pt x="18833" y="12973"/>
                  </a:lnTo>
                  <a:lnTo>
                    <a:pt x="18674" y="12973"/>
                  </a:lnTo>
                  <a:lnTo>
                    <a:pt x="18514" y="12973"/>
                  </a:lnTo>
                  <a:lnTo>
                    <a:pt x="18301" y="12973"/>
                  </a:lnTo>
                  <a:lnTo>
                    <a:pt x="18301" y="12773"/>
                  </a:lnTo>
                  <a:lnTo>
                    <a:pt x="18301" y="12505"/>
                  </a:lnTo>
                  <a:lnTo>
                    <a:pt x="18142" y="11903"/>
                  </a:lnTo>
                  <a:lnTo>
                    <a:pt x="17982" y="11302"/>
                  </a:lnTo>
                  <a:lnTo>
                    <a:pt x="17823" y="10900"/>
                  </a:lnTo>
                  <a:lnTo>
                    <a:pt x="17344" y="10499"/>
                  </a:lnTo>
                  <a:lnTo>
                    <a:pt x="17025" y="10098"/>
                  </a:lnTo>
                  <a:lnTo>
                    <a:pt x="16546" y="9830"/>
                  </a:lnTo>
                  <a:lnTo>
                    <a:pt x="16173" y="9630"/>
                  </a:lnTo>
                  <a:lnTo>
                    <a:pt x="15535" y="9630"/>
                  </a:lnTo>
                  <a:lnTo>
                    <a:pt x="15216" y="9630"/>
                  </a:lnTo>
                  <a:lnTo>
                    <a:pt x="15375" y="9630"/>
                  </a:lnTo>
                  <a:lnTo>
                    <a:pt x="15535" y="9429"/>
                  </a:lnTo>
                  <a:lnTo>
                    <a:pt x="15695" y="9228"/>
                  </a:lnTo>
                  <a:lnTo>
                    <a:pt x="15854" y="8827"/>
                  </a:lnTo>
                  <a:lnTo>
                    <a:pt x="15854" y="8627"/>
                  </a:lnTo>
                  <a:lnTo>
                    <a:pt x="16014" y="8426"/>
                  </a:lnTo>
                  <a:lnTo>
                    <a:pt x="16014" y="8225"/>
                  </a:lnTo>
                  <a:lnTo>
                    <a:pt x="16014" y="8025"/>
                  </a:lnTo>
                  <a:lnTo>
                    <a:pt x="16173" y="7624"/>
                  </a:lnTo>
                  <a:lnTo>
                    <a:pt x="16173" y="6955"/>
                  </a:lnTo>
                  <a:lnTo>
                    <a:pt x="16014" y="6353"/>
                  </a:lnTo>
                  <a:lnTo>
                    <a:pt x="15854" y="5952"/>
                  </a:lnTo>
                  <a:lnTo>
                    <a:pt x="15535" y="5350"/>
                  </a:lnTo>
                  <a:lnTo>
                    <a:pt x="15216" y="4949"/>
                  </a:lnTo>
                  <a:lnTo>
                    <a:pt x="14897" y="4480"/>
                  </a:lnTo>
                  <a:lnTo>
                    <a:pt x="14418" y="4280"/>
                  </a:lnTo>
                  <a:lnTo>
                    <a:pt x="13886" y="4280"/>
                  </a:lnTo>
                  <a:lnTo>
                    <a:pt x="12077" y="4280"/>
                  </a:lnTo>
                  <a:lnTo>
                    <a:pt x="11917" y="4280"/>
                  </a:lnTo>
                  <a:lnTo>
                    <a:pt x="11758" y="4480"/>
                  </a:lnTo>
                  <a:lnTo>
                    <a:pt x="11598" y="4480"/>
                  </a:lnTo>
                  <a:lnTo>
                    <a:pt x="11438" y="4480"/>
                  </a:lnTo>
                  <a:lnTo>
                    <a:pt x="11279" y="4480"/>
                  </a:lnTo>
                  <a:lnTo>
                    <a:pt x="11119" y="4480"/>
                  </a:lnTo>
                  <a:lnTo>
                    <a:pt x="10960" y="4480"/>
                  </a:lnTo>
                  <a:lnTo>
                    <a:pt x="10800" y="4480"/>
                  </a:lnTo>
                  <a:lnTo>
                    <a:pt x="10960" y="4079"/>
                  </a:lnTo>
                  <a:lnTo>
                    <a:pt x="11119" y="3678"/>
                  </a:lnTo>
                  <a:lnTo>
                    <a:pt x="11119" y="3076"/>
                  </a:lnTo>
                  <a:lnTo>
                    <a:pt x="11119" y="2675"/>
                  </a:lnTo>
                  <a:lnTo>
                    <a:pt x="10960" y="2073"/>
                  </a:lnTo>
                  <a:lnTo>
                    <a:pt x="10800" y="1605"/>
                  </a:lnTo>
                  <a:lnTo>
                    <a:pt x="10640" y="1204"/>
                  </a:lnTo>
                  <a:lnTo>
                    <a:pt x="10321" y="802"/>
                  </a:lnTo>
                  <a:lnTo>
                    <a:pt x="9949" y="401"/>
                  </a:lnTo>
                  <a:lnTo>
                    <a:pt x="9470" y="201"/>
                  </a:lnTo>
                  <a:lnTo>
                    <a:pt x="9151" y="0"/>
                  </a:lnTo>
                  <a:lnTo>
                    <a:pt x="8672" y="0"/>
                  </a:lnTo>
                  <a:lnTo>
                    <a:pt x="8193" y="0"/>
                  </a:lnTo>
                  <a:lnTo>
                    <a:pt x="7661" y="201"/>
                  </a:lnTo>
                  <a:lnTo>
                    <a:pt x="7182" y="401"/>
                  </a:lnTo>
                  <a:lnTo>
                    <a:pt x="6863" y="802"/>
                  </a:lnTo>
                  <a:lnTo>
                    <a:pt x="6225" y="1605"/>
                  </a:lnTo>
                  <a:lnTo>
                    <a:pt x="5533" y="2274"/>
                  </a:lnTo>
                  <a:lnTo>
                    <a:pt x="4895" y="3076"/>
                  </a:lnTo>
                  <a:lnTo>
                    <a:pt x="4256" y="3678"/>
                  </a:lnTo>
                  <a:lnTo>
                    <a:pt x="3565" y="4280"/>
                  </a:lnTo>
                  <a:lnTo>
                    <a:pt x="2926" y="5149"/>
                  </a:lnTo>
                  <a:lnTo>
                    <a:pt x="2128" y="5751"/>
                  </a:lnTo>
                  <a:lnTo>
                    <a:pt x="1436" y="6353"/>
                  </a:lnTo>
                  <a:lnTo>
                    <a:pt x="1117" y="6754"/>
                  </a:lnTo>
                  <a:lnTo>
                    <a:pt x="958" y="6955"/>
                  </a:lnTo>
                  <a:lnTo>
                    <a:pt x="798" y="7155"/>
                  </a:lnTo>
                  <a:lnTo>
                    <a:pt x="638" y="7423"/>
                  </a:lnTo>
                  <a:lnTo>
                    <a:pt x="479" y="7624"/>
                  </a:lnTo>
                  <a:lnTo>
                    <a:pt x="319" y="7824"/>
                  </a:lnTo>
                  <a:lnTo>
                    <a:pt x="319" y="8025"/>
                  </a:lnTo>
                  <a:lnTo>
                    <a:pt x="160" y="8225"/>
                  </a:lnTo>
                  <a:lnTo>
                    <a:pt x="160" y="8426"/>
                  </a:lnTo>
                  <a:lnTo>
                    <a:pt x="0" y="9028"/>
                  </a:lnTo>
                  <a:lnTo>
                    <a:pt x="0" y="9630"/>
                  </a:lnTo>
                  <a:lnTo>
                    <a:pt x="160" y="10298"/>
                  </a:lnTo>
                  <a:lnTo>
                    <a:pt x="319" y="10900"/>
                  </a:lnTo>
                  <a:lnTo>
                    <a:pt x="638" y="11302"/>
                  </a:lnTo>
                  <a:lnTo>
                    <a:pt x="958" y="11703"/>
                  </a:lnTo>
                  <a:lnTo>
                    <a:pt x="1436" y="12104"/>
                  </a:lnTo>
                  <a:lnTo>
                    <a:pt x="1809" y="12305"/>
                  </a:lnTo>
                  <a:lnTo>
                    <a:pt x="3405" y="12505"/>
                  </a:lnTo>
                  <a:lnTo>
                    <a:pt x="3565" y="12305"/>
                  </a:lnTo>
                  <a:lnTo>
                    <a:pt x="3937" y="12305"/>
                  </a:lnTo>
                  <a:lnTo>
                    <a:pt x="4097" y="12305"/>
                  </a:lnTo>
                  <a:lnTo>
                    <a:pt x="4256" y="12104"/>
                  </a:lnTo>
                  <a:lnTo>
                    <a:pt x="4575" y="12104"/>
                  </a:lnTo>
                  <a:lnTo>
                    <a:pt x="4735" y="12104"/>
                  </a:lnTo>
                  <a:lnTo>
                    <a:pt x="4895" y="12104"/>
                  </a:lnTo>
                  <a:lnTo>
                    <a:pt x="5214" y="11903"/>
                  </a:lnTo>
                  <a:lnTo>
                    <a:pt x="5054" y="12104"/>
                  </a:lnTo>
                  <a:lnTo>
                    <a:pt x="4895" y="12305"/>
                  </a:lnTo>
                  <a:lnTo>
                    <a:pt x="4735" y="12773"/>
                  </a:lnTo>
                  <a:lnTo>
                    <a:pt x="4575" y="13174"/>
                  </a:lnTo>
                  <a:lnTo>
                    <a:pt x="4416" y="13575"/>
                  </a:lnTo>
                  <a:lnTo>
                    <a:pt x="4416" y="13776"/>
                  </a:lnTo>
                  <a:lnTo>
                    <a:pt x="4416" y="14177"/>
                  </a:lnTo>
                  <a:lnTo>
                    <a:pt x="4416" y="14578"/>
                  </a:lnTo>
                  <a:lnTo>
                    <a:pt x="4416" y="14980"/>
                  </a:lnTo>
                  <a:lnTo>
                    <a:pt x="4575" y="15648"/>
                  </a:lnTo>
                  <a:lnTo>
                    <a:pt x="4735" y="16250"/>
                  </a:lnTo>
                  <a:lnTo>
                    <a:pt x="5054" y="16651"/>
                  </a:lnTo>
                  <a:lnTo>
                    <a:pt x="5533" y="17053"/>
                  </a:lnTo>
                  <a:lnTo>
                    <a:pt x="5905" y="17253"/>
                  </a:lnTo>
                  <a:lnTo>
                    <a:pt x="6384" y="17454"/>
                  </a:lnTo>
                  <a:lnTo>
                    <a:pt x="6863" y="17454"/>
                  </a:lnTo>
                  <a:lnTo>
                    <a:pt x="7342" y="17454"/>
                  </a:lnTo>
                  <a:lnTo>
                    <a:pt x="7501" y="17253"/>
                  </a:lnTo>
                  <a:lnTo>
                    <a:pt x="7501" y="17454"/>
                  </a:lnTo>
                  <a:lnTo>
                    <a:pt x="7501" y="17654"/>
                  </a:lnTo>
                  <a:lnTo>
                    <a:pt x="7342" y="17654"/>
                  </a:lnTo>
                  <a:lnTo>
                    <a:pt x="7342" y="17855"/>
                  </a:lnTo>
                  <a:lnTo>
                    <a:pt x="7342" y="18524"/>
                  </a:lnTo>
                  <a:lnTo>
                    <a:pt x="7342" y="19126"/>
                  </a:lnTo>
                  <a:lnTo>
                    <a:pt x="7501" y="19728"/>
                  </a:lnTo>
                  <a:lnTo>
                    <a:pt x="7821" y="20329"/>
                  </a:lnTo>
                  <a:lnTo>
                    <a:pt x="8193" y="20798"/>
                  </a:lnTo>
                  <a:lnTo>
                    <a:pt x="8512" y="21199"/>
                  </a:lnTo>
                  <a:lnTo>
                    <a:pt x="8991" y="21399"/>
                  </a:lnTo>
                  <a:lnTo>
                    <a:pt x="9470" y="21600"/>
                  </a:lnTo>
                  <a:lnTo>
                    <a:pt x="9630" y="21600"/>
                  </a:lnTo>
                  <a:lnTo>
                    <a:pt x="9789" y="21600"/>
                  </a:lnTo>
                  <a:lnTo>
                    <a:pt x="10162" y="21600"/>
                  </a:lnTo>
                  <a:lnTo>
                    <a:pt x="10321" y="21600"/>
                  </a:lnTo>
                  <a:lnTo>
                    <a:pt x="10481" y="21600"/>
                  </a:lnTo>
                  <a:lnTo>
                    <a:pt x="10640" y="21600"/>
                  </a:lnTo>
                  <a:lnTo>
                    <a:pt x="10800" y="21600"/>
                  </a:lnTo>
                  <a:lnTo>
                    <a:pt x="10960" y="21600"/>
                  </a:lnTo>
                  <a:lnTo>
                    <a:pt x="11119" y="21399"/>
                  </a:lnTo>
                  <a:lnTo>
                    <a:pt x="11598" y="21199"/>
                  </a:lnTo>
                  <a:lnTo>
                    <a:pt x="12609" y="20798"/>
                  </a:lnTo>
                  <a:lnTo>
                    <a:pt x="13407" y="20530"/>
                  </a:lnTo>
                  <a:lnTo>
                    <a:pt x="14418" y="20129"/>
                  </a:lnTo>
                  <a:lnTo>
                    <a:pt x="15375" y="19928"/>
                  </a:lnTo>
                  <a:lnTo>
                    <a:pt x="16173" y="19728"/>
                  </a:lnTo>
                  <a:lnTo>
                    <a:pt x="17184" y="19527"/>
                  </a:lnTo>
                  <a:lnTo>
                    <a:pt x="18142" y="19326"/>
                  </a:lnTo>
                  <a:lnTo>
                    <a:pt x="18993" y="18925"/>
                  </a:lnTo>
                  <a:lnTo>
                    <a:pt x="18993" y="19126"/>
                  </a:lnTo>
                  <a:lnTo>
                    <a:pt x="18833" y="19126"/>
                  </a:lnTo>
                  <a:lnTo>
                    <a:pt x="19472" y="19126"/>
                  </a:lnTo>
                  <a:lnTo>
                    <a:pt x="19791" y="19126"/>
                  </a:lnTo>
                  <a:lnTo>
                    <a:pt x="20270" y="18724"/>
                  </a:lnTo>
                  <a:lnTo>
                    <a:pt x="20802" y="18524"/>
                  </a:lnTo>
                  <a:lnTo>
                    <a:pt x="21121" y="18123"/>
                  </a:lnTo>
                  <a:lnTo>
                    <a:pt x="21281" y="17454"/>
                  </a:lnTo>
                  <a:lnTo>
                    <a:pt x="21600" y="17053"/>
                  </a:lnTo>
                  <a:lnTo>
                    <a:pt x="21600" y="16451"/>
                  </a:lnTo>
                  <a:lnTo>
                    <a:pt x="21600" y="15849"/>
                  </a:lnTo>
                  <a:lnTo>
                    <a:pt x="21600" y="15180"/>
                  </a:lnTo>
                  <a:lnTo>
                    <a:pt x="21281" y="14578"/>
                  </a:lnTo>
                  <a:lnTo>
                    <a:pt x="21121" y="13976"/>
                  </a:lnTo>
                  <a:lnTo>
                    <a:pt x="20802" y="13575"/>
                  </a:lnTo>
                  <a:lnTo>
                    <a:pt x="20270" y="13375"/>
                  </a:lnTo>
                  <a:lnTo>
                    <a:pt x="19951" y="13174"/>
                  </a:lnTo>
                  <a:lnTo>
                    <a:pt x="19472" y="12973"/>
                  </a:lnTo>
                  <a:close/>
                  <a:moveTo>
                    <a:pt x="19472" y="12973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>
              <a:off x="6607440" y="4587840"/>
              <a:ext cx="50328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19" y="4225"/>
                  </a:moveTo>
                  <a:lnTo>
                    <a:pt x="21191" y="4046"/>
                  </a:lnTo>
                  <a:lnTo>
                    <a:pt x="21396" y="3630"/>
                  </a:lnTo>
                  <a:lnTo>
                    <a:pt x="21396" y="3451"/>
                  </a:lnTo>
                  <a:lnTo>
                    <a:pt x="21600" y="3094"/>
                  </a:lnTo>
                  <a:lnTo>
                    <a:pt x="21600" y="2737"/>
                  </a:lnTo>
                  <a:lnTo>
                    <a:pt x="21600" y="2559"/>
                  </a:lnTo>
                  <a:lnTo>
                    <a:pt x="21600" y="2202"/>
                  </a:lnTo>
                  <a:lnTo>
                    <a:pt x="21396" y="2023"/>
                  </a:lnTo>
                  <a:lnTo>
                    <a:pt x="21191" y="1428"/>
                  </a:lnTo>
                  <a:lnTo>
                    <a:pt x="20714" y="893"/>
                  </a:lnTo>
                  <a:lnTo>
                    <a:pt x="20305" y="536"/>
                  </a:lnTo>
                  <a:lnTo>
                    <a:pt x="19897" y="357"/>
                  </a:lnTo>
                  <a:lnTo>
                    <a:pt x="19283" y="0"/>
                  </a:lnTo>
                  <a:lnTo>
                    <a:pt x="18670" y="0"/>
                  </a:lnTo>
                  <a:lnTo>
                    <a:pt x="17989" y="0"/>
                  </a:lnTo>
                  <a:lnTo>
                    <a:pt x="17375" y="0"/>
                  </a:lnTo>
                  <a:lnTo>
                    <a:pt x="16558" y="179"/>
                  </a:lnTo>
                  <a:lnTo>
                    <a:pt x="15263" y="536"/>
                  </a:lnTo>
                  <a:lnTo>
                    <a:pt x="14037" y="714"/>
                  </a:lnTo>
                  <a:lnTo>
                    <a:pt x="12538" y="1071"/>
                  </a:lnTo>
                  <a:lnTo>
                    <a:pt x="11311" y="1250"/>
                  </a:lnTo>
                  <a:lnTo>
                    <a:pt x="10016" y="1666"/>
                  </a:lnTo>
                  <a:lnTo>
                    <a:pt x="8790" y="1845"/>
                  </a:lnTo>
                  <a:lnTo>
                    <a:pt x="7563" y="2023"/>
                  </a:lnTo>
                  <a:lnTo>
                    <a:pt x="6064" y="2380"/>
                  </a:lnTo>
                  <a:lnTo>
                    <a:pt x="5656" y="2023"/>
                  </a:lnTo>
                  <a:lnTo>
                    <a:pt x="5042" y="1845"/>
                  </a:lnTo>
                  <a:lnTo>
                    <a:pt x="4565" y="1845"/>
                  </a:lnTo>
                  <a:lnTo>
                    <a:pt x="3952" y="1845"/>
                  </a:lnTo>
                  <a:lnTo>
                    <a:pt x="3339" y="1845"/>
                  </a:lnTo>
                  <a:lnTo>
                    <a:pt x="2930" y="2023"/>
                  </a:lnTo>
                  <a:lnTo>
                    <a:pt x="2521" y="2202"/>
                  </a:lnTo>
                  <a:lnTo>
                    <a:pt x="1840" y="2559"/>
                  </a:lnTo>
                  <a:lnTo>
                    <a:pt x="1431" y="2916"/>
                  </a:lnTo>
                  <a:lnTo>
                    <a:pt x="1226" y="3094"/>
                  </a:lnTo>
                  <a:lnTo>
                    <a:pt x="818" y="3451"/>
                  </a:lnTo>
                  <a:lnTo>
                    <a:pt x="818" y="4046"/>
                  </a:lnTo>
                  <a:lnTo>
                    <a:pt x="818" y="4760"/>
                  </a:lnTo>
                  <a:lnTo>
                    <a:pt x="1226" y="5653"/>
                  </a:lnTo>
                  <a:lnTo>
                    <a:pt x="2112" y="6783"/>
                  </a:lnTo>
                  <a:lnTo>
                    <a:pt x="3339" y="8212"/>
                  </a:lnTo>
                  <a:lnTo>
                    <a:pt x="0" y="5117"/>
                  </a:lnTo>
                  <a:lnTo>
                    <a:pt x="0" y="5296"/>
                  </a:lnTo>
                  <a:lnTo>
                    <a:pt x="0" y="5474"/>
                  </a:lnTo>
                  <a:lnTo>
                    <a:pt x="0" y="5653"/>
                  </a:lnTo>
                  <a:lnTo>
                    <a:pt x="0" y="5831"/>
                  </a:lnTo>
                  <a:lnTo>
                    <a:pt x="0" y="6010"/>
                  </a:lnTo>
                  <a:lnTo>
                    <a:pt x="204" y="6605"/>
                  </a:lnTo>
                  <a:lnTo>
                    <a:pt x="409" y="7140"/>
                  </a:lnTo>
                  <a:lnTo>
                    <a:pt x="818" y="7498"/>
                  </a:lnTo>
                  <a:lnTo>
                    <a:pt x="1226" y="7855"/>
                  </a:lnTo>
                  <a:lnTo>
                    <a:pt x="1635" y="8212"/>
                  </a:lnTo>
                  <a:lnTo>
                    <a:pt x="2317" y="8390"/>
                  </a:lnTo>
                  <a:lnTo>
                    <a:pt x="2930" y="8569"/>
                  </a:lnTo>
                  <a:lnTo>
                    <a:pt x="3543" y="8390"/>
                  </a:lnTo>
                  <a:lnTo>
                    <a:pt x="4838" y="8212"/>
                  </a:lnTo>
                  <a:lnTo>
                    <a:pt x="5042" y="8212"/>
                  </a:lnTo>
                  <a:lnTo>
                    <a:pt x="5247" y="8212"/>
                  </a:lnTo>
                  <a:lnTo>
                    <a:pt x="5451" y="8212"/>
                  </a:lnTo>
                  <a:lnTo>
                    <a:pt x="5656" y="8033"/>
                  </a:lnTo>
                  <a:lnTo>
                    <a:pt x="5860" y="8033"/>
                  </a:lnTo>
                  <a:lnTo>
                    <a:pt x="6064" y="8033"/>
                  </a:lnTo>
                  <a:lnTo>
                    <a:pt x="6269" y="8033"/>
                  </a:lnTo>
                  <a:lnTo>
                    <a:pt x="5656" y="8807"/>
                  </a:lnTo>
                  <a:lnTo>
                    <a:pt x="5451" y="8985"/>
                  </a:lnTo>
                  <a:lnTo>
                    <a:pt x="5247" y="9342"/>
                  </a:lnTo>
                  <a:lnTo>
                    <a:pt x="5042" y="9521"/>
                  </a:lnTo>
                  <a:lnTo>
                    <a:pt x="5042" y="9878"/>
                  </a:lnTo>
                  <a:lnTo>
                    <a:pt x="5042" y="10235"/>
                  </a:lnTo>
                  <a:lnTo>
                    <a:pt x="5042" y="10413"/>
                  </a:lnTo>
                  <a:lnTo>
                    <a:pt x="5042" y="10770"/>
                  </a:lnTo>
                  <a:lnTo>
                    <a:pt x="5042" y="11187"/>
                  </a:lnTo>
                  <a:lnTo>
                    <a:pt x="5042" y="11365"/>
                  </a:lnTo>
                  <a:lnTo>
                    <a:pt x="5247" y="11365"/>
                  </a:lnTo>
                  <a:lnTo>
                    <a:pt x="5247" y="11544"/>
                  </a:lnTo>
                  <a:lnTo>
                    <a:pt x="4838" y="11901"/>
                  </a:lnTo>
                  <a:lnTo>
                    <a:pt x="4156" y="12258"/>
                  </a:lnTo>
                  <a:lnTo>
                    <a:pt x="3748" y="12436"/>
                  </a:lnTo>
                  <a:lnTo>
                    <a:pt x="3339" y="12793"/>
                  </a:lnTo>
                  <a:lnTo>
                    <a:pt x="2930" y="13150"/>
                  </a:lnTo>
                  <a:lnTo>
                    <a:pt x="2521" y="13567"/>
                  </a:lnTo>
                  <a:lnTo>
                    <a:pt x="1840" y="13924"/>
                  </a:lnTo>
                  <a:lnTo>
                    <a:pt x="1431" y="14281"/>
                  </a:lnTo>
                  <a:lnTo>
                    <a:pt x="1022" y="14460"/>
                  </a:lnTo>
                  <a:lnTo>
                    <a:pt x="818" y="14638"/>
                  </a:lnTo>
                  <a:lnTo>
                    <a:pt x="613" y="14995"/>
                  </a:lnTo>
                  <a:lnTo>
                    <a:pt x="409" y="15174"/>
                  </a:lnTo>
                  <a:lnTo>
                    <a:pt x="204" y="15531"/>
                  </a:lnTo>
                  <a:lnTo>
                    <a:pt x="204" y="15947"/>
                  </a:lnTo>
                  <a:lnTo>
                    <a:pt x="0" y="16304"/>
                  </a:lnTo>
                  <a:lnTo>
                    <a:pt x="0" y="16483"/>
                  </a:lnTo>
                  <a:lnTo>
                    <a:pt x="0" y="16840"/>
                  </a:lnTo>
                  <a:lnTo>
                    <a:pt x="204" y="17375"/>
                  </a:lnTo>
                  <a:lnTo>
                    <a:pt x="409" y="17911"/>
                  </a:lnTo>
                  <a:lnTo>
                    <a:pt x="818" y="18327"/>
                  </a:lnTo>
                  <a:lnTo>
                    <a:pt x="1226" y="18684"/>
                  </a:lnTo>
                  <a:lnTo>
                    <a:pt x="1635" y="19041"/>
                  </a:lnTo>
                  <a:lnTo>
                    <a:pt x="2317" y="19220"/>
                  </a:lnTo>
                  <a:lnTo>
                    <a:pt x="2930" y="19398"/>
                  </a:lnTo>
                  <a:lnTo>
                    <a:pt x="3543" y="19398"/>
                  </a:lnTo>
                  <a:lnTo>
                    <a:pt x="4156" y="19220"/>
                  </a:lnTo>
                  <a:lnTo>
                    <a:pt x="4156" y="19398"/>
                  </a:lnTo>
                  <a:lnTo>
                    <a:pt x="4156" y="19577"/>
                  </a:lnTo>
                  <a:lnTo>
                    <a:pt x="4565" y="20112"/>
                  </a:lnTo>
                  <a:lnTo>
                    <a:pt x="4838" y="20707"/>
                  </a:lnTo>
                  <a:lnTo>
                    <a:pt x="5451" y="21064"/>
                  </a:lnTo>
                  <a:lnTo>
                    <a:pt x="5860" y="21243"/>
                  </a:lnTo>
                  <a:lnTo>
                    <a:pt x="6473" y="21600"/>
                  </a:lnTo>
                  <a:lnTo>
                    <a:pt x="7086" y="21600"/>
                  </a:lnTo>
                  <a:lnTo>
                    <a:pt x="7768" y="21600"/>
                  </a:lnTo>
                  <a:lnTo>
                    <a:pt x="8381" y="21421"/>
                  </a:lnTo>
                  <a:lnTo>
                    <a:pt x="8585" y="21421"/>
                  </a:lnTo>
                  <a:lnTo>
                    <a:pt x="8790" y="21421"/>
                  </a:lnTo>
                  <a:lnTo>
                    <a:pt x="8994" y="21421"/>
                  </a:lnTo>
                  <a:lnTo>
                    <a:pt x="9608" y="21064"/>
                  </a:lnTo>
                  <a:lnTo>
                    <a:pt x="10289" y="20707"/>
                  </a:lnTo>
                  <a:lnTo>
                    <a:pt x="10902" y="20469"/>
                  </a:lnTo>
                  <a:lnTo>
                    <a:pt x="11515" y="20112"/>
                  </a:lnTo>
                  <a:lnTo>
                    <a:pt x="12129" y="19934"/>
                  </a:lnTo>
                  <a:lnTo>
                    <a:pt x="12742" y="19755"/>
                  </a:lnTo>
                  <a:lnTo>
                    <a:pt x="13423" y="19398"/>
                  </a:lnTo>
                  <a:lnTo>
                    <a:pt x="14037" y="19220"/>
                  </a:lnTo>
                  <a:lnTo>
                    <a:pt x="16762" y="17375"/>
                  </a:lnTo>
                  <a:lnTo>
                    <a:pt x="16762" y="17197"/>
                  </a:lnTo>
                  <a:lnTo>
                    <a:pt x="16967" y="16840"/>
                  </a:lnTo>
                  <a:lnTo>
                    <a:pt x="16967" y="16661"/>
                  </a:lnTo>
                  <a:lnTo>
                    <a:pt x="17171" y="16483"/>
                  </a:lnTo>
                  <a:lnTo>
                    <a:pt x="17171" y="16304"/>
                  </a:lnTo>
                  <a:lnTo>
                    <a:pt x="17171" y="15947"/>
                  </a:lnTo>
                  <a:lnTo>
                    <a:pt x="17171" y="15709"/>
                  </a:lnTo>
                  <a:lnTo>
                    <a:pt x="17171" y="15531"/>
                  </a:lnTo>
                  <a:lnTo>
                    <a:pt x="17171" y="14995"/>
                  </a:lnTo>
                  <a:lnTo>
                    <a:pt x="16967" y="14638"/>
                  </a:lnTo>
                  <a:lnTo>
                    <a:pt x="16762" y="14281"/>
                  </a:lnTo>
                  <a:lnTo>
                    <a:pt x="16558" y="13924"/>
                  </a:lnTo>
                  <a:lnTo>
                    <a:pt x="16149" y="13567"/>
                  </a:lnTo>
                  <a:lnTo>
                    <a:pt x="15740" y="13329"/>
                  </a:lnTo>
                  <a:lnTo>
                    <a:pt x="15263" y="13150"/>
                  </a:lnTo>
                  <a:lnTo>
                    <a:pt x="14650" y="12972"/>
                  </a:lnTo>
                  <a:lnTo>
                    <a:pt x="14854" y="12793"/>
                  </a:lnTo>
                  <a:lnTo>
                    <a:pt x="15059" y="12793"/>
                  </a:lnTo>
                  <a:lnTo>
                    <a:pt x="15263" y="12793"/>
                  </a:lnTo>
                  <a:lnTo>
                    <a:pt x="15468" y="12615"/>
                  </a:lnTo>
                  <a:lnTo>
                    <a:pt x="15740" y="12436"/>
                  </a:lnTo>
                  <a:lnTo>
                    <a:pt x="15944" y="12436"/>
                  </a:lnTo>
                  <a:lnTo>
                    <a:pt x="16149" y="12258"/>
                  </a:lnTo>
                  <a:lnTo>
                    <a:pt x="18193" y="10413"/>
                  </a:lnTo>
                  <a:lnTo>
                    <a:pt x="18466" y="10235"/>
                  </a:lnTo>
                  <a:lnTo>
                    <a:pt x="18670" y="9878"/>
                  </a:lnTo>
                  <a:lnTo>
                    <a:pt x="18670" y="9699"/>
                  </a:lnTo>
                  <a:lnTo>
                    <a:pt x="18874" y="9521"/>
                  </a:lnTo>
                  <a:lnTo>
                    <a:pt x="18874" y="9164"/>
                  </a:lnTo>
                  <a:lnTo>
                    <a:pt x="18874" y="8985"/>
                  </a:lnTo>
                  <a:lnTo>
                    <a:pt x="18874" y="8569"/>
                  </a:lnTo>
                  <a:lnTo>
                    <a:pt x="18874" y="8390"/>
                  </a:lnTo>
                  <a:lnTo>
                    <a:pt x="18874" y="8033"/>
                  </a:lnTo>
                  <a:lnTo>
                    <a:pt x="18670" y="7855"/>
                  </a:lnTo>
                  <a:lnTo>
                    <a:pt x="18670" y="7676"/>
                  </a:lnTo>
                  <a:lnTo>
                    <a:pt x="18466" y="7498"/>
                  </a:lnTo>
                  <a:lnTo>
                    <a:pt x="18193" y="7319"/>
                  </a:lnTo>
                  <a:lnTo>
                    <a:pt x="18193" y="6962"/>
                  </a:lnTo>
                  <a:lnTo>
                    <a:pt x="17989" y="6962"/>
                  </a:lnTo>
                  <a:lnTo>
                    <a:pt x="17784" y="6783"/>
                  </a:lnTo>
                  <a:lnTo>
                    <a:pt x="17784" y="6605"/>
                  </a:lnTo>
                  <a:lnTo>
                    <a:pt x="17989" y="6605"/>
                  </a:lnTo>
                  <a:lnTo>
                    <a:pt x="18193" y="6426"/>
                  </a:lnTo>
                  <a:lnTo>
                    <a:pt x="18466" y="6188"/>
                  </a:lnTo>
                  <a:lnTo>
                    <a:pt x="18670" y="6188"/>
                  </a:lnTo>
                  <a:lnTo>
                    <a:pt x="18670" y="6010"/>
                  </a:lnTo>
                  <a:lnTo>
                    <a:pt x="18874" y="6010"/>
                  </a:lnTo>
                  <a:lnTo>
                    <a:pt x="20919" y="4225"/>
                  </a:lnTo>
                  <a:close/>
                  <a:moveTo>
                    <a:pt x="16149" y="893"/>
                  </a:moveTo>
                  <a:lnTo>
                    <a:pt x="16149" y="893"/>
                  </a:lnTo>
                  <a:lnTo>
                    <a:pt x="15944" y="1071"/>
                  </a:lnTo>
                  <a:lnTo>
                    <a:pt x="15740" y="1071"/>
                  </a:lnTo>
                  <a:lnTo>
                    <a:pt x="16149" y="893"/>
                  </a:lnTo>
                  <a:close/>
                  <a:moveTo>
                    <a:pt x="3339" y="2737"/>
                  </a:moveTo>
                  <a:lnTo>
                    <a:pt x="3339" y="2916"/>
                  </a:lnTo>
                  <a:lnTo>
                    <a:pt x="3339" y="2737"/>
                  </a:lnTo>
                  <a:lnTo>
                    <a:pt x="3134" y="2737"/>
                  </a:lnTo>
                  <a:lnTo>
                    <a:pt x="3339" y="2737"/>
                  </a:lnTo>
                  <a:close/>
                  <a:moveTo>
                    <a:pt x="4361" y="4582"/>
                  </a:moveTo>
                  <a:lnTo>
                    <a:pt x="6269" y="6426"/>
                  </a:lnTo>
                  <a:lnTo>
                    <a:pt x="5860" y="6962"/>
                  </a:lnTo>
                  <a:lnTo>
                    <a:pt x="5860" y="6605"/>
                  </a:lnTo>
                  <a:lnTo>
                    <a:pt x="5656" y="6426"/>
                  </a:lnTo>
                  <a:lnTo>
                    <a:pt x="5451" y="6010"/>
                  </a:lnTo>
                  <a:lnTo>
                    <a:pt x="5247" y="5831"/>
                  </a:lnTo>
                  <a:lnTo>
                    <a:pt x="5042" y="5474"/>
                  </a:lnTo>
                  <a:lnTo>
                    <a:pt x="4838" y="5296"/>
                  </a:lnTo>
                  <a:lnTo>
                    <a:pt x="4565" y="4939"/>
                  </a:lnTo>
                  <a:lnTo>
                    <a:pt x="4361" y="4582"/>
                  </a:lnTo>
                  <a:close/>
                  <a:moveTo>
                    <a:pt x="4361" y="4582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72"/>
            <p:cNvSpPr/>
            <p:nvPr/>
          </p:nvSpPr>
          <p:spPr>
            <a:xfrm>
              <a:off x="4897440" y="4216320"/>
              <a:ext cx="858960" cy="66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41" y="7064"/>
                  </a:moveTo>
                  <a:lnTo>
                    <a:pt x="21001" y="6756"/>
                  </a:lnTo>
                  <a:lnTo>
                    <a:pt x="20642" y="6449"/>
                  </a:lnTo>
                  <a:lnTo>
                    <a:pt x="20362" y="6142"/>
                  </a:lnTo>
                  <a:lnTo>
                    <a:pt x="20003" y="6142"/>
                  </a:lnTo>
                  <a:lnTo>
                    <a:pt x="19644" y="5989"/>
                  </a:lnTo>
                  <a:lnTo>
                    <a:pt x="19284" y="6142"/>
                  </a:lnTo>
                  <a:lnTo>
                    <a:pt x="18925" y="6296"/>
                  </a:lnTo>
                  <a:lnTo>
                    <a:pt x="18645" y="6449"/>
                  </a:lnTo>
                  <a:lnTo>
                    <a:pt x="18526" y="6603"/>
                  </a:lnTo>
                  <a:lnTo>
                    <a:pt x="18406" y="6603"/>
                  </a:lnTo>
                  <a:lnTo>
                    <a:pt x="18406" y="6756"/>
                  </a:lnTo>
                  <a:lnTo>
                    <a:pt x="18286" y="6756"/>
                  </a:lnTo>
                  <a:lnTo>
                    <a:pt x="18166" y="6756"/>
                  </a:lnTo>
                  <a:lnTo>
                    <a:pt x="18166" y="6910"/>
                  </a:lnTo>
                  <a:lnTo>
                    <a:pt x="18047" y="6910"/>
                  </a:lnTo>
                  <a:lnTo>
                    <a:pt x="17927" y="7064"/>
                  </a:lnTo>
                  <a:lnTo>
                    <a:pt x="17927" y="7268"/>
                  </a:lnTo>
                  <a:lnTo>
                    <a:pt x="17807" y="7268"/>
                  </a:lnTo>
                  <a:lnTo>
                    <a:pt x="17687" y="7422"/>
                  </a:lnTo>
                  <a:lnTo>
                    <a:pt x="17567" y="7575"/>
                  </a:lnTo>
                  <a:lnTo>
                    <a:pt x="17567" y="7729"/>
                  </a:lnTo>
                  <a:lnTo>
                    <a:pt x="17448" y="7882"/>
                  </a:lnTo>
                  <a:lnTo>
                    <a:pt x="17448" y="8036"/>
                  </a:lnTo>
                  <a:lnTo>
                    <a:pt x="17288" y="7882"/>
                  </a:lnTo>
                  <a:lnTo>
                    <a:pt x="17168" y="7882"/>
                  </a:lnTo>
                  <a:lnTo>
                    <a:pt x="16929" y="7729"/>
                  </a:lnTo>
                  <a:lnTo>
                    <a:pt x="16809" y="7729"/>
                  </a:lnTo>
                  <a:lnTo>
                    <a:pt x="16689" y="7575"/>
                  </a:lnTo>
                  <a:lnTo>
                    <a:pt x="16450" y="7575"/>
                  </a:lnTo>
                  <a:lnTo>
                    <a:pt x="16330" y="7575"/>
                  </a:lnTo>
                  <a:lnTo>
                    <a:pt x="16090" y="7575"/>
                  </a:lnTo>
                  <a:lnTo>
                    <a:pt x="15332" y="7729"/>
                  </a:lnTo>
                  <a:lnTo>
                    <a:pt x="15092" y="7882"/>
                  </a:lnTo>
                  <a:lnTo>
                    <a:pt x="14852" y="7882"/>
                  </a:lnTo>
                  <a:lnTo>
                    <a:pt x="14613" y="8036"/>
                  </a:lnTo>
                  <a:lnTo>
                    <a:pt x="14373" y="8036"/>
                  </a:lnTo>
                  <a:lnTo>
                    <a:pt x="14254" y="8190"/>
                  </a:lnTo>
                  <a:lnTo>
                    <a:pt x="13974" y="8190"/>
                  </a:lnTo>
                  <a:lnTo>
                    <a:pt x="13735" y="8343"/>
                  </a:lnTo>
                  <a:lnTo>
                    <a:pt x="13495" y="8343"/>
                  </a:lnTo>
                  <a:lnTo>
                    <a:pt x="13495" y="8190"/>
                  </a:lnTo>
                  <a:lnTo>
                    <a:pt x="13495" y="7729"/>
                  </a:lnTo>
                  <a:lnTo>
                    <a:pt x="13495" y="7268"/>
                  </a:lnTo>
                  <a:lnTo>
                    <a:pt x="13375" y="6910"/>
                  </a:lnTo>
                  <a:lnTo>
                    <a:pt x="13136" y="6449"/>
                  </a:lnTo>
                  <a:lnTo>
                    <a:pt x="12896" y="6142"/>
                  </a:lnTo>
                  <a:lnTo>
                    <a:pt x="12657" y="5835"/>
                  </a:lnTo>
                  <a:lnTo>
                    <a:pt x="12257" y="5682"/>
                  </a:lnTo>
                  <a:lnTo>
                    <a:pt x="11898" y="5528"/>
                  </a:lnTo>
                  <a:lnTo>
                    <a:pt x="11179" y="5528"/>
                  </a:lnTo>
                  <a:lnTo>
                    <a:pt x="10900" y="5528"/>
                  </a:lnTo>
                  <a:lnTo>
                    <a:pt x="10660" y="5528"/>
                  </a:lnTo>
                  <a:lnTo>
                    <a:pt x="10421" y="5528"/>
                  </a:lnTo>
                  <a:lnTo>
                    <a:pt x="10181" y="5528"/>
                  </a:lnTo>
                  <a:lnTo>
                    <a:pt x="9822" y="5682"/>
                  </a:lnTo>
                  <a:lnTo>
                    <a:pt x="9582" y="5682"/>
                  </a:lnTo>
                  <a:lnTo>
                    <a:pt x="9303" y="5682"/>
                  </a:lnTo>
                  <a:lnTo>
                    <a:pt x="9063" y="5682"/>
                  </a:lnTo>
                  <a:lnTo>
                    <a:pt x="9063" y="5528"/>
                  </a:lnTo>
                  <a:lnTo>
                    <a:pt x="9183" y="5528"/>
                  </a:lnTo>
                  <a:lnTo>
                    <a:pt x="9183" y="5374"/>
                  </a:lnTo>
                  <a:lnTo>
                    <a:pt x="9303" y="5221"/>
                  </a:lnTo>
                  <a:lnTo>
                    <a:pt x="9303" y="5016"/>
                  </a:lnTo>
                  <a:lnTo>
                    <a:pt x="9462" y="4863"/>
                  </a:lnTo>
                  <a:lnTo>
                    <a:pt x="9462" y="4709"/>
                  </a:lnTo>
                  <a:lnTo>
                    <a:pt x="9462" y="4555"/>
                  </a:lnTo>
                  <a:lnTo>
                    <a:pt x="9462" y="4248"/>
                  </a:lnTo>
                  <a:lnTo>
                    <a:pt x="9462" y="4095"/>
                  </a:lnTo>
                  <a:lnTo>
                    <a:pt x="9462" y="3941"/>
                  </a:lnTo>
                  <a:lnTo>
                    <a:pt x="9582" y="3941"/>
                  </a:lnTo>
                  <a:lnTo>
                    <a:pt x="9582" y="3788"/>
                  </a:lnTo>
                  <a:lnTo>
                    <a:pt x="9462" y="3327"/>
                  </a:lnTo>
                  <a:lnTo>
                    <a:pt x="9303" y="2969"/>
                  </a:lnTo>
                  <a:lnTo>
                    <a:pt x="9183" y="2508"/>
                  </a:lnTo>
                  <a:lnTo>
                    <a:pt x="8943" y="2201"/>
                  </a:lnTo>
                  <a:lnTo>
                    <a:pt x="8584" y="1894"/>
                  </a:lnTo>
                  <a:lnTo>
                    <a:pt x="8345" y="1740"/>
                  </a:lnTo>
                  <a:lnTo>
                    <a:pt x="7985" y="1587"/>
                  </a:lnTo>
                  <a:lnTo>
                    <a:pt x="7586" y="1587"/>
                  </a:lnTo>
                  <a:lnTo>
                    <a:pt x="7107" y="1587"/>
                  </a:lnTo>
                  <a:lnTo>
                    <a:pt x="6867" y="1587"/>
                  </a:lnTo>
                  <a:lnTo>
                    <a:pt x="6628" y="1587"/>
                  </a:lnTo>
                  <a:lnTo>
                    <a:pt x="6388" y="1587"/>
                  </a:lnTo>
                  <a:lnTo>
                    <a:pt x="6268" y="1587"/>
                  </a:lnTo>
                  <a:lnTo>
                    <a:pt x="5989" y="1587"/>
                  </a:lnTo>
                  <a:lnTo>
                    <a:pt x="5749" y="1587"/>
                  </a:lnTo>
                  <a:lnTo>
                    <a:pt x="5510" y="1587"/>
                  </a:lnTo>
                  <a:lnTo>
                    <a:pt x="5390" y="1587"/>
                  </a:lnTo>
                  <a:lnTo>
                    <a:pt x="5270" y="1433"/>
                  </a:lnTo>
                  <a:lnTo>
                    <a:pt x="5270" y="1280"/>
                  </a:lnTo>
                  <a:lnTo>
                    <a:pt x="5150" y="1126"/>
                  </a:lnTo>
                  <a:lnTo>
                    <a:pt x="4911" y="614"/>
                  </a:lnTo>
                  <a:lnTo>
                    <a:pt x="4631" y="307"/>
                  </a:lnTo>
                  <a:lnTo>
                    <a:pt x="4272" y="154"/>
                  </a:lnTo>
                  <a:lnTo>
                    <a:pt x="4033" y="0"/>
                  </a:lnTo>
                  <a:lnTo>
                    <a:pt x="3673" y="0"/>
                  </a:lnTo>
                  <a:lnTo>
                    <a:pt x="3314" y="0"/>
                  </a:lnTo>
                  <a:lnTo>
                    <a:pt x="2915" y="154"/>
                  </a:lnTo>
                  <a:lnTo>
                    <a:pt x="2555" y="307"/>
                  </a:lnTo>
                  <a:lnTo>
                    <a:pt x="2316" y="461"/>
                  </a:lnTo>
                  <a:lnTo>
                    <a:pt x="2076" y="768"/>
                  </a:lnTo>
                  <a:lnTo>
                    <a:pt x="1837" y="921"/>
                  </a:lnTo>
                  <a:lnTo>
                    <a:pt x="1717" y="1126"/>
                  </a:lnTo>
                  <a:lnTo>
                    <a:pt x="1437" y="1433"/>
                  </a:lnTo>
                  <a:lnTo>
                    <a:pt x="1198" y="1587"/>
                  </a:lnTo>
                  <a:lnTo>
                    <a:pt x="958" y="1894"/>
                  </a:lnTo>
                  <a:lnTo>
                    <a:pt x="838" y="2047"/>
                  </a:lnTo>
                  <a:lnTo>
                    <a:pt x="958" y="2662"/>
                  </a:lnTo>
                  <a:lnTo>
                    <a:pt x="958" y="3173"/>
                  </a:lnTo>
                  <a:lnTo>
                    <a:pt x="1078" y="3788"/>
                  </a:lnTo>
                  <a:lnTo>
                    <a:pt x="1198" y="4248"/>
                  </a:lnTo>
                  <a:lnTo>
                    <a:pt x="1318" y="4709"/>
                  </a:lnTo>
                  <a:lnTo>
                    <a:pt x="1437" y="5374"/>
                  </a:lnTo>
                  <a:lnTo>
                    <a:pt x="1597" y="5835"/>
                  </a:lnTo>
                  <a:lnTo>
                    <a:pt x="1597" y="6449"/>
                  </a:lnTo>
                  <a:lnTo>
                    <a:pt x="240" y="3173"/>
                  </a:lnTo>
                  <a:lnTo>
                    <a:pt x="120" y="3327"/>
                  </a:lnTo>
                  <a:lnTo>
                    <a:pt x="120" y="3634"/>
                  </a:lnTo>
                  <a:lnTo>
                    <a:pt x="0" y="3788"/>
                  </a:lnTo>
                  <a:lnTo>
                    <a:pt x="0" y="3941"/>
                  </a:lnTo>
                  <a:lnTo>
                    <a:pt x="0" y="4248"/>
                  </a:lnTo>
                  <a:lnTo>
                    <a:pt x="0" y="4402"/>
                  </a:lnTo>
                  <a:lnTo>
                    <a:pt x="0" y="4709"/>
                  </a:lnTo>
                  <a:lnTo>
                    <a:pt x="0" y="4863"/>
                  </a:lnTo>
                  <a:lnTo>
                    <a:pt x="120" y="5374"/>
                  </a:lnTo>
                  <a:lnTo>
                    <a:pt x="240" y="5835"/>
                  </a:lnTo>
                  <a:lnTo>
                    <a:pt x="479" y="6142"/>
                  </a:lnTo>
                  <a:lnTo>
                    <a:pt x="719" y="6449"/>
                  </a:lnTo>
                  <a:lnTo>
                    <a:pt x="1078" y="6603"/>
                  </a:lnTo>
                  <a:lnTo>
                    <a:pt x="1437" y="6756"/>
                  </a:lnTo>
                  <a:lnTo>
                    <a:pt x="1837" y="6756"/>
                  </a:lnTo>
                  <a:lnTo>
                    <a:pt x="2196" y="6756"/>
                  </a:lnTo>
                  <a:lnTo>
                    <a:pt x="2795" y="6603"/>
                  </a:lnTo>
                  <a:lnTo>
                    <a:pt x="2915" y="6603"/>
                  </a:lnTo>
                  <a:lnTo>
                    <a:pt x="3034" y="6603"/>
                  </a:lnTo>
                  <a:lnTo>
                    <a:pt x="3194" y="6603"/>
                  </a:lnTo>
                  <a:lnTo>
                    <a:pt x="3034" y="6603"/>
                  </a:lnTo>
                  <a:lnTo>
                    <a:pt x="3034" y="6756"/>
                  </a:lnTo>
                  <a:lnTo>
                    <a:pt x="2915" y="6910"/>
                  </a:lnTo>
                  <a:lnTo>
                    <a:pt x="2795" y="7064"/>
                  </a:lnTo>
                  <a:lnTo>
                    <a:pt x="2675" y="7268"/>
                  </a:lnTo>
                  <a:lnTo>
                    <a:pt x="2675" y="7422"/>
                  </a:lnTo>
                  <a:lnTo>
                    <a:pt x="2555" y="7422"/>
                  </a:lnTo>
                  <a:lnTo>
                    <a:pt x="2316" y="7882"/>
                  </a:lnTo>
                  <a:lnTo>
                    <a:pt x="2316" y="8036"/>
                  </a:lnTo>
                  <a:lnTo>
                    <a:pt x="2196" y="8036"/>
                  </a:lnTo>
                  <a:lnTo>
                    <a:pt x="2076" y="8190"/>
                  </a:lnTo>
                  <a:lnTo>
                    <a:pt x="2076" y="8497"/>
                  </a:lnTo>
                  <a:lnTo>
                    <a:pt x="2076" y="8650"/>
                  </a:lnTo>
                  <a:lnTo>
                    <a:pt x="1956" y="8804"/>
                  </a:lnTo>
                  <a:lnTo>
                    <a:pt x="1956" y="8957"/>
                  </a:lnTo>
                  <a:lnTo>
                    <a:pt x="1956" y="9111"/>
                  </a:lnTo>
                  <a:lnTo>
                    <a:pt x="1956" y="9623"/>
                  </a:lnTo>
                  <a:lnTo>
                    <a:pt x="2076" y="10083"/>
                  </a:lnTo>
                  <a:lnTo>
                    <a:pt x="2196" y="10544"/>
                  </a:lnTo>
                  <a:lnTo>
                    <a:pt x="2316" y="10851"/>
                  </a:lnTo>
                  <a:lnTo>
                    <a:pt x="2675" y="11158"/>
                  </a:lnTo>
                  <a:lnTo>
                    <a:pt x="2915" y="11517"/>
                  </a:lnTo>
                  <a:lnTo>
                    <a:pt x="3314" y="11670"/>
                  </a:lnTo>
                  <a:lnTo>
                    <a:pt x="3673" y="11670"/>
                  </a:lnTo>
                  <a:lnTo>
                    <a:pt x="4512" y="11670"/>
                  </a:lnTo>
                  <a:lnTo>
                    <a:pt x="4631" y="11670"/>
                  </a:lnTo>
                  <a:lnTo>
                    <a:pt x="4911" y="11517"/>
                  </a:lnTo>
                  <a:lnTo>
                    <a:pt x="5150" y="11363"/>
                  </a:lnTo>
                  <a:lnTo>
                    <a:pt x="5270" y="11363"/>
                  </a:lnTo>
                  <a:lnTo>
                    <a:pt x="5510" y="11158"/>
                  </a:lnTo>
                  <a:lnTo>
                    <a:pt x="5749" y="11158"/>
                  </a:lnTo>
                  <a:lnTo>
                    <a:pt x="5869" y="11005"/>
                  </a:lnTo>
                  <a:lnTo>
                    <a:pt x="6109" y="11005"/>
                  </a:lnTo>
                  <a:lnTo>
                    <a:pt x="6109" y="11158"/>
                  </a:lnTo>
                  <a:lnTo>
                    <a:pt x="5989" y="11158"/>
                  </a:lnTo>
                  <a:lnTo>
                    <a:pt x="5869" y="11363"/>
                  </a:lnTo>
                  <a:lnTo>
                    <a:pt x="5630" y="11670"/>
                  </a:lnTo>
                  <a:lnTo>
                    <a:pt x="5510" y="11824"/>
                  </a:lnTo>
                  <a:lnTo>
                    <a:pt x="5270" y="12131"/>
                  </a:lnTo>
                  <a:lnTo>
                    <a:pt x="5270" y="12438"/>
                  </a:lnTo>
                  <a:lnTo>
                    <a:pt x="5150" y="12745"/>
                  </a:lnTo>
                  <a:lnTo>
                    <a:pt x="5031" y="13052"/>
                  </a:lnTo>
                  <a:lnTo>
                    <a:pt x="5031" y="13410"/>
                  </a:lnTo>
                  <a:lnTo>
                    <a:pt x="5031" y="13718"/>
                  </a:lnTo>
                  <a:lnTo>
                    <a:pt x="5150" y="14025"/>
                  </a:lnTo>
                  <a:lnTo>
                    <a:pt x="5270" y="14485"/>
                  </a:lnTo>
                  <a:lnTo>
                    <a:pt x="5390" y="14792"/>
                  </a:lnTo>
                  <a:lnTo>
                    <a:pt x="5630" y="15100"/>
                  </a:lnTo>
                  <a:lnTo>
                    <a:pt x="5989" y="15458"/>
                  </a:lnTo>
                  <a:lnTo>
                    <a:pt x="6268" y="15611"/>
                  </a:lnTo>
                  <a:lnTo>
                    <a:pt x="6628" y="15765"/>
                  </a:lnTo>
                  <a:lnTo>
                    <a:pt x="6987" y="15765"/>
                  </a:lnTo>
                  <a:lnTo>
                    <a:pt x="7346" y="15765"/>
                  </a:lnTo>
                  <a:lnTo>
                    <a:pt x="7227" y="15765"/>
                  </a:lnTo>
                  <a:lnTo>
                    <a:pt x="7107" y="15918"/>
                  </a:lnTo>
                  <a:lnTo>
                    <a:pt x="6508" y="16533"/>
                  </a:lnTo>
                  <a:lnTo>
                    <a:pt x="6388" y="16533"/>
                  </a:lnTo>
                  <a:lnTo>
                    <a:pt x="6268" y="16840"/>
                  </a:lnTo>
                  <a:lnTo>
                    <a:pt x="6109" y="16993"/>
                  </a:lnTo>
                  <a:lnTo>
                    <a:pt x="6109" y="17147"/>
                  </a:lnTo>
                  <a:lnTo>
                    <a:pt x="5989" y="17300"/>
                  </a:lnTo>
                  <a:lnTo>
                    <a:pt x="5869" y="17659"/>
                  </a:lnTo>
                  <a:lnTo>
                    <a:pt x="5869" y="17812"/>
                  </a:lnTo>
                  <a:lnTo>
                    <a:pt x="5869" y="17966"/>
                  </a:lnTo>
                  <a:lnTo>
                    <a:pt x="5869" y="18580"/>
                  </a:lnTo>
                  <a:lnTo>
                    <a:pt x="5869" y="18887"/>
                  </a:lnTo>
                  <a:lnTo>
                    <a:pt x="5989" y="19348"/>
                  </a:lnTo>
                  <a:lnTo>
                    <a:pt x="6268" y="19860"/>
                  </a:lnTo>
                  <a:lnTo>
                    <a:pt x="6508" y="20167"/>
                  </a:lnTo>
                  <a:lnTo>
                    <a:pt x="6748" y="20474"/>
                  </a:lnTo>
                  <a:lnTo>
                    <a:pt x="7107" y="20627"/>
                  </a:lnTo>
                  <a:lnTo>
                    <a:pt x="7466" y="20781"/>
                  </a:lnTo>
                  <a:lnTo>
                    <a:pt x="8105" y="20781"/>
                  </a:lnTo>
                  <a:lnTo>
                    <a:pt x="8345" y="20781"/>
                  </a:lnTo>
                  <a:lnTo>
                    <a:pt x="8464" y="20781"/>
                  </a:lnTo>
                  <a:lnTo>
                    <a:pt x="8704" y="20781"/>
                  </a:lnTo>
                  <a:lnTo>
                    <a:pt x="8824" y="20781"/>
                  </a:lnTo>
                  <a:lnTo>
                    <a:pt x="9063" y="20627"/>
                  </a:lnTo>
                  <a:lnTo>
                    <a:pt x="9183" y="20627"/>
                  </a:lnTo>
                  <a:lnTo>
                    <a:pt x="9462" y="20627"/>
                  </a:lnTo>
                  <a:lnTo>
                    <a:pt x="9582" y="20627"/>
                  </a:lnTo>
                  <a:lnTo>
                    <a:pt x="9702" y="20781"/>
                  </a:lnTo>
                  <a:lnTo>
                    <a:pt x="9822" y="20935"/>
                  </a:lnTo>
                  <a:lnTo>
                    <a:pt x="9942" y="21088"/>
                  </a:lnTo>
                  <a:lnTo>
                    <a:pt x="10061" y="21088"/>
                  </a:lnTo>
                  <a:lnTo>
                    <a:pt x="10181" y="21242"/>
                  </a:lnTo>
                  <a:lnTo>
                    <a:pt x="10301" y="21395"/>
                  </a:lnTo>
                  <a:lnTo>
                    <a:pt x="10421" y="21395"/>
                  </a:lnTo>
                  <a:lnTo>
                    <a:pt x="10660" y="21600"/>
                  </a:lnTo>
                  <a:lnTo>
                    <a:pt x="11060" y="21600"/>
                  </a:lnTo>
                  <a:lnTo>
                    <a:pt x="11419" y="21600"/>
                  </a:lnTo>
                  <a:lnTo>
                    <a:pt x="11658" y="21395"/>
                  </a:lnTo>
                  <a:lnTo>
                    <a:pt x="12018" y="21242"/>
                  </a:lnTo>
                  <a:lnTo>
                    <a:pt x="12257" y="20935"/>
                  </a:lnTo>
                  <a:lnTo>
                    <a:pt x="12497" y="20627"/>
                  </a:lnTo>
                  <a:lnTo>
                    <a:pt x="12776" y="20320"/>
                  </a:lnTo>
                  <a:lnTo>
                    <a:pt x="12896" y="19860"/>
                  </a:lnTo>
                  <a:lnTo>
                    <a:pt x="13016" y="19860"/>
                  </a:lnTo>
                  <a:lnTo>
                    <a:pt x="13016" y="19706"/>
                  </a:lnTo>
                  <a:lnTo>
                    <a:pt x="13136" y="19706"/>
                  </a:lnTo>
                  <a:lnTo>
                    <a:pt x="13136" y="19553"/>
                  </a:lnTo>
                  <a:lnTo>
                    <a:pt x="13735" y="17812"/>
                  </a:lnTo>
                  <a:lnTo>
                    <a:pt x="13854" y="17659"/>
                  </a:lnTo>
                  <a:lnTo>
                    <a:pt x="13854" y="17505"/>
                  </a:lnTo>
                  <a:lnTo>
                    <a:pt x="13854" y="17300"/>
                  </a:lnTo>
                  <a:lnTo>
                    <a:pt x="13854" y="17147"/>
                  </a:lnTo>
                  <a:lnTo>
                    <a:pt x="13854" y="16840"/>
                  </a:lnTo>
                  <a:lnTo>
                    <a:pt x="13854" y="16686"/>
                  </a:lnTo>
                  <a:lnTo>
                    <a:pt x="13735" y="16533"/>
                  </a:lnTo>
                  <a:lnTo>
                    <a:pt x="13735" y="16379"/>
                  </a:lnTo>
                  <a:lnTo>
                    <a:pt x="13735" y="16226"/>
                  </a:lnTo>
                  <a:lnTo>
                    <a:pt x="13615" y="16226"/>
                  </a:lnTo>
                  <a:lnTo>
                    <a:pt x="13615" y="16072"/>
                  </a:lnTo>
                  <a:lnTo>
                    <a:pt x="13495" y="15918"/>
                  </a:lnTo>
                  <a:lnTo>
                    <a:pt x="13375" y="15765"/>
                  </a:lnTo>
                  <a:lnTo>
                    <a:pt x="13735" y="15253"/>
                  </a:lnTo>
                  <a:lnTo>
                    <a:pt x="14094" y="14946"/>
                  </a:lnTo>
                  <a:lnTo>
                    <a:pt x="14493" y="14639"/>
                  </a:lnTo>
                  <a:lnTo>
                    <a:pt x="14852" y="14178"/>
                  </a:lnTo>
                  <a:lnTo>
                    <a:pt x="15212" y="13871"/>
                  </a:lnTo>
                  <a:lnTo>
                    <a:pt x="15571" y="13564"/>
                  </a:lnTo>
                  <a:lnTo>
                    <a:pt x="16090" y="13206"/>
                  </a:lnTo>
                  <a:lnTo>
                    <a:pt x="16450" y="12745"/>
                  </a:lnTo>
                  <a:lnTo>
                    <a:pt x="17567" y="11670"/>
                  </a:lnTo>
                  <a:lnTo>
                    <a:pt x="17687" y="11670"/>
                  </a:lnTo>
                  <a:lnTo>
                    <a:pt x="17687" y="11517"/>
                  </a:lnTo>
                  <a:lnTo>
                    <a:pt x="17807" y="11363"/>
                  </a:lnTo>
                  <a:lnTo>
                    <a:pt x="17927" y="11158"/>
                  </a:lnTo>
                  <a:lnTo>
                    <a:pt x="17927" y="11005"/>
                  </a:lnTo>
                  <a:lnTo>
                    <a:pt x="18047" y="10851"/>
                  </a:lnTo>
                  <a:lnTo>
                    <a:pt x="18286" y="11005"/>
                  </a:lnTo>
                  <a:lnTo>
                    <a:pt x="18526" y="11158"/>
                  </a:lnTo>
                  <a:lnTo>
                    <a:pt x="18765" y="11363"/>
                  </a:lnTo>
                  <a:lnTo>
                    <a:pt x="19165" y="11363"/>
                  </a:lnTo>
                  <a:lnTo>
                    <a:pt x="19404" y="11363"/>
                  </a:lnTo>
                  <a:lnTo>
                    <a:pt x="19644" y="11158"/>
                  </a:lnTo>
                  <a:lnTo>
                    <a:pt x="20003" y="11005"/>
                  </a:lnTo>
                  <a:lnTo>
                    <a:pt x="20243" y="10851"/>
                  </a:lnTo>
                  <a:lnTo>
                    <a:pt x="20362" y="10698"/>
                  </a:lnTo>
                  <a:lnTo>
                    <a:pt x="20522" y="10544"/>
                  </a:lnTo>
                  <a:lnTo>
                    <a:pt x="20642" y="10544"/>
                  </a:lnTo>
                  <a:lnTo>
                    <a:pt x="20762" y="10391"/>
                  </a:lnTo>
                  <a:lnTo>
                    <a:pt x="21001" y="10083"/>
                  </a:lnTo>
                  <a:lnTo>
                    <a:pt x="21241" y="9776"/>
                  </a:lnTo>
                  <a:lnTo>
                    <a:pt x="21480" y="9316"/>
                  </a:lnTo>
                  <a:lnTo>
                    <a:pt x="21480" y="8804"/>
                  </a:lnTo>
                  <a:lnTo>
                    <a:pt x="21600" y="8343"/>
                  </a:lnTo>
                  <a:lnTo>
                    <a:pt x="21480" y="7882"/>
                  </a:lnTo>
                  <a:lnTo>
                    <a:pt x="21360" y="7575"/>
                  </a:lnTo>
                  <a:lnTo>
                    <a:pt x="21241" y="7064"/>
                  </a:lnTo>
                  <a:close/>
                  <a:moveTo>
                    <a:pt x="2316" y="1894"/>
                  </a:moveTo>
                  <a:lnTo>
                    <a:pt x="2316" y="1894"/>
                  </a:lnTo>
                  <a:lnTo>
                    <a:pt x="2316" y="1740"/>
                  </a:lnTo>
                  <a:lnTo>
                    <a:pt x="2316" y="1894"/>
                  </a:lnTo>
                  <a:close/>
                  <a:moveTo>
                    <a:pt x="3434" y="5682"/>
                  </a:moveTo>
                  <a:lnTo>
                    <a:pt x="3434" y="5682"/>
                  </a:lnTo>
                  <a:close/>
                  <a:moveTo>
                    <a:pt x="14972" y="8190"/>
                  </a:moveTo>
                  <a:lnTo>
                    <a:pt x="14972" y="8190"/>
                  </a:lnTo>
                  <a:lnTo>
                    <a:pt x="15092" y="8190"/>
                  </a:lnTo>
                  <a:lnTo>
                    <a:pt x="14972" y="8190"/>
                  </a:lnTo>
                  <a:close/>
                  <a:moveTo>
                    <a:pt x="14972" y="8190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73"/>
            <p:cNvSpPr/>
            <p:nvPr/>
          </p:nvSpPr>
          <p:spPr>
            <a:xfrm>
              <a:off x="6127920" y="2876400"/>
              <a:ext cx="571320" cy="45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3972"/>
                  </a:moveTo>
                  <a:lnTo>
                    <a:pt x="21420" y="13443"/>
                  </a:lnTo>
                  <a:lnTo>
                    <a:pt x="21240" y="12990"/>
                  </a:lnTo>
                  <a:lnTo>
                    <a:pt x="21060" y="12537"/>
                  </a:lnTo>
                  <a:lnTo>
                    <a:pt x="20700" y="12084"/>
                  </a:lnTo>
                  <a:lnTo>
                    <a:pt x="20520" y="11857"/>
                  </a:lnTo>
                  <a:lnTo>
                    <a:pt x="20160" y="11631"/>
                  </a:lnTo>
                  <a:lnTo>
                    <a:pt x="19740" y="11404"/>
                  </a:lnTo>
                  <a:lnTo>
                    <a:pt x="19380" y="11404"/>
                  </a:lnTo>
                  <a:lnTo>
                    <a:pt x="20520" y="9290"/>
                  </a:lnTo>
                  <a:lnTo>
                    <a:pt x="20520" y="8836"/>
                  </a:lnTo>
                  <a:lnTo>
                    <a:pt x="20700" y="8610"/>
                  </a:lnTo>
                  <a:lnTo>
                    <a:pt x="20700" y="8383"/>
                  </a:lnTo>
                  <a:lnTo>
                    <a:pt x="20700" y="8157"/>
                  </a:lnTo>
                  <a:lnTo>
                    <a:pt x="20700" y="7930"/>
                  </a:lnTo>
                  <a:lnTo>
                    <a:pt x="20700" y="7401"/>
                  </a:lnTo>
                  <a:lnTo>
                    <a:pt x="20700" y="7175"/>
                  </a:lnTo>
                  <a:lnTo>
                    <a:pt x="20700" y="6948"/>
                  </a:lnTo>
                  <a:lnTo>
                    <a:pt x="20520" y="6269"/>
                  </a:lnTo>
                  <a:lnTo>
                    <a:pt x="20340" y="5589"/>
                  </a:lnTo>
                  <a:lnTo>
                    <a:pt x="19980" y="5136"/>
                  </a:lnTo>
                  <a:lnTo>
                    <a:pt x="19380" y="4607"/>
                  </a:lnTo>
                  <a:lnTo>
                    <a:pt x="19020" y="4380"/>
                  </a:lnTo>
                  <a:lnTo>
                    <a:pt x="18480" y="4154"/>
                  </a:lnTo>
                  <a:lnTo>
                    <a:pt x="17940" y="4154"/>
                  </a:lnTo>
                  <a:lnTo>
                    <a:pt x="17340" y="4154"/>
                  </a:lnTo>
                  <a:lnTo>
                    <a:pt x="16620" y="4380"/>
                  </a:lnTo>
                  <a:lnTo>
                    <a:pt x="16080" y="4607"/>
                  </a:lnTo>
                  <a:lnTo>
                    <a:pt x="15540" y="4607"/>
                  </a:lnTo>
                  <a:lnTo>
                    <a:pt x="15120" y="4909"/>
                  </a:lnTo>
                  <a:lnTo>
                    <a:pt x="14580" y="5136"/>
                  </a:lnTo>
                  <a:lnTo>
                    <a:pt x="14040" y="5136"/>
                  </a:lnTo>
                  <a:lnTo>
                    <a:pt x="13500" y="5362"/>
                  </a:lnTo>
                  <a:lnTo>
                    <a:pt x="13140" y="5589"/>
                  </a:lnTo>
                  <a:lnTo>
                    <a:pt x="12540" y="5589"/>
                  </a:lnTo>
                  <a:lnTo>
                    <a:pt x="12720" y="5136"/>
                  </a:lnTo>
                  <a:lnTo>
                    <a:pt x="12960" y="4380"/>
                  </a:lnTo>
                  <a:lnTo>
                    <a:pt x="13140" y="3701"/>
                  </a:lnTo>
                  <a:lnTo>
                    <a:pt x="13140" y="3248"/>
                  </a:lnTo>
                  <a:lnTo>
                    <a:pt x="12960" y="2568"/>
                  </a:lnTo>
                  <a:lnTo>
                    <a:pt x="12720" y="1888"/>
                  </a:lnTo>
                  <a:lnTo>
                    <a:pt x="12540" y="1359"/>
                  </a:lnTo>
                  <a:lnTo>
                    <a:pt x="12180" y="906"/>
                  </a:lnTo>
                  <a:lnTo>
                    <a:pt x="11820" y="453"/>
                  </a:lnTo>
                  <a:lnTo>
                    <a:pt x="11280" y="227"/>
                  </a:lnTo>
                  <a:lnTo>
                    <a:pt x="10740" y="0"/>
                  </a:lnTo>
                  <a:lnTo>
                    <a:pt x="10140" y="0"/>
                  </a:lnTo>
                  <a:lnTo>
                    <a:pt x="9600" y="0"/>
                  </a:lnTo>
                  <a:lnTo>
                    <a:pt x="9060" y="227"/>
                  </a:lnTo>
                  <a:lnTo>
                    <a:pt x="8700" y="680"/>
                  </a:lnTo>
                  <a:lnTo>
                    <a:pt x="8340" y="1133"/>
                  </a:lnTo>
                  <a:lnTo>
                    <a:pt x="7380" y="2341"/>
                  </a:lnTo>
                  <a:lnTo>
                    <a:pt x="6480" y="3248"/>
                  </a:lnTo>
                  <a:lnTo>
                    <a:pt x="5520" y="4380"/>
                  </a:lnTo>
                  <a:lnTo>
                    <a:pt x="4620" y="5589"/>
                  </a:lnTo>
                  <a:lnTo>
                    <a:pt x="3720" y="6495"/>
                  </a:lnTo>
                  <a:lnTo>
                    <a:pt x="2940" y="7628"/>
                  </a:lnTo>
                  <a:lnTo>
                    <a:pt x="2040" y="8836"/>
                  </a:lnTo>
                  <a:lnTo>
                    <a:pt x="1140" y="9743"/>
                  </a:lnTo>
                  <a:lnTo>
                    <a:pt x="360" y="10649"/>
                  </a:lnTo>
                  <a:lnTo>
                    <a:pt x="180" y="11178"/>
                  </a:lnTo>
                  <a:lnTo>
                    <a:pt x="180" y="11631"/>
                  </a:lnTo>
                  <a:lnTo>
                    <a:pt x="0" y="12084"/>
                  </a:lnTo>
                  <a:lnTo>
                    <a:pt x="0" y="12537"/>
                  </a:lnTo>
                  <a:lnTo>
                    <a:pt x="0" y="12990"/>
                  </a:lnTo>
                  <a:lnTo>
                    <a:pt x="0" y="13217"/>
                  </a:lnTo>
                  <a:lnTo>
                    <a:pt x="0" y="13670"/>
                  </a:lnTo>
                  <a:lnTo>
                    <a:pt x="180" y="14199"/>
                  </a:lnTo>
                  <a:lnTo>
                    <a:pt x="540" y="14878"/>
                  </a:lnTo>
                  <a:lnTo>
                    <a:pt x="960" y="15331"/>
                  </a:lnTo>
                  <a:lnTo>
                    <a:pt x="1320" y="15785"/>
                  </a:lnTo>
                  <a:lnTo>
                    <a:pt x="1860" y="16011"/>
                  </a:lnTo>
                  <a:lnTo>
                    <a:pt x="2220" y="16238"/>
                  </a:lnTo>
                  <a:lnTo>
                    <a:pt x="2760" y="16238"/>
                  </a:lnTo>
                  <a:lnTo>
                    <a:pt x="3360" y="16238"/>
                  </a:lnTo>
                  <a:lnTo>
                    <a:pt x="3900" y="16011"/>
                  </a:lnTo>
                  <a:lnTo>
                    <a:pt x="4620" y="15331"/>
                  </a:lnTo>
                  <a:lnTo>
                    <a:pt x="4980" y="15331"/>
                  </a:lnTo>
                  <a:lnTo>
                    <a:pt x="5340" y="15105"/>
                  </a:lnTo>
                  <a:lnTo>
                    <a:pt x="5520" y="15105"/>
                  </a:lnTo>
                  <a:lnTo>
                    <a:pt x="5940" y="15105"/>
                  </a:lnTo>
                  <a:lnTo>
                    <a:pt x="6120" y="14878"/>
                  </a:lnTo>
                  <a:lnTo>
                    <a:pt x="6480" y="14878"/>
                  </a:lnTo>
                  <a:lnTo>
                    <a:pt x="6660" y="14652"/>
                  </a:lnTo>
                  <a:lnTo>
                    <a:pt x="7020" y="14652"/>
                  </a:lnTo>
                  <a:lnTo>
                    <a:pt x="6300" y="15331"/>
                  </a:lnTo>
                  <a:lnTo>
                    <a:pt x="6120" y="15785"/>
                  </a:lnTo>
                  <a:lnTo>
                    <a:pt x="5940" y="16011"/>
                  </a:lnTo>
                  <a:lnTo>
                    <a:pt x="5760" y="16464"/>
                  </a:lnTo>
                  <a:lnTo>
                    <a:pt x="5520" y="16691"/>
                  </a:lnTo>
                  <a:lnTo>
                    <a:pt x="5520" y="17220"/>
                  </a:lnTo>
                  <a:lnTo>
                    <a:pt x="5520" y="17673"/>
                  </a:lnTo>
                  <a:lnTo>
                    <a:pt x="5340" y="18126"/>
                  </a:lnTo>
                  <a:lnTo>
                    <a:pt x="5520" y="18352"/>
                  </a:lnTo>
                  <a:lnTo>
                    <a:pt x="5520" y="19032"/>
                  </a:lnTo>
                  <a:lnTo>
                    <a:pt x="5940" y="19712"/>
                  </a:lnTo>
                  <a:lnTo>
                    <a:pt x="6120" y="20467"/>
                  </a:lnTo>
                  <a:lnTo>
                    <a:pt x="6480" y="20920"/>
                  </a:lnTo>
                  <a:lnTo>
                    <a:pt x="7020" y="21147"/>
                  </a:lnTo>
                  <a:lnTo>
                    <a:pt x="7560" y="21373"/>
                  </a:lnTo>
                  <a:lnTo>
                    <a:pt x="8160" y="21600"/>
                  </a:lnTo>
                  <a:lnTo>
                    <a:pt x="8700" y="21600"/>
                  </a:lnTo>
                  <a:lnTo>
                    <a:pt x="10320" y="21147"/>
                  </a:lnTo>
                  <a:lnTo>
                    <a:pt x="11460" y="20694"/>
                  </a:lnTo>
                  <a:lnTo>
                    <a:pt x="12540" y="20241"/>
                  </a:lnTo>
                  <a:lnTo>
                    <a:pt x="13860" y="20014"/>
                  </a:lnTo>
                  <a:lnTo>
                    <a:pt x="14940" y="19485"/>
                  </a:lnTo>
                  <a:lnTo>
                    <a:pt x="16080" y="19259"/>
                  </a:lnTo>
                  <a:lnTo>
                    <a:pt x="17160" y="18806"/>
                  </a:lnTo>
                  <a:lnTo>
                    <a:pt x="18300" y="18579"/>
                  </a:lnTo>
                  <a:lnTo>
                    <a:pt x="19560" y="18126"/>
                  </a:lnTo>
                  <a:lnTo>
                    <a:pt x="19980" y="17899"/>
                  </a:lnTo>
                  <a:lnTo>
                    <a:pt x="20520" y="17673"/>
                  </a:lnTo>
                  <a:lnTo>
                    <a:pt x="20880" y="17220"/>
                  </a:lnTo>
                  <a:lnTo>
                    <a:pt x="21240" y="16464"/>
                  </a:lnTo>
                  <a:lnTo>
                    <a:pt x="21420" y="16011"/>
                  </a:lnTo>
                  <a:lnTo>
                    <a:pt x="21600" y="15331"/>
                  </a:lnTo>
                  <a:lnTo>
                    <a:pt x="21600" y="14652"/>
                  </a:lnTo>
                  <a:lnTo>
                    <a:pt x="21600" y="13972"/>
                  </a:lnTo>
                  <a:close/>
                  <a:moveTo>
                    <a:pt x="15540" y="6042"/>
                  </a:moveTo>
                  <a:lnTo>
                    <a:pt x="15540" y="6042"/>
                  </a:lnTo>
                  <a:lnTo>
                    <a:pt x="15540" y="6269"/>
                  </a:lnTo>
                  <a:lnTo>
                    <a:pt x="15540" y="6042"/>
                  </a:lnTo>
                  <a:close/>
                  <a:moveTo>
                    <a:pt x="15540" y="6042"/>
                  </a:moveTo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6694560" y="2433600"/>
              <a:ext cx="425520" cy="106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34" y="9689"/>
                  </a:moveTo>
                  <a:lnTo>
                    <a:pt x="16603" y="9593"/>
                  </a:lnTo>
                  <a:lnTo>
                    <a:pt x="16361" y="9689"/>
                  </a:lnTo>
                  <a:lnTo>
                    <a:pt x="16119" y="9689"/>
                  </a:lnTo>
                  <a:lnTo>
                    <a:pt x="15878" y="9689"/>
                  </a:lnTo>
                  <a:lnTo>
                    <a:pt x="15636" y="9689"/>
                  </a:lnTo>
                  <a:lnTo>
                    <a:pt x="15878" y="9593"/>
                  </a:lnTo>
                  <a:lnTo>
                    <a:pt x="16119" y="9400"/>
                  </a:lnTo>
                  <a:lnTo>
                    <a:pt x="16603" y="9303"/>
                  </a:lnTo>
                  <a:lnTo>
                    <a:pt x="16845" y="9110"/>
                  </a:lnTo>
                  <a:lnTo>
                    <a:pt x="17087" y="9013"/>
                  </a:lnTo>
                  <a:lnTo>
                    <a:pt x="17651" y="8917"/>
                  </a:lnTo>
                  <a:lnTo>
                    <a:pt x="17893" y="8820"/>
                  </a:lnTo>
                  <a:lnTo>
                    <a:pt x="18376" y="8627"/>
                  </a:lnTo>
                  <a:lnTo>
                    <a:pt x="19343" y="7533"/>
                  </a:lnTo>
                  <a:lnTo>
                    <a:pt x="19585" y="7436"/>
                  </a:lnTo>
                  <a:lnTo>
                    <a:pt x="19585" y="7339"/>
                  </a:lnTo>
                  <a:lnTo>
                    <a:pt x="19585" y="7243"/>
                  </a:lnTo>
                  <a:lnTo>
                    <a:pt x="19585" y="7114"/>
                  </a:lnTo>
                  <a:lnTo>
                    <a:pt x="19343" y="7114"/>
                  </a:lnTo>
                  <a:lnTo>
                    <a:pt x="19343" y="6824"/>
                  </a:lnTo>
                  <a:lnTo>
                    <a:pt x="18860" y="6535"/>
                  </a:lnTo>
                  <a:lnTo>
                    <a:pt x="18618" y="6342"/>
                  </a:lnTo>
                  <a:lnTo>
                    <a:pt x="17893" y="6148"/>
                  </a:lnTo>
                  <a:lnTo>
                    <a:pt x="17409" y="5955"/>
                  </a:lnTo>
                  <a:lnTo>
                    <a:pt x="16603" y="5827"/>
                  </a:lnTo>
                  <a:lnTo>
                    <a:pt x="15878" y="5827"/>
                  </a:lnTo>
                  <a:lnTo>
                    <a:pt x="15152" y="5827"/>
                  </a:lnTo>
                  <a:lnTo>
                    <a:pt x="13863" y="5955"/>
                  </a:lnTo>
                  <a:lnTo>
                    <a:pt x="13621" y="5955"/>
                  </a:lnTo>
                  <a:lnTo>
                    <a:pt x="13379" y="5955"/>
                  </a:lnTo>
                  <a:lnTo>
                    <a:pt x="13621" y="5827"/>
                  </a:lnTo>
                  <a:lnTo>
                    <a:pt x="13863" y="5730"/>
                  </a:lnTo>
                  <a:lnTo>
                    <a:pt x="14185" y="5537"/>
                  </a:lnTo>
                  <a:lnTo>
                    <a:pt x="14427" y="5440"/>
                  </a:lnTo>
                  <a:lnTo>
                    <a:pt x="14669" y="5344"/>
                  </a:lnTo>
                  <a:lnTo>
                    <a:pt x="14669" y="5247"/>
                  </a:lnTo>
                  <a:lnTo>
                    <a:pt x="14910" y="5054"/>
                  </a:lnTo>
                  <a:lnTo>
                    <a:pt x="15152" y="4957"/>
                  </a:lnTo>
                  <a:lnTo>
                    <a:pt x="16361" y="3670"/>
                  </a:lnTo>
                  <a:lnTo>
                    <a:pt x="16361" y="3573"/>
                  </a:lnTo>
                  <a:lnTo>
                    <a:pt x="16361" y="3477"/>
                  </a:lnTo>
                  <a:lnTo>
                    <a:pt x="16119" y="3155"/>
                  </a:lnTo>
                  <a:lnTo>
                    <a:pt x="15878" y="2865"/>
                  </a:lnTo>
                  <a:lnTo>
                    <a:pt x="15636" y="2672"/>
                  </a:lnTo>
                  <a:lnTo>
                    <a:pt x="15152" y="2479"/>
                  </a:lnTo>
                  <a:lnTo>
                    <a:pt x="14669" y="2286"/>
                  </a:lnTo>
                  <a:lnTo>
                    <a:pt x="14185" y="2189"/>
                  </a:lnTo>
                  <a:lnTo>
                    <a:pt x="13379" y="2092"/>
                  </a:lnTo>
                  <a:lnTo>
                    <a:pt x="12654" y="2092"/>
                  </a:lnTo>
                  <a:lnTo>
                    <a:pt x="12896" y="1770"/>
                  </a:lnTo>
                  <a:lnTo>
                    <a:pt x="12896" y="1577"/>
                  </a:lnTo>
                  <a:lnTo>
                    <a:pt x="12896" y="1288"/>
                  </a:lnTo>
                  <a:lnTo>
                    <a:pt x="12654" y="1094"/>
                  </a:lnTo>
                  <a:lnTo>
                    <a:pt x="12412" y="901"/>
                  </a:lnTo>
                  <a:lnTo>
                    <a:pt x="12170" y="579"/>
                  </a:lnTo>
                  <a:lnTo>
                    <a:pt x="11687" y="483"/>
                  </a:lnTo>
                  <a:lnTo>
                    <a:pt x="11203" y="290"/>
                  </a:lnTo>
                  <a:lnTo>
                    <a:pt x="10639" y="97"/>
                  </a:lnTo>
                  <a:lnTo>
                    <a:pt x="9913" y="97"/>
                  </a:lnTo>
                  <a:lnTo>
                    <a:pt x="9188" y="0"/>
                  </a:lnTo>
                  <a:lnTo>
                    <a:pt x="8463" y="97"/>
                  </a:lnTo>
                  <a:lnTo>
                    <a:pt x="7737" y="193"/>
                  </a:lnTo>
                  <a:lnTo>
                    <a:pt x="7173" y="290"/>
                  </a:lnTo>
                  <a:lnTo>
                    <a:pt x="6448" y="483"/>
                  </a:lnTo>
                  <a:lnTo>
                    <a:pt x="5964" y="676"/>
                  </a:lnTo>
                  <a:lnTo>
                    <a:pt x="5481" y="901"/>
                  </a:lnTo>
                  <a:lnTo>
                    <a:pt x="4997" y="1191"/>
                  </a:lnTo>
                  <a:lnTo>
                    <a:pt x="4191" y="1384"/>
                  </a:lnTo>
                  <a:lnTo>
                    <a:pt x="3707" y="1577"/>
                  </a:lnTo>
                  <a:lnTo>
                    <a:pt x="3224" y="1770"/>
                  </a:lnTo>
                  <a:lnTo>
                    <a:pt x="2740" y="2092"/>
                  </a:lnTo>
                  <a:lnTo>
                    <a:pt x="2257" y="2286"/>
                  </a:lnTo>
                  <a:lnTo>
                    <a:pt x="1531" y="2479"/>
                  </a:lnTo>
                  <a:lnTo>
                    <a:pt x="1773" y="2768"/>
                  </a:lnTo>
                  <a:lnTo>
                    <a:pt x="1773" y="3058"/>
                  </a:lnTo>
                  <a:lnTo>
                    <a:pt x="1773" y="3380"/>
                  </a:lnTo>
                  <a:lnTo>
                    <a:pt x="1773" y="3670"/>
                  </a:lnTo>
                  <a:lnTo>
                    <a:pt x="1773" y="3959"/>
                  </a:lnTo>
                  <a:lnTo>
                    <a:pt x="1773" y="4249"/>
                  </a:lnTo>
                  <a:lnTo>
                    <a:pt x="1773" y="4539"/>
                  </a:lnTo>
                  <a:lnTo>
                    <a:pt x="2015" y="4861"/>
                  </a:lnTo>
                  <a:lnTo>
                    <a:pt x="725" y="2962"/>
                  </a:lnTo>
                  <a:lnTo>
                    <a:pt x="484" y="3058"/>
                  </a:lnTo>
                  <a:lnTo>
                    <a:pt x="484" y="3155"/>
                  </a:lnTo>
                  <a:lnTo>
                    <a:pt x="242" y="3251"/>
                  </a:lnTo>
                  <a:lnTo>
                    <a:pt x="242" y="3380"/>
                  </a:lnTo>
                  <a:lnTo>
                    <a:pt x="242" y="3477"/>
                  </a:lnTo>
                  <a:lnTo>
                    <a:pt x="0" y="3573"/>
                  </a:lnTo>
                  <a:lnTo>
                    <a:pt x="0" y="3670"/>
                  </a:lnTo>
                  <a:lnTo>
                    <a:pt x="0" y="3766"/>
                  </a:lnTo>
                  <a:lnTo>
                    <a:pt x="0" y="4056"/>
                  </a:lnTo>
                  <a:lnTo>
                    <a:pt x="242" y="4346"/>
                  </a:lnTo>
                  <a:lnTo>
                    <a:pt x="484" y="4668"/>
                  </a:lnTo>
                  <a:lnTo>
                    <a:pt x="967" y="4861"/>
                  </a:lnTo>
                  <a:lnTo>
                    <a:pt x="1531" y="5054"/>
                  </a:lnTo>
                  <a:lnTo>
                    <a:pt x="2257" y="5247"/>
                  </a:lnTo>
                  <a:lnTo>
                    <a:pt x="2740" y="5344"/>
                  </a:lnTo>
                  <a:lnTo>
                    <a:pt x="3707" y="5344"/>
                  </a:lnTo>
                  <a:lnTo>
                    <a:pt x="4755" y="5344"/>
                  </a:lnTo>
                  <a:lnTo>
                    <a:pt x="4513" y="5537"/>
                  </a:lnTo>
                  <a:lnTo>
                    <a:pt x="3949" y="5633"/>
                  </a:lnTo>
                  <a:lnTo>
                    <a:pt x="3707" y="5827"/>
                  </a:lnTo>
                  <a:lnTo>
                    <a:pt x="3466" y="5955"/>
                  </a:lnTo>
                  <a:lnTo>
                    <a:pt x="3224" y="6148"/>
                  </a:lnTo>
                  <a:lnTo>
                    <a:pt x="2740" y="6342"/>
                  </a:lnTo>
                  <a:lnTo>
                    <a:pt x="2499" y="6438"/>
                  </a:lnTo>
                  <a:lnTo>
                    <a:pt x="2257" y="6631"/>
                  </a:lnTo>
                  <a:lnTo>
                    <a:pt x="1773" y="6824"/>
                  </a:lnTo>
                  <a:lnTo>
                    <a:pt x="1773" y="6921"/>
                  </a:lnTo>
                  <a:lnTo>
                    <a:pt x="1531" y="7018"/>
                  </a:lnTo>
                  <a:lnTo>
                    <a:pt x="1531" y="7114"/>
                  </a:lnTo>
                  <a:lnTo>
                    <a:pt x="1290" y="7243"/>
                  </a:lnTo>
                  <a:lnTo>
                    <a:pt x="1290" y="7339"/>
                  </a:lnTo>
                  <a:lnTo>
                    <a:pt x="967" y="7629"/>
                  </a:lnTo>
                  <a:lnTo>
                    <a:pt x="1290" y="7919"/>
                  </a:lnTo>
                  <a:lnTo>
                    <a:pt x="1290" y="8209"/>
                  </a:lnTo>
                  <a:lnTo>
                    <a:pt x="1531" y="8531"/>
                  </a:lnTo>
                  <a:lnTo>
                    <a:pt x="2015" y="8724"/>
                  </a:lnTo>
                  <a:lnTo>
                    <a:pt x="2499" y="8917"/>
                  </a:lnTo>
                  <a:lnTo>
                    <a:pt x="3224" y="9110"/>
                  </a:lnTo>
                  <a:lnTo>
                    <a:pt x="3949" y="9207"/>
                  </a:lnTo>
                  <a:lnTo>
                    <a:pt x="6690" y="9303"/>
                  </a:lnTo>
                  <a:lnTo>
                    <a:pt x="6206" y="9400"/>
                  </a:lnTo>
                  <a:lnTo>
                    <a:pt x="5964" y="9593"/>
                  </a:lnTo>
                  <a:lnTo>
                    <a:pt x="5722" y="9818"/>
                  </a:lnTo>
                  <a:lnTo>
                    <a:pt x="5481" y="9915"/>
                  </a:lnTo>
                  <a:lnTo>
                    <a:pt x="4997" y="10108"/>
                  </a:lnTo>
                  <a:lnTo>
                    <a:pt x="4755" y="10301"/>
                  </a:lnTo>
                  <a:lnTo>
                    <a:pt x="4513" y="10398"/>
                  </a:lnTo>
                  <a:lnTo>
                    <a:pt x="4191" y="10591"/>
                  </a:lnTo>
                  <a:lnTo>
                    <a:pt x="3707" y="10784"/>
                  </a:lnTo>
                  <a:lnTo>
                    <a:pt x="3466" y="10880"/>
                  </a:lnTo>
                  <a:lnTo>
                    <a:pt x="3466" y="10977"/>
                  </a:lnTo>
                  <a:lnTo>
                    <a:pt x="3224" y="11106"/>
                  </a:lnTo>
                  <a:lnTo>
                    <a:pt x="2982" y="11299"/>
                  </a:lnTo>
                  <a:lnTo>
                    <a:pt x="2982" y="11396"/>
                  </a:lnTo>
                  <a:lnTo>
                    <a:pt x="2982" y="11492"/>
                  </a:lnTo>
                  <a:lnTo>
                    <a:pt x="2982" y="11685"/>
                  </a:lnTo>
                  <a:lnTo>
                    <a:pt x="2982" y="11782"/>
                  </a:lnTo>
                  <a:lnTo>
                    <a:pt x="2982" y="12072"/>
                  </a:lnTo>
                  <a:lnTo>
                    <a:pt x="3224" y="12393"/>
                  </a:lnTo>
                  <a:lnTo>
                    <a:pt x="3707" y="12587"/>
                  </a:lnTo>
                  <a:lnTo>
                    <a:pt x="4191" y="12780"/>
                  </a:lnTo>
                  <a:lnTo>
                    <a:pt x="4755" y="12973"/>
                  </a:lnTo>
                  <a:lnTo>
                    <a:pt x="5481" y="13069"/>
                  </a:lnTo>
                  <a:lnTo>
                    <a:pt x="5964" y="13166"/>
                  </a:lnTo>
                  <a:lnTo>
                    <a:pt x="6690" y="13166"/>
                  </a:lnTo>
                  <a:lnTo>
                    <a:pt x="6448" y="13359"/>
                  </a:lnTo>
                  <a:lnTo>
                    <a:pt x="5964" y="13456"/>
                  </a:lnTo>
                  <a:lnTo>
                    <a:pt x="5722" y="13681"/>
                  </a:lnTo>
                  <a:lnTo>
                    <a:pt x="5239" y="13778"/>
                  </a:lnTo>
                  <a:lnTo>
                    <a:pt x="4997" y="13971"/>
                  </a:lnTo>
                  <a:lnTo>
                    <a:pt x="4513" y="14067"/>
                  </a:lnTo>
                  <a:lnTo>
                    <a:pt x="4191" y="14261"/>
                  </a:lnTo>
                  <a:lnTo>
                    <a:pt x="3707" y="14357"/>
                  </a:lnTo>
                  <a:lnTo>
                    <a:pt x="2740" y="15162"/>
                  </a:lnTo>
                  <a:lnTo>
                    <a:pt x="2740" y="15258"/>
                  </a:lnTo>
                  <a:lnTo>
                    <a:pt x="2740" y="15452"/>
                  </a:lnTo>
                  <a:lnTo>
                    <a:pt x="2740" y="15645"/>
                  </a:lnTo>
                  <a:lnTo>
                    <a:pt x="2740" y="15934"/>
                  </a:lnTo>
                  <a:lnTo>
                    <a:pt x="2982" y="16128"/>
                  </a:lnTo>
                  <a:lnTo>
                    <a:pt x="3224" y="16353"/>
                  </a:lnTo>
                  <a:lnTo>
                    <a:pt x="3466" y="16546"/>
                  </a:lnTo>
                  <a:lnTo>
                    <a:pt x="3949" y="16739"/>
                  </a:lnTo>
                  <a:lnTo>
                    <a:pt x="4513" y="16836"/>
                  </a:lnTo>
                  <a:lnTo>
                    <a:pt x="4191" y="16932"/>
                  </a:lnTo>
                  <a:lnTo>
                    <a:pt x="3949" y="17029"/>
                  </a:lnTo>
                  <a:lnTo>
                    <a:pt x="3466" y="17125"/>
                  </a:lnTo>
                  <a:lnTo>
                    <a:pt x="3224" y="17222"/>
                  </a:lnTo>
                  <a:lnTo>
                    <a:pt x="2982" y="17222"/>
                  </a:lnTo>
                  <a:lnTo>
                    <a:pt x="2740" y="17319"/>
                  </a:lnTo>
                  <a:lnTo>
                    <a:pt x="2499" y="17415"/>
                  </a:lnTo>
                  <a:lnTo>
                    <a:pt x="2257" y="17544"/>
                  </a:lnTo>
                  <a:lnTo>
                    <a:pt x="1290" y="17834"/>
                  </a:lnTo>
                  <a:lnTo>
                    <a:pt x="967" y="17930"/>
                  </a:lnTo>
                  <a:lnTo>
                    <a:pt x="725" y="18027"/>
                  </a:lnTo>
                  <a:lnTo>
                    <a:pt x="484" y="18220"/>
                  </a:lnTo>
                  <a:lnTo>
                    <a:pt x="242" y="18317"/>
                  </a:lnTo>
                  <a:lnTo>
                    <a:pt x="242" y="18413"/>
                  </a:lnTo>
                  <a:lnTo>
                    <a:pt x="0" y="18606"/>
                  </a:lnTo>
                  <a:lnTo>
                    <a:pt x="0" y="18832"/>
                  </a:lnTo>
                  <a:lnTo>
                    <a:pt x="0" y="18928"/>
                  </a:lnTo>
                  <a:lnTo>
                    <a:pt x="0" y="19218"/>
                  </a:lnTo>
                  <a:lnTo>
                    <a:pt x="242" y="19411"/>
                  </a:lnTo>
                  <a:lnTo>
                    <a:pt x="484" y="19604"/>
                  </a:lnTo>
                  <a:lnTo>
                    <a:pt x="725" y="19797"/>
                  </a:lnTo>
                  <a:lnTo>
                    <a:pt x="1290" y="19990"/>
                  </a:lnTo>
                  <a:lnTo>
                    <a:pt x="1531" y="20216"/>
                  </a:lnTo>
                  <a:lnTo>
                    <a:pt x="2015" y="20312"/>
                  </a:lnTo>
                  <a:lnTo>
                    <a:pt x="2740" y="20409"/>
                  </a:lnTo>
                  <a:lnTo>
                    <a:pt x="2740" y="20506"/>
                  </a:lnTo>
                  <a:lnTo>
                    <a:pt x="2740" y="20602"/>
                  </a:lnTo>
                  <a:lnTo>
                    <a:pt x="2982" y="20699"/>
                  </a:lnTo>
                  <a:lnTo>
                    <a:pt x="2982" y="20795"/>
                  </a:lnTo>
                  <a:lnTo>
                    <a:pt x="3224" y="20892"/>
                  </a:lnTo>
                  <a:lnTo>
                    <a:pt x="3707" y="21085"/>
                  </a:lnTo>
                  <a:lnTo>
                    <a:pt x="4191" y="21278"/>
                  </a:lnTo>
                  <a:lnTo>
                    <a:pt x="4997" y="21407"/>
                  </a:lnTo>
                  <a:lnTo>
                    <a:pt x="5481" y="21503"/>
                  </a:lnTo>
                  <a:lnTo>
                    <a:pt x="6206" y="21600"/>
                  </a:lnTo>
                  <a:lnTo>
                    <a:pt x="6931" y="21503"/>
                  </a:lnTo>
                  <a:lnTo>
                    <a:pt x="7737" y="21503"/>
                  </a:lnTo>
                  <a:lnTo>
                    <a:pt x="8463" y="21278"/>
                  </a:lnTo>
                  <a:lnTo>
                    <a:pt x="8704" y="21182"/>
                  </a:lnTo>
                  <a:lnTo>
                    <a:pt x="8946" y="21085"/>
                  </a:lnTo>
                  <a:lnTo>
                    <a:pt x="9430" y="20988"/>
                  </a:lnTo>
                  <a:lnTo>
                    <a:pt x="9672" y="20892"/>
                  </a:lnTo>
                  <a:lnTo>
                    <a:pt x="9913" y="20795"/>
                  </a:lnTo>
                  <a:lnTo>
                    <a:pt x="10155" y="20699"/>
                  </a:lnTo>
                  <a:lnTo>
                    <a:pt x="10397" y="20602"/>
                  </a:lnTo>
                  <a:lnTo>
                    <a:pt x="10639" y="20506"/>
                  </a:lnTo>
                  <a:lnTo>
                    <a:pt x="12412" y="19508"/>
                  </a:lnTo>
                  <a:lnTo>
                    <a:pt x="12412" y="19411"/>
                  </a:lnTo>
                  <a:lnTo>
                    <a:pt x="12654" y="19218"/>
                  </a:lnTo>
                  <a:lnTo>
                    <a:pt x="12654" y="19025"/>
                  </a:lnTo>
                  <a:lnTo>
                    <a:pt x="12654" y="18928"/>
                  </a:lnTo>
                  <a:lnTo>
                    <a:pt x="12654" y="18703"/>
                  </a:lnTo>
                  <a:lnTo>
                    <a:pt x="12654" y="18510"/>
                  </a:lnTo>
                  <a:lnTo>
                    <a:pt x="12654" y="18413"/>
                  </a:lnTo>
                  <a:lnTo>
                    <a:pt x="12412" y="18220"/>
                  </a:lnTo>
                  <a:lnTo>
                    <a:pt x="12654" y="18123"/>
                  </a:lnTo>
                  <a:lnTo>
                    <a:pt x="12896" y="18027"/>
                  </a:lnTo>
                  <a:lnTo>
                    <a:pt x="13137" y="17930"/>
                  </a:lnTo>
                  <a:lnTo>
                    <a:pt x="13621" y="17834"/>
                  </a:lnTo>
                  <a:lnTo>
                    <a:pt x="13863" y="17737"/>
                  </a:lnTo>
                  <a:lnTo>
                    <a:pt x="14185" y="17737"/>
                  </a:lnTo>
                  <a:lnTo>
                    <a:pt x="14427" y="17641"/>
                  </a:lnTo>
                  <a:lnTo>
                    <a:pt x="14669" y="17544"/>
                  </a:lnTo>
                  <a:lnTo>
                    <a:pt x="17409" y="16643"/>
                  </a:lnTo>
                  <a:lnTo>
                    <a:pt x="17651" y="16546"/>
                  </a:lnTo>
                  <a:lnTo>
                    <a:pt x="17893" y="16449"/>
                  </a:lnTo>
                  <a:lnTo>
                    <a:pt x="18134" y="16353"/>
                  </a:lnTo>
                  <a:lnTo>
                    <a:pt x="18134" y="16128"/>
                  </a:lnTo>
                  <a:lnTo>
                    <a:pt x="18376" y="16031"/>
                  </a:lnTo>
                  <a:lnTo>
                    <a:pt x="18376" y="15838"/>
                  </a:lnTo>
                  <a:lnTo>
                    <a:pt x="18618" y="15645"/>
                  </a:lnTo>
                  <a:lnTo>
                    <a:pt x="18618" y="15548"/>
                  </a:lnTo>
                  <a:lnTo>
                    <a:pt x="18376" y="15258"/>
                  </a:lnTo>
                  <a:lnTo>
                    <a:pt x="18134" y="15065"/>
                  </a:lnTo>
                  <a:lnTo>
                    <a:pt x="17893" y="14743"/>
                  </a:lnTo>
                  <a:lnTo>
                    <a:pt x="17651" y="14550"/>
                  </a:lnTo>
                  <a:lnTo>
                    <a:pt x="17087" y="14357"/>
                  </a:lnTo>
                  <a:lnTo>
                    <a:pt x="16361" y="14261"/>
                  </a:lnTo>
                  <a:lnTo>
                    <a:pt x="15878" y="14164"/>
                  </a:lnTo>
                  <a:lnTo>
                    <a:pt x="15152" y="14067"/>
                  </a:lnTo>
                  <a:lnTo>
                    <a:pt x="15636" y="13971"/>
                  </a:lnTo>
                  <a:lnTo>
                    <a:pt x="15878" y="13874"/>
                  </a:lnTo>
                  <a:lnTo>
                    <a:pt x="16361" y="13681"/>
                  </a:lnTo>
                  <a:lnTo>
                    <a:pt x="16603" y="13552"/>
                  </a:lnTo>
                  <a:lnTo>
                    <a:pt x="17087" y="13456"/>
                  </a:lnTo>
                  <a:lnTo>
                    <a:pt x="17409" y="13359"/>
                  </a:lnTo>
                  <a:lnTo>
                    <a:pt x="17893" y="13263"/>
                  </a:lnTo>
                  <a:lnTo>
                    <a:pt x="18376" y="13166"/>
                  </a:lnTo>
                  <a:lnTo>
                    <a:pt x="20069" y="12490"/>
                  </a:lnTo>
                  <a:lnTo>
                    <a:pt x="20310" y="12393"/>
                  </a:lnTo>
                  <a:lnTo>
                    <a:pt x="20633" y="12265"/>
                  </a:lnTo>
                  <a:lnTo>
                    <a:pt x="20875" y="12168"/>
                  </a:lnTo>
                  <a:lnTo>
                    <a:pt x="20875" y="12072"/>
                  </a:lnTo>
                  <a:lnTo>
                    <a:pt x="21116" y="11975"/>
                  </a:lnTo>
                  <a:lnTo>
                    <a:pt x="21116" y="11878"/>
                  </a:lnTo>
                  <a:lnTo>
                    <a:pt x="21358" y="11782"/>
                  </a:lnTo>
                  <a:lnTo>
                    <a:pt x="21358" y="11589"/>
                  </a:lnTo>
                  <a:lnTo>
                    <a:pt x="21358" y="11396"/>
                  </a:lnTo>
                  <a:lnTo>
                    <a:pt x="21600" y="11299"/>
                  </a:lnTo>
                  <a:lnTo>
                    <a:pt x="21600" y="10977"/>
                  </a:lnTo>
                  <a:lnTo>
                    <a:pt x="21358" y="10687"/>
                  </a:lnTo>
                  <a:lnTo>
                    <a:pt x="21116" y="10494"/>
                  </a:lnTo>
                  <a:lnTo>
                    <a:pt x="20633" y="10204"/>
                  </a:lnTo>
                  <a:lnTo>
                    <a:pt x="20069" y="10011"/>
                  </a:lnTo>
                  <a:lnTo>
                    <a:pt x="19585" y="9818"/>
                  </a:lnTo>
                  <a:lnTo>
                    <a:pt x="18860" y="9689"/>
                  </a:lnTo>
                  <a:lnTo>
                    <a:pt x="18134" y="9689"/>
                  </a:lnTo>
                  <a:close/>
                  <a:moveTo>
                    <a:pt x="17409" y="12683"/>
                  </a:moveTo>
                  <a:lnTo>
                    <a:pt x="17409" y="12683"/>
                  </a:lnTo>
                  <a:lnTo>
                    <a:pt x="17651" y="12683"/>
                  </a:lnTo>
                  <a:lnTo>
                    <a:pt x="17409" y="12683"/>
                  </a:lnTo>
                  <a:close/>
                  <a:moveTo>
                    <a:pt x="17409" y="12683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75"/>
            <p:cNvSpPr/>
            <p:nvPr/>
          </p:nvSpPr>
          <p:spPr>
            <a:xfrm>
              <a:off x="7328160" y="1963800"/>
              <a:ext cx="430200" cy="9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22" y="4469"/>
                  </a:moveTo>
                  <a:lnTo>
                    <a:pt x="21122" y="4363"/>
                  </a:lnTo>
                  <a:lnTo>
                    <a:pt x="21361" y="4256"/>
                  </a:lnTo>
                  <a:lnTo>
                    <a:pt x="21361" y="4114"/>
                  </a:lnTo>
                  <a:lnTo>
                    <a:pt x="21361" y="4008"/>
                  </a:lnTo>
                  <a:lnTo>
                    <a:pt x="21600" y="3901"/>
                  </a:lnTo>
                  <a:lnTo>
                    <a:pt x="21600" y="3795"/>
                  </a:lnTo>
                  <a:lnTo>
                    <a:pt x="21600" y="3689"/>
                  </a:lnTo>
                  <a:lnTo>
                    <a:pt x="21600" y="3582"/>
                  </a:lnTo>
                  <a:lnTo>
                    <a:pt x="21600" y="3263"/>
                  </a:lnTo>
                  <a:lnTo>
                    <a:pt x="21361" y="2944"/>
                  </a:lnTo>
                  <a:lnTo>
                    <a:pt x="20883" y="2589"/>
                  </a:lnTo>
                  <a:lnTo>
                    <a:pt x="20404" y="2376"/>
                  </a:lnTo>
                  <a:lnTo>
                    <a:pt x="19926" y="2164"/>
                  </a:lnTo>
                  <a:lnTo>
                    <a:pt x="19129" y="2057"/>
                  </a:lnTo>
                  <a:lnTo>
                    <a:pt x="18651" y="1951"/>
                  </a:lnTo>
                  <a:lnTo>
                    <a:pt x="17694" y="1951"/>
                  </a:lnTo>
                  <a:lnTo>
                    <a:pt x="16419" y="1951"/>
                  </a:lnTo>
                  <a:lnTo>
                    <a:pt x="16180" y="1951"/>
                  </a:lnTo>
                  <a:lnTo>
                    <a:pt x="15702" y="1951"/>
                  </a:lnTo>
                  <a:lnTo>
                    <a:pt x="15224" y="1951"/>
                  </a:lnTo>
                  <a:lnTo>
                    <a:pt x="14985" y="1951"/>
                  </a:lnTo>
                  <a:lnTo>
                    <a:pt x="14506" y="1951"/>
                  </a:lnTo>
                  <a:lnTo>
                    <a:pt x="14028" y="1951"/>
                  </a:lnTo>
                  <a:lnTo>
                    <a:pt x="13789" y="1951"/>
                  </a:lnTo>
                  <a:lnTo>
                    <a:pt x="13231" y="1951"/>
                  </a:lnTo>
                  <a:lnTo>
                    <a:pt x="13231" y="1844"/>
                  </a:lnTo>
                  <a:lnTo>
                    <a:pt x="13231" y="1738"/>
                  </a:lnTo>
                  <a:lnTo>
                    <a:pt x="13231" y="1632"/>
                  </a:lnTo>
                  <a:lnTo>
                    <a:pt x="13231" y="1419"/>
                  </a:lnTo>
                  <a:lnTo>
                    <a:pt x="13231" y="1277"/>
                  </a:lnTo>
                  <a:lnTo>
                    <a:pt x="13231" y="1170"/>
                  </a:lnTo>
                  <a:lnTo>
                    <a:pt x="12992" y="1064"/>
                  </a:lnTo>
                  <a:lnTo>
                    <a:pt x="12992" y="851"/>
                  </a:lnTo>
                  <a:lnTo>
                    <a:pt x="12514" y="638"/>
                  </a:lnTo>
                  <a:lnTo>
                    <a:pt x="12035" y="426"/>
                  </a:lnTo>
                  <a:lnTo>
                    <a:pt x="11557" y="213"/>
                  </a:lnTo>
                  <a:lnTo>
                    <a:pt x="10840" y="106"/>
                  </a:lnTo>
                  <a:lnTo>
                    <a:pt x="10043" y="0"/>
                  </a:lnTo>
                  <a:lnTo>
                    <a:pt x="9565" y="0"/>
                  </a:lnTo>
                  <a:lnTo>
                    <a:pt x="8847" y="0"/>
                  </a:lnTo>
                  <a:lnTo>
                    <a:pt x="8130" y="106"/>
                  </a:lnTo>
                  <a:lnTo>
                    <a:pt x="7094" y="319"/>
                  </a:lnTo>
                  <a:lnTo>
                    <a:pt x="6376" y="426"/>
                  </a:lnTo>
                  <a:lnTo>
                    <a:pt x="5420" y="638"/>
                  </a:lnTo>
                  <a:lnTo>
                    <a:pt x="4703" y="851"/>
                  </a:lnTo>
                  <a:lnTo>
                    <a:pt x="3906" y="1170"/>
                  </a:lnTo>
                  <a:lnTo>
                    <a:pt x="3188" y="1419"/>
                  </a:lnTo>
                  <a:lnTo>
                    <a:pt x="2471" y="1738"/>
                  </a:lnTo>
                  <a:lnTo>
                    <a:pt x="1993" y="2057"/>
                  </a:lnTo>
                  <a:lnTo>
                    <a:pt x="1993" y="2376"/>
                  </a:lnTo>
                  <a:lnTo>
                    <a:pt x="1993" y="2696"/>
                  </a:lnTo>
                  <a:lnTo>
                    <a:pt x="1993" y="3050"/>
                  </a:lnTo>
                  <a:lnTo>
                    <a:pt x="2232" y="3476"/>
                  </a:lnTo>
                  <a:lnTo>
                    <a:pt x="2232" y="3795"/>
                  </a:lnTo>
                  <a:lnTo>
                    <a:pt x="2232" y="4114"/>
                  </a:lnTo>
                  <a:lnTo>
                    <a:pt x="2232" y="4469"/>
                  </a:lnTo>
                  <a:lnTo>
                    <a:pt x="2232" y="4788"/>
                  </a:lnTo>
                  <a:lnTo>
                    <a:pt x="1036" y="2589"/>
                  </a:lnTo>
                  <a:lnTo>
                    <a:pt x="717" y="2589"/>
                  </a:lnTo>
                  <a:lnTo>
                    <a:pt x="717" y="2696"/>
                  </a:lnTo>
                  <a:lnTo>
                    <a:pt x="478" y="2837"/>
                  </a:lnTo>
                  <a:lnTo>
                    <a:pt x="478" y="2944"/>
                  </a:lnTo>
                  <a:lnTo>
                    <a:pt x="239" y="3050"/>
                  </a:lnTo>
                  <a:lnTo>
                    <a:pt x="239" y="3157"/>
                  </a:lnTo>
                  <a:lnTo>
                    <a:pt x="239" y="3263"/>
                  </a:lnTo>
                  <a:lnTo>
                    <a:pt x="0" y="3582"/>
                  </a:lnTo>
                  <a:lnTo>
                    <a:pt x="239" y="3901"/>
                  </a:lnTo>
                  <a:lnTo>
                    <a:pt x="239" y="4256"/>
                  </a:lnTo>
                  <a:lnTo>
                    <a:pt x="717" y="4469"/>
                  </a:lnTo>
                  <a:lnTo>
                    <a:pt x="1036" y="4682"/>
                  </a:lnTo>
                  <a:lnTo>
                    <a:pt x="1754" y="4895"/>
                  </a:lnTo>
                  <a:lnTo>
                    <a:pt x="2232" y="5107"/>
                  </a:lnTo>
                  <a:lnTo>
                    <a:pt x="2949" y="5214"/>
                  </a:lnTo>
                  <a:lnTo>
                    <a:pt x="6137" y="5427"/>
                  </a:lnTo>
                  <a:lnTo>
                    <a:pt x="6376" y="5427"/>
                  </a:lnTo>
                  <a:lnTo>
                    <a:pt x="6615" y="5427"/>
                  </a:lnTo>
                  <a:lnTo>
                    <a:pt x="7094" y="5427"/>
                  </a:lnTo>
                  <a:lnTo>
                    <a:pt x="7413" y="5427"/>
                  </a:lnTo>
                  <a:lnTo>
                    <a:pt x="7652" y="5320"/>
                  </a:lnTo>
                  <a:lnTo>
                    <a:pt x="7891" y="5320"/>
                  </a:lnTo>
                  <a:lnTo>
                    <a:pt x="8369" y="5320"/>
                  </a:lnTo>
                  <a:lnTo>
                    <a:pt x="8608" y="5320"/>
                  </a:lnTo>
                  <a:lnTo>
                    <a:pt x="8130" y="5533"/>
                  </a:lnTo>
                  <a:lnTo>
                    <a:pt x="7652" y="5781"/>
                  </a:lnTo>
                  <a:lnTo>
                    <a:pt x="7094" y="5994"/>
                  </a:lnTo>
                  <a:lnTo>
                    <a:pt x="6615" y="6313"/>
                  </a:lnTo>
                  <a:lnTo>
                    <a:pt x="6137" y="6526"/>
                  </a:lnTo>
                  <a:lnTo>
                    <a:pt x="5659" y="6739"/>
                  </a:lnTo>
                  <a:lnTo>
                    <a:pt x="5181" y="6952"/>
                  </a:lnTo>
                  <a:lnTo>
                    <a:pt x="4703" y="7306"/>
                  </a:lnTo>
                  <a:lnTo>
                    <a:pt x="4463" y="7519"/>
                  </a:lnTo>
                  <a:lnTo>
                    <a:pt x="4224" y="7519"/>
                  </a:lnTo>
                  <a:lnTo>
                    <a:pt x="4224" y="7626"/>
                  </a:lnTo>
                  <a:lnTo>
                    <a:pt x="3906" y="7732"/>
                  </a:lnTo>
                  <a:lnTo>
                    <a:pt x="3906" y="7838"/>
                  </a:lnTo>
                  <a:lnTo>
                    <a:pt x="3906" y="7945"/>
                  </a:lnTo>
                  <a:lnTo>
                    <a:pt x="3666" y="7945"/>
                  </a:lnTo>
                  <a:lnTo>
                    <a:pt x="3666" y="8264"/>
                  </a:lnTo>
                  <a:lnTo>
                    <a:pt x="3427" y="8619"/>
                  </a:lnTo>
                  <a:lnTo>
                    <a:pt x="3666" y="8938"/>
                  </a:lnTo>
                  <a:lnTo>
                    <a:pt x="3906" y="9257"/>
                  </a:lnTo>
                  <a:lnTo>
                    <a:pt x="4224" y="9470"/>
                  </a:lnTo>
                  <a:lnTo>
                    <a:pt x="4703" y="9789"/>
                  </a:lnTo>
                  <a:lnTo>
                    <a:pt x="5181" y="9931"/>
                  </a:lnTo>
                  <a:lnTo>
                    <a:pt x="5898" y="10144"/>
                  </a:lnTo>
                  <a:lnTo>
                    <a:pt x="7891" y="10357"/>
                  </a:lnTo>
                  <a:lnTo>
                    <a:pt x="8130" y="10357"/>
                  </a:lnTo>
                  <a:lnTo>
                    <a:pt x="8369" y="10357"/>
                  </a:lnTo>
                  <a:lnTo>
                    <a:pt x="7891" y="10569"/>
                  </a:lnTo>
                  <a:lnTo>
                    <a:pt x="7413" y="10782"/>
                  </a:lnTo>
                  <a:lnTo>
                    <a:pt x="7094" y="10995"/>
                  </a:lnTo>
                  <a:lnTo>
                    <a:pt x="6615" y="11208"/>
                  </a:lnTo>
                  <a:lnTo>
                    <a:pt x="6137" y="11350"/>
                  </a:lnTo>
                  <a:lnTo>
                    <a:pt x="5898" y="11563"/>
                  </a:lnTo>
                  <a:lnTo>
                    <a:pt x="5420" y="11775"/>
                  </a:lnTo>
                  <a:lnTo>
                    <a:pt x="4942" y="11988"/>
                  </a:lnTo>
                  <a:lnTo>
                    <a:pt x="4224" y="12520"/>
                  </a:lnTo>
                  <a:lnTo>
                    <a:pt x="4224" y="12627"/>
                  </a:lnTo>
                  <a:lnTo>
                    <a:pt x="4224" y="12768"/>
                  </a:lnTo>
                  <a:lnTo>
                    <a:pt x="3906" y="12875"/>
                  </a:lnTo>
                  <a:lnTo>
                    <a:pt x="3906" y="12981"/>
                  </a:lnTo>
                  <a:lnTo>
                    <a:pt x="3906" y="13088"/>
                  </a:lnTo>
                  <a:lnTo>
                    <a:pt x="3906" y="13407"/>
                  </a:lnTo>
                  <a:lnTo>
                    <a:pt x="4224" y="13726"/>
                  </a:lnTo>
                  <a:lnTo>
                    <a:pt x="4463" y="14045"/>
                  </a:lnTo>
                  <a:lnTo>
                    <a:pt x="4942" y="14294"/>
                  </a:lnTo>
                  <a:lnTo>
                    <a:pt x="5420" y="14506"/>
                  </a:lnTo>
                  <a:lnTo>
                    <a:pt x="5898" y="14719"/>
                  </a:lnTo>
                  <a:lnTo>
                    <a:pt x="6615" y="14826"/>
                  </a:lnTo>
                  <a:lnTo>
                    <a:pt x="7413" y="14932"/>
                  </a:lnTo>
                  <a:lnTo>
                    <a:pt x="7652" y="14932"/>
                  </a:lnTo>
                  <a:lnTo>
                    <a:pt x="7413" y="15038"/>
                  </a:lnTo>
                  <a:lnTo>
                    <a:pt x="7094" y="15145"/>
                  </a:lnTo>
                  <a:lnTo>
                    <a:pt x="6855" y="15145"/>
                  </a:lnTo>
                  <a:lnTo>
                    <a:pt x="6615" y="15251"/>
                  </a:lnTo>
                  <a:lnTo>
                    <a:pt x="6376" y="15358"/>
                  </a:lnTo>
                  <a:lnTo>
                    <a:pt x="6137" y="15464"/>
                  </a:lnTo>
                  <a:lnTo>
                    <a:pt x="5898" y="15606"/>
                  </a:lnTo>
                  <a:lnTo>
                    <a:pt x="5659" y="15606"/>
                  </a:lnTo>
                  <a:lnTo>
                    <a:pt x="5181" y="15819"/>
                  </a:lnTo>
                  <a:lnTo>
                    <a:pt x="4942" y="15819"/>
                  </a:lnTo>
                  <a:lnTo>
                    <a:pt x="4703" y="15925"/>
                  </a:lnTo>
                  <a:lnTo>
                    <a:pt x="4703" y="16032"/>
                  </a:lnTo>
                  <a:lnTo>
                    <a:pt x="4463" y="16032"/>
                  </a:lnTo>
                  <a:lnTo>
                    <a:pt x="4463" y="16138"/>
                  </a:lnTo>
                  <a:lnTo>
                    <a:pt x="4224" y="16138"/>
                  </a:lnTo>
                  <a:lnTo>
                    <a:pt x="3906" y="16351"/>
                  </a:lnTo>
                  <a:lnTo>
                    <a:pt x="3666" y="16670"/>
                  </a:lnTo>
                  <a:lnTo>
                    <a:pt x="3666" y="16883"/>
                  </a:lnTo>
                  <a:lnTo>
                    <a:pt x="3666" y="17131"/>
                  </a:lnTo>
                  <a:lnTo>
                    <a:pt x="3666" y="17344"/>
                  </a:lnTo>
                  <a:lnTo>
                    <a:pt x="3666" y="17557"/>
                  </a:lnTo>
                  <a:lnTo>
                    <a:pt x="3906" y="17769"/>
                  </a:lnTo>
                  <a:lnTo>
                    <a:pt x="4224" y="17982"/>
                  </a:lnTo>
                  <a:lnTo>
                    <a:pt x="3906" y="18089"/>
                  </a:lnTo>
                  <a:lnTo>
                    <a:pt x="3666" y="18195"/>
                  </a:lnTo>
                  <a:lnTo>
                    <a:pt x="3427" y="18195"/>
                  </a:lnTo>
                  <a:lnTo>
                    <a:pt x="3188" y="18301"/>
                  </a:lnTo>
                  <a:lnTo>
                    <a:pt x="2949" y="18443"/>
                  </a:lnTo>
                  <a:lnTo>
                    <a:pt x="2710" y="18550"/>
                  </a:lnTo>
                  <a:lnTo>
                    <a:pt x="2471" y="18656"/>
                  </a:lnTo>
                  <a:lnTo>
                    <a:pt x="2232" y="18763"/>
                  </a:lnTo>
                  <a:lnTo>
                    <a:pt x="2471" y="19082"/>
                  </a:lnTo>
                  <a:lnTo>
                    <a:pt x="2949" y="19507"/>
                  </a:lnTo>
                  <a:lnTo>
                    <a:pt x="3188" y="19862"/>
                  </a:lnTo>
                  <a:lnTo>
                    <a:pt x="3666" y="20181"/>
                  </a:lnTo>
                  <a:lnTo>
                    <a:pt x="3906" y="20607"/>
                  </a:lnTo>
                  <a:lnTo>
                    <a:pt x="4463" y="20926"/>
                  </a:lnTo>
                  <a:lnTo>
                    <a:pt x="4703" y="21281"/>
                  </a:lnTo>
                  <a:lnTo>
                    <a:pt x="4942" y="21600"/>
                  </a:lnTo>
                  <a:lnTo>
                    <a:pt x="5659" y="21600"/>
                  </a:lnTo>
                  <a:lnTo>
                    <a:pt x="6137" y="21600"/>
                  </a:lnTo>
                  <a:lnTo>
                    <a:pt x="6855" y="21494"/>
                  </a:lnTo>
                  <a:lnTo>
                    <a:pt x="7413" y="21387"/>
                  </a:lnTo>
                  <a:lnTo>
                    <a:pt x="7891" y="21281"/>
                  </a:lnTo>
                  <a:lnTo>
                    <a:pt x="8130" y="21033"/>
                  </a:lnTo>
                  <a:lnTo>
                    <a:pt x="8608" y="20820"/>
                  </a:lnTo>
                  <a:lnTo>
                    <a:pt x="8847" y="20607"/>
                  </a:lnTo>
                  <a:lnTo>
                    <a:pt x="9325" y="20500"/>
                  </a:lnTo>
                  <a:lnTo>
                    <a:pt x="9804" y="20394"/>
                  </a:lnTo>
                  <a:lnTo>
                    <a:pt x="10282" y="20181"/>
                  </a:lnTo>
                  <a:lnTo>
                    <a:pt x="10840" y="20075"/>
                  </a:lnTo>
                  <a:lnTo>
                    <a:pt x="11318" y="19862"/>
                  </a:lnTo>
                  <a:lnTo>
                    <a:pt x="11796" y="19720"/>
                  </a:lnTo>
                  <a:lnTo>
                    <a:pt x="12275" y="19507"/>
                  </a:lnTo>
                  <a:lnTo>
                    <a:pt x="12753" y="19295"/>
                  </a:lnTo>
                  <a:lnTo>
                    <a:pt x="14267" y="18763"/>
                  </a:lnTo>
                  <a:lnTo>
                    <a:pt x="14506" y="18656"/>
                  </a:lnTo>
                  <a:lnTo>
                    <a:pt x="14745" y="18550"/>
                  </a:lnTo>
                  <a:lnTo>
                    <a:pt x="14985" y="18443"/>
                  </a:lnTo>
                  <a:lnTo>
                    <a:pt x="15224" y="18301"/>
                  </a:lnTo>
                  <a:lnTo>
                    <a:pt x="15224" y="18089"/>
                  </a:lnTo>
                  <a:lnTo>
                    <a:pt x="15463" y="17982"/>
                  </a:lnTo>
                  <a:lnTo>
                    <a:pt x="15463" y="17876"/>
                  </a:lnTo>
                  <a:lnTo>
                    <a:pt x="15702" y="17663"/>
                  </a:lnTo>
                  <a:lnTo>
                    <a:pt x="15702" y="17557"/>
                  </a:lnTo>
                  <a:lnTo>
                    <a:pt x="15702" y="17344"/>
                  </a:lnTo>
                  <a:lnTo>
                    <a:pt x="15702" y="17237"/>
                  </a:lnTo>
                  <a:lnTo>
                    <a:pt x="15702" y="17131"/>
                  </a:lnTo>
                  <a:lnTo>
                    <a:pt x="15702" y="16883"/>
                  </a:lnTo>
                  <a:lnTo>
                    <a:pt x="15702" y="16776"/>
                  </a:lnTo>
                  <a:lnTo>
                    <a:pt x="15463" y="16670"/>
                  </a:lnTo>
                  <a:lnTo>
                    <a:pt x="15463" y="16457"/>
                  </a:lnTo>
                  <a:lnTo>
                    <a:pt x="15224" y="16351"/>
                  </a:lnTo>
                  <a:lnTo>
                    <a:pt x="15702" y="16138"/>
                  </a:lnTo>
                  <a:lnTo>
                    <a:pt x="16180" y="15925"/>
                  </a:lnTo>
                  <a:lnTo>
                    <a:pt x="16738" y="15712"/>
                  </a:lnTo>
                  <a:lnTo>
                    <a:pt x="17455" y="15464"/>
                  </a:lnTo>
                  <a:lnTo>
                    <a:pt x="17934" y="15251"/>
                  </a:lnTo>
                  <a:lnTo>
                    <a:pt x="18412" y="15038"/>
                  </a:lnTo>
                  <a:lnTo>
                    <a:pt x="18890" y="14826"/>
                  </a:lnTo>
                  <a:lnTo>
                    <a:pt x="19607" y="14613"/>
                  </a:lnTo>
                  <a:lnTo>
                    <a:pt x="20404" y="13726"/>
                  </a:lnTo>
                  <a:lnTo>
                    <a:pt x="20644" y="13513"/>
                  </a:lnTo>
                  <a:lnTo>
                    <a:pt x="20644" y="13407"/>
                  </a:lnTo>
                  <a:lnTo>
                    <a:pt x="20644" y="13300"/>
                  </a:lnTo>
                  <a:lnTo>
                    <a:pt x="20644" y="13194"/>
                  </a:lnTo>
                  <a:lnTo>
                    <a:pt x="20644" y="13088"/>
                  </a:lnTo>
                  <a:lnTo>
                    <a:pt x="20644" y="12875"/>
                  </a:lnTo>
                  <a:lnTo>
                    <a:pt x="20404" y="12768"/>
                  </a:lnTo>
                  <a:lnTo>
                    <a:pt x="20404" y="12627"/>
                  </a:lnTo>
                  <a:lnTo>
                    <a:pt x="20165" y="12414"/>
                  </a:lnTo>
                  <a:lnTo>
                    <a:pt x="20165" y="12307"/>
                  </a:lnTo>
                  <a:lnTo>
                    <a:pt x="19926" y="12201"/>
                  </a:lnTo>
                  <a:lnTo>
                    <a:pt x="19607" y="11988"/>
                  </a:lnTo>
                  <a:lnTo>
                    <a:pt x="19368" y="11882"/>
                  </a:lnTo>
                  <a:lnTo>
                    <a:pt x="19129" y="11775"/>
                  </a:lnTo>
                  <a:lnTo>
                    <a:pt x="18890" y="11669"/>
                  </a:lnTo>
                  <a:lnTo>
                    <a:pt x="18651" y="11563"/>
                  </a:lnTo>
                  <a:lnTo>
                    <a:pt x="18173" y="11563"/>
                  </a:lnTo>
                  <a:lnTo>
                    <a:pt x="16738" y="11350"/>
                  </a:lnTo>
                  <a:lnTo>
                    <a:pt x="16977" y="11208"/>
                  </a:lnTo>
                  <a:lnTo>
                    <a:pt x="16977" y="11101"/>
                  </a:lnTo>
                  <a:lnTo>
                    <a:pt x="17216" y="10995"/>
                  </a:lnTo>
                  <a:lnTo>
                    <a:pt x="17455" y="10889"/>
                  </a:lnTo>
                  <a:lnTo>
                    <a:pt x="17455" y="10782"/>
                  </a:lnTo>
                  <a:lnTo>
                    <a:pt x="19607" y="10144"/>
                  </a:lnTo>
                  <a:lnTo>
                    <a:pt x="19926" y="9931"/>
                  </a:lnTo>
                  <a:lnTo>
                    <a:pt x="20165" y="9789"/>
                  </a:lnTo>
                  <a:lnTo>
                    <a:pt x="20644" y="9576"/>
                  </a:lnTo>
                  <a:lnTo>
                    <a:pt x="20644" y="9470"/>
                  </a:lnTo>
                  <a:lnTo>
                    <a:pt x="20883" y="9257"/>
                  </a:lnTo>
                  <a:lnTo>
                    <a:pt x="21122" y="9044"/>
                  </a:lnTo>
                  <a:lnTo>
                    <a:pt x="21122" y="8832"/>
                  </a:lnTo>
                  <a:lnTo>
                    <a:pt x="21122" y="8619"/>
                  </a:lnTo>
                  <a:lnTo>
                    <a:pt x="20883" y="8264"/>
                  </a:lnTo>
                  <a:lnTo>
                    <a:pt x="20883" y="7945"/>
                  </a:lnTo>
                  <a:lnTo>
                    <a:pt x="20644" y="7626"/>
                  </a:lnTo>
                  <a:lnTo>
                    <a:pt x="20165" y="7413"/>
                  </a:lnTo>
                  <a:lnTo>
                    <a:pt x="19607" y="7200"/>
                  </a:lnTo>
                  <a:lnTo>
                    <a:pt x="19129" y="6952"/>
                  </a:lnTo>
                  <a:lnTo>
                    <a:pt x="18412" y="6845"/>
                  </a:lnTo>
                  <a:lnTo>
                    <a:pt x="17694" y="6739"/>
                  </a:lnTo>
                  <a:lnTo>
                    <a:pt x="16977" y="6739"/>
                  </a:lnTo>
                  <a:lnTo>
                    <a:pt x="15941" y="6739"/>
                  </a:lnTo>
                  <a:lnTo>
                    <a:pt x="16180" y="6633"/>
                  </a:lnTo>
                  <a:lnTo>
                    <a:pt x="16738" y="6526"/>
                  </a:lnTo>
                  <a:lnTo>
                    <a:pt x="16977" y="6420"/>
                  </a:lnTo>
                  <a:lnTo>
                    <a:pt x="17455" y="6207"/>
                  </a:lnTo>
                  <a:lnTo>
                    <a:pt x="17694" y="6100"/>
                  </a:lnTo>
                  <a:lnTo>
                    <a:pt x="18173" y="5994"/>
                  </a:lnTo>
                  <a:lnTo>
                    <a:pt x="18412" y="5888"/>
                  </a:lnTo>
                  <a:lnTo>
                    <a:pt x="18890" y="5675"/>
                  </a:lnTo>
                  <a:lnTo>
                    <a:pt x="21122" y="4469"/>
                  </a:lnTo>
                  <a:close/>
                  <a:moveTo>
                    <a:pt x="6137" y="2057"/>
                  </a:moveTo>
                  <a:lnTo>
                    <a:pt x="6137" y="2057"/>
                  </a:lnTo>
                  <a:lnTo>
                    <a:pt x="6137" y="1951"/>
                  </a:lnTo>
                  <a:lnTo>
                    <a:pt x="6137" y="2057"/>
                  </a:lnTo>
                  <a:close/>
                  <a:moveTo>
                    <a:pt x="6137" y="21387"/>
                  </a:moveTo>
                  <a:lnTo>
                    <a:pt x="6376" y="21387"/>
                  </a:lnTo>
                  <a:lnTo>
                    <a:pt x="6376" y="21281"/>
                  </a:lnTo>
                  <a:lnTo>
                    <a:pt x="6615" y="21281"/>
                  </a:lnTo>
                  <a:lnTo>
                    <a:pt x="6615" y="21139"/>
                  </a:lnTo>
                  <a:lnTo>
                    <a:pt x="6855" y="21139"/>
                  </a:lnTo>
                  <a:lnTo>
                    <a:pt x="7094" y="21139"/>
                  </a:lnTo>
                  <a:lnTo>
                    <a:pt x="7094" y="21033"/>
                  </a:lnTo>
                  <a:lnTo>
                    <a:pt x="7413" y="21033"/>
                  </a:lnTo>
                  <a:lnTo>
                    <a:pt x="7094" y="21033"/>
                  </a:lnTo>
                  <a:lnTo>
                    <a:pt x="7094" y="21139"/>
                  </a:lnTo>
                  <a:lnTo>
                    <a:pt x="6855" y="21139"/>
                  </a:lnTo>
                  <a:lnTo>
                    <a:pt x="6615" y="21281"/>
                  </a:lnTo>
                  <a:lnTo>
                    <a:pt x="6376" y="21281"/>
                  </a:lnTo>
                  <a:lnTo>
                    <a:pt x="6376" y="21387"/>
                  </a:lnTo>
                  <a:lnTo>
                    <a:pt x="6137" y="21387"/>
                  </a:lnTo>
                  <a:close/>
                  <a:moveTo>
                    <a:pt x="6137" y="21387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5756400" y="1436760"/>
              <a:ext cx="615960" cy="75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09"/>
                  </a:moveTo>
                  <a:lnTo>
                    <a:pt x="21600" y="13899"/>
                  </a:lnTo>
                  <a:lnTo>
                    <a:pt x="21600" y="13625"/>
                  </a:lnTo>
                  <a:lnTo>
                    <a:pt x="21433" y="13170"/>
                  </a:lnTo>
                  <a:lnTo>
                    <a:pt x="21266" y="12896"/>
                  </a:lnTo>
                  <a:lnTo>
                    <a:pt x="20932" y="12623"/>
                  </a:lnTo>
                  <a:lnTo>
                    <a:pt x="20598" y="12349"/>
                  </a:lnTo>
                  <a:lnTo>
                    <a:pt x="20208" y="12213"/>
                  </a:lnTo>
                  <a:lnTo>
                    <a:pt x="19874" y="12076"/>
                  </a:lnTo>
                  <a:lnTo>
                    <a:pt x="19540" y="12076"/>
                  </a:lnTo>
                  <a:lnTo>
                    <a:pt x="19373" y="11939"/>
                  </a:lnTo>
                  <a:lnTo>
                    <a:pt x="19206" y="11939"/>
                  </a:lnTo>
                  <a:lnTo>
                    <a:pt x="19039" y="11939"/>
                  </a:lnTo>
                  <a:lnTo>
                    <a:pt x="18872" y="11939"/>
                  </a:lnTo>
                  <a:lnTo>
                    <a:pt x="18705" y="11939"/>
                  </a:lnTo>
                  <a:lnTo>
                    <a:pt x="18538" y="11939"/>
                  </a:lnTo>
                  <a:lnTo>
                    <a:pt x="18705" y="11939"/>
                  </a:lnTo>
                  <a:lnTo>
                    <a:pt x="18705" y="11803"/>
                  </a:lnTo>
                  <a:lnTo>
                    <a:pt x="19373" y="10800"/>
                  </a:lnTo>
                  <a:lnTo>
                    <a:pt x="19540" y="10663"/>
                  </a:lnTo>
                  <a:lnTo>
                    <a:pt x="19540" y="10527"/>
                  </a:lnTo>
                  <a:lnTo>
                    <a:pt x="19540" y="10390"/>
                  </a:lnTo>
                  <a:lnTo>
                    <a:pt x="19707" y="10253"/>
                  </a:lnTo>
                  <a:lnTo>
                    <a:pt x="19707" y="10116"/>
                  </a:lnTo>
                  <a:lnTo>
                    <a:pt x="19707" y="9980"/>
                  </a:lnTo>
                  <a:lnTo>
                    <a:pt x="19707" y="9843"/>
                  </a:lnTo>
                  <a:lnTo>
                    <a:pt x="19707" y="9706"/>
                  </a:lnTo>
                  <a:lnTo>
                    <a:pt x="19707" y="9524"/>
                  </a:lnTo>
                  <a:lnTo>
                    <a:pt x="19707" y="9387"/>
                  </a:lnTo>
                  <a:lnTo>
                    <a:pt x="19707" y="9251"/>
                  </a:lnTo>
                  <a:lnTo>
                    <a:pt x="19540" y="8841"/>
                  </a:lnTo>
                  <a:lnTo>
                    <a:pt x="19373" y="8430"/>
                  </a:lnTo>
                  <a:lnTo>
                    <a:pt x="19039" y="8157"/>
                  </a:lnTo>
                  <a:lnTo>
                    <a:pt x="18705" y="7884"/>
                  </a:lnTo>
                  <a:lnTo>
                    <a:pt x="18148" y="7701"/>
                  </a:lnTo>
                  <a:lnTo>
                    <a:pt x="17647" y="7565"/>
                  </a:lnTo>
                  <a:lnTo>
                    <a:pt x="17146" y="7428"/>
                  </a:lnTo>
                  <a:lnTo>
                    <a:pt x="16645" y="7428"/>
                  </a:lnTo>
                  <a:lnTo>
                    <a:pt x="15588" y="7565"/>
                  </a:lnTo>
                  <a:lnTo>
                    <a:pt x="15254" y="7701"/>
                  </a:lnTo>
                  <a:lnTo>
                    <a:pt x="14920" y="7701"/>
                  </a:lnTo>
                  <a:lnTo>
                    <a:pt x="14586" y="7701"/>
                  </a:lnTo>
                  <a:lnTo>
                    <a:pt x="14085" y="7884"/>
                  </a:lnTo>
                  <a:lnTo>
                    <a:pt x="13695" y="7884"/>
                  </a:lnTo>
                  <a:lnTo>
                    <a:pt x="13361" y="8020"/>
                  </a:lnTo>
                  <a:lnTo>
                    <a:pt x="13027" y="8020"/>
                  </a:lnTo>
                  <a:lnTo>
                    <a:pt x="12526" y="8020"/>
                  </a:lnTo>
                  <a:lnTo>
                    <a:pt x="12693" y="8020"/>
                  </a:lnTo>
                  <a:lnTo>
                    <a:pt x="12693" y="7884"/>
                  </a:lnTo>
                  <a:lnTo>
                    <a:pt x="12860" y="7884"/>
                  </a:lnTo>
                  <a:lnTo>
                    <a:pt x="12860" y="7701"/>
                  </a:lnTo>
                  <a:lnTo>
                    <a:pt x="14586" y="6197"/>
                  </a:lnTo>
                  <a:lnTo>
                    <a:pt x="14753" y="5878"/>
                  </a:lnTo>
                  <a:lnTo>
                    <a:pt x="14920" y="5742"/>
                  </a:lnTo>
                  <a:lnTo>
                    <a:pt x="15087" y="5468"/>
                  </a:lnTo>
                  <a:lnTo>
                    <a:pt x="15087" y="5332"/>
                  </a:lnTo>
                  <a:lnTo>
                    <a:pt x="15087" y="5058"/>
                  </a:lnTo>
                  <a:lnTo>
                    <a:pt x="15087" y="4785"/>
                  </a:lnTo>
                  <a:lnTo>
                    <a:pt x="15087" y="4648"/>
                  </a:lnTo>
                  <a:lnTo>
                    <a:pt x="15087" y="4375"/>
                  </a:lnTo>
                  <a:lnTo>
                    <a:pt x="14920" y="3782"/>
                  </a:lnTo>
                  <a:lnTo>
                    <a:pt x="14753" y="3372"/>
                  </a:lnTo>
                  <a:lnTo>
                    <a:pt x="14586" y="3099"/>
                  </a:lnTo>
                  <a:lnTo>
                    <a:pt x="14252" y="2825"/>
                  </a:lnTo>
                  <a:lnTo>
                    <a:pt x="13918" y="2552"/>
                  </a:lnTo>
                  <a:lnTo>
                    <a:pt x="13361" y="2415"/>
                  </a:lnTo>
                  <a:lnTo>
                    <a:pt x="13027" y="2233"/>
                  </a:lnTo>
                  <a:lnTo>
                    <a:pt x="12526" y="2096"/>
                  </a:lnTo>
                  <a:lnTo>
                    <a:pt x="12025" y="2233"/>
                  </a:lnTo>
                  <a:lnTo>
                    <a:pt x="11468" y="2233"/>
                  </a:lnTo>
                  <a:lnTo>
                    <a:pt x="11134" y="2415"/>
                  </a:lnTo>
                  <a:lnTo>
                    <a:pt x="10800" y="2415"/>
                  </a:lnTo>
                  <a:lnTo>
                    <a:pt x="10466" y="2415"/>
                  </a:lnTo>
                  <a:lnTo>
                    <a:pt x="10132" y="2415"/>
                  </a:lnTo>
                  <a:lnTo>
                    <a:pt x="9798" y="2552"/>
                  </a:lnTo>
                  <a:lnTo>
                    <a:pt x="9408" y="2552"/>
                  </a:lnTo>
                  <a:lnTo>
                    <a:pt x="9074" y="2552"/>
                  </a:lnTo>
                  <a:lnTo>
                    <a:pt x="8740" y="2552"/>
                  </a:lnTo>
                  <a:lnTo>
                    <a:pt x="8740" y="2415"/>
                  </a:lnTo>
                  <a:lnTo>
                    <a:pt x="8740" y="2096"/>
                  </a:lnTo>
                  <a:lnTo>
                    <a:pt x="8740" y="1823"/>
                  </a:lnTo>
                  <a:lnTo>
                    <a:pt x="8740" y="1686"/>
                  </a:lnTo>
                  <a:lnTo>
                    <a:pt x="8573" y="1413"/>
                  </a:lnTo>
                  <a:lnTo>
                    <a:pt x="8573" y="1139"/>
                  </a:lnTo>
                  <a:lnTo>
                    <a:pt x="8406" y="1003"/>
                  </a:lnTo>
                  <a:lnTo>
                    <a:pt x="8239" y="729"/>
                  </a:lnTo>
                  <a:lnTo>
                    <a:pt x="7905" y="410"/>
                  </a:lnTo>
                  <a:lnTo>
                    <a:pt x="7404" y="137"/>
                  </a:lnTo>
                  <a:lnTo>
                    <a:pt x="7014" y="0"/>
                  </a:lnTo>
                  <a:lnTo>
                    <a:pt x="6513" y="0"/>
                  </a:lnTo>
                  <a:lnTo>
                    <a:pt x="6012" y="0"/>
                  </a:lnTo>
                  <a:lnTo>
                    <a:pt x="5511" y="0"/>
                  </a:lnTo>
                  <a:lnTo>
                    <a:pt x="4955" y="137"/>
                  </a:lnTo>
                  <a:lnTo>
                    <a:pt x="4621" y="410"/>
                  </a:lnTo>
                  <a:lnTo>
                    <a:pt x="3786" y="866"/>
                  </a:lnTo>
                  <a:lnTo>
                    <a:pt x="3118" y="1276"/>
                  </a:lnTo>
                  <a:lnTo>
                    <a:pt x="2561" y="1823"/>
                  </a:lnTo>
                  <a:lnTo>
                    <a:pt x="1893" y="2415"/>
                  </a:lnTo>
                  <a:lnTo>
                    <a:pt x="1392" y="2962"/>
                  </a:lnTo>
                  <a:lnTo>
                    <a:pt x="891" y="3646"/>
                  </a:lnTo>
                  <a:lnTo>
                    <a:pt x="724" y="4375"/>
                  </a:lnTo>
                  <a:lnTo>
                    <a:pt x="501" y="5058"/>
                  </a:lnTo>
                  <a:lnTo>
                    <a:pt x="501" y="3782"/>
                  </a:lnTo>
                  <a:lnTo>
                    <a:pt x="501" y="3919"/>
                  </a:lnTo>
                  <a:lnTo>
                    <a:pt x="334" y="3919"/>
                  </a:lnTo>
                  <a:lnTo>
                    <a:pt x="334" y="4056"/>
                  </a:lnTo>
                  <a:lnTo>
                    <a:pt x="334" y="4238"/>
                  </a:lnTo>
                  <a:lnTo>
                    <a:pt x="167" y="4648"/>
                  </a:lnTo>
                  <a:lnTo>
                    <a:pt x="0" y="5058"/>
                  </a:lnTo>
                  <a:lnTo>
                    <a:pt x="0" y="5468"/>
                  </a:lnTo>
                  <a:lnTo>
                    <a:pt x="167" y="5878"/>
                  </a:lnTo>
                  <a:lnTo>
                    <a:pt x="334" y="6197"/>
                  </a:lnTo>
                  <a:lnTo>
                    <a:pt x="724" y="6608"/>
                  </a:lnTo>
                  <a:lnTo>
                    <a:pt x="1058" y="6881"/>
                  </a:lnTo>
                  <a:lnTo>
                    <a:pt x="1559" y="7018"/>
                  </a:lnTo>
                  <a:lnTo>
                    <a:pt x="1893" y="7154"/>
                  </a:lnTo>
                  <a:lnTo>
                    <a:pt x="2060" y="7291"/>
                  </a:lnTo>
                  <a:lnTo>
                    <a:pt x="2227" y="7291"/>
                  </a:lnTo>
                  <a:lnTo>
                    <a:pt x="2561" y="7291"/>
                  </a:lnTo>
                  <a:lnTo>
                    <a:pt x="2728" y="7428"/>
                  </a:lnTo>
                  <a:lnTo>
                    <a:pt x="2951" y="7428"/>
                  </a:lnTo>
                  <a:lnTo>
                    <a:pt x="3118" y="7428"/>
                  </a:lnTo>
                  <a:lnTo>
                    <a:pt x="3285" y="7428"/>
                  </a:lnTo>
                  <a:lnTo>
                    <a:pt x="3619" y="7291"/>
                  </a:lnTo>
                  <a:lnTo>
                    <a:pt x="4287" y="7154"/>
                  </a:lnTo>
                  <a:lnTo>
                    <a:pt x="4621" y="7154"/>
                  </a:lnTo>
                  <a:lnTo>
                    <a:pt x="4955" y="7154"/>
                  </a:lnTo>
                  <a:lnTo>
                    <a:pt x="5177" y="7154"/>
                  </a:lnTo>
                  <a:lnTo>
                    <a:pt x="5511" y="7154"/>
                  </a:lnTo>
                  <a:lnTo>
                    <a:pt x="5845" y="7154"/>
                  </a:lnTo>
                  <a:lnTo>
                    <a:pt x="6179" y="7154"/>
                  </a:lnTo>
                  <a:lnTo>
                    <a:pt x="6346" y="7018"/>
                  </a:lnTo>
                  <a:lnTo>
                    <a:pt x="6680" y="7018"/>
                  </a:lnTo>
                  <a:lnTo>
                    <a:pt x="6513" y="7291"/>
                  </a:lnTo>
                  <a:lnTo>
                    <a:pt x="6179" y="7701"/>
                  </a:lnTo>
                  <a:lnTo>
                    <a:pt x="6012" y="8020"/>
                  </a:lnTo>
                  <a:lnTo>
                    <a:pt x="5678" y="8294"/>
                  </a:lnTo>
                  <a:lnTo>
                    <a:pt x="5511" y="8567"/>
                  </a:lnTo>
                  <a:lnTo>
                    <a:pt x="5344" y="8977"/>
                  </a:lnTo>
                  <a:lnTo>
                    <a:pt x="5177" y="9251"/>
                  </a:lnTo>
                  <a:lnTo>
                    <a:pt x="4955" y="9706"/>
                  </a:lnTo>
                  <a:lnTo>
                    <a:pt x="4621" y="9980"/>
                  </a:lnTo>
                  <a:lnTo>
                    <a:pt x="4621" y="10116"/>
                  </a:lnTo>
                  <a:lnTo>
                    <a:pt x="4621" y="10253"/>
                  </a:lnTo>
                  <a:lnTo>
                    <a:pt x="4454" y="10390"/>
                  </a:lnTo>
                  <a:lnTo>
                    <a:pt x="4454" y="10527"/>
                  </a:lnTo>
                  <a:lnTo>
                    <a:pt x="4454" y="10663"/>
                  </a:lnTo>
                  <a:lnTo>
                    <a:pt x="4454" y="10800"/>
                  </a:lnTo>
                  <a:lnTo>
                    <a:pt x="4454" y="10937"/>
                  </a:lnTo>
                  <a:lnTo>
                    <a:pt x="4454" y="11210"/>
                  </a:lnTo>
                  <a:lnTo>
                    <a:pt x="4621" y="11666"/>
                  </a:lnTo>
                  <a:lnTo>
                    <a:pt x="4788" y="11939"/>
                  </a:lnTo>
                  <a:lnTo>
                    <a:pt x="4955" y="12349"/>
                  </a:lnTo>
                  <a:lnTo>
                    <a:pt x="5344" y="12623"/>
                  </a:lnTo>
                  <a:lnTo>
                    <a:pt x="5845" y="12759"/>
                  </a:lnTo>
                  <a:lnTo>
                    <a:pt x="6346" y="12896"/>
                  </a:lnTo>
                  <a:lnTo>
                    <a:pt x="6847" y="13033"/>
                  </a:lnTo>
                  <a:lnTo>
                    <a:pt x="7404" y="13033"/>
                  </a:lnTo>
                  <a:lnTo>
                    <a:pt x="8573" y="12896"/>
                  </a:lnTo>
                  <a:lnTo>
                    <a:pt x="8907" y="12896"/>
                  </a:lnTo>
                  <a:lnTo>
                    <a:pt x="9074" y="12759"/>
                  </a:lnTo>
                  <a:lnTo>
                    <a:pt x="9408" y="12759"/>
                  </a:lnTo>
                  <a:lnTo>
                    <a:pt x="9798" y="12759"/>
                  </a:lnTo>
                  <a:lnTo>
                    <a:pt x="10132" y="12623"/>
                  </a:lnTo>
                  <a:lnTo>
                    <a:pt x="10466" y="12623"/>
                  </a:lnTo>
                  <a:lnTo>
                    <a:pt x="10633" y="12623"/>
                  </a:lnTo>
                  <a:lnTo>
                    <a:pt x="10967" y="12486"/>
                  </a:lnTo>
                  <a:lnTo>
                    <a:pt x="10967" y="12623"/>
                  </a:lnTo>
                  <a:lnTo>
                    <a:pt x="10800" y="12759"/>
                  </a:lnTo>
                  <a:lnTo>
                    <a:pt x="10633" y="12896"/>
                  </a:lnTo>
                  <a:lnTo>
                    <a:pt x="10633" y="13033"/>
                  </a:lnTo>
                  <a:lnTo>
                    <a:pt x="10466" y="13170"/>
                  </a:lnTo>
                  <a:lnTo>
                    <a:pt x="10299" y="13352"/>
                  </a:lnTo>
                  <a:lnTo>
                    <a:pt x="10299" y="13489"/>
                  </a:lnTo>
                  <a:lnTo>
                    <a:pt x="10132" y="13625"/>
                  </a:lnTo>
                  <a:lnTo>
                    <a:pt x="9798" y="14309"/>
                  </a:lnTo>
                  <a:lnTo>
                    <a:pt x="9798" y="14719"/>
                  </a:lnTo>
                  <a:lnTo>
                    <a:pt x="9798" y="15175"/>
                  </a:lnTo>
                  <a:lnTo>
                    <a:pt x="9798" y="15585"/>
                  </a:lnTo>
                  <a:lnTo>
                    <a:pt x="9965" y="15995"/>
                  </a:lnTo>
                  <a:lnTo>
                    <a:pt x="10299" y="16268"/>
                  </a:lnTo>
                  <a:lnTo>
                    <a:pt x="10633" y="16542"/>
                  </a:lnTo>
                  <a:lnTo>
                    <a:pt x="10967" y="16815"/>
                  </a:lnTo>
                  <a:lnTo>
                    <a:pt x="11468" y="16997"/>
                  </a:lnTo>
                  <a:lnTo>
                    <a:pt x="11858" y="16997"/>
                  </a:lnTo>
                  <a:lnTo>
                    <a:pt x="12025" y="17134"/>
                  </a:lnTo>
                  <a:lnTo>
                    <a:pt x="12192" y="17134"/>
                  </a:lnTo>
                  <a:lnTo>
                    <a:pt x="12359" y="17134"/>
                  </a:lnTo>
                  <a:lnTo>
                    <a:pt x="12526" y="17134"/>
                  </a:lnTo>
                  <a:lnTo>
                    <a:pt x="12693" y="17134"/>
                  </a:lnTo>
                  <a:lnTo>
                    <a:pt x="12860" y="17134"/>
                  </a:lnTo>
                  <a:lnTo>
                    <a:pt x="13027" y="17134"/>
                  </a:lnTo>
                  <a:lnTo>
                    <a:pt x="13194" y="17134"/>
                  </a:lnTo>
                  <a:lnTo>
                    <a:pt x="13918" y="16815"/>
                  </a:lnTo>
                  <a:lnTo>
                    <a:pt x="13695" y="16997"/>
                  </a:lnTo>
                  <a:lnTo>
                    <a:pt x="13695" y="17134"/>
                  </a:lnTo>
                  <a:lnTo>
                    <a:pt x="13528" y="17134"/>
                  </a:lnTo>
                  <a:lnTo>
                    <a:pt x="13528" y="17271"/>
                  </a:lnTo>
                  <a:lnTo>
                    <a:pt x="13361" y="17408"/>
                  </a:lnTo>
                  <a:lnTo>
                    <a:pt x="13194" y="17544"/>
                  </a:lnTo>
                  <a:lnTo>
                    <a:pt x="12693" y="18091"/>
                  </a:lnTo>
                  <a:lnTo>
                    <a:pt x="12526" y="18228"/>
                  </a:lnTo>
                  <a:lnTo>
                    <a:pt x="12359" y="18501"/>
                  </a:lnTo>
                  <a:lnTo>
                    <a:pt x="12359" y="18820"/>
                  </a:lnTo>
                  <a:lnTo>
                    <a:pt x="12192" y="19094"/>
                  </a:lnTo>
                  <a:lnTo>
                    <a:pt x="12192" y="19367"/>
                  </a:lnTo>
                  <a:lnTo>
                    <a:pt x="12192" y="19641"/>
                  </a:lnTo>
                  <a:lnTo>
                    <a:pt x="12192" y="19914"/>
                  </a:lnTo>
                  <a:lnTo>
                    <a:pt x="12359" y="20187"/>
                  </a:lnTo>
                  <a:lnTo>
                    <a:pt x="12526" y="20643"/>
                  </a:lnTo>
                  <a:lnTo>
                    <a:pt x="12860" y="20916"/>
                  </a:lnTo>
                  <a:lnTo>
                    <a:pt x="13194" y="21190"/>
                  </a:lnTo>
                  <a:lnTo>
                    <a:pt x="13695" y="21327"/>
                  </a:lnTo>
                  <a:lnTo>
                    <a:pt x="14252" y="21463"/>
                  </a:lnTo>
                  <a:lnTo>
                    <a:pt x="14753" y="21600"/>
                  </a:lnTo>
                  <a:lnTo>
                    <a:pt x="15254" y="21463"/>
                  </a:lnTo>
                  <a:lnTo>
                    <a:pt x="15755" y="21463"/>
                  </a:lnTo>
                  <a:lnTo>
                    <a:pt x="16144" y="21327"/>
                  </a:lnTo>
                  <a:lnTo>
                    <a:pt x="16478" y="21190"/>
                  </a:lnTo>
                  <a:lnTo>
                    <a:pt x="16812" y="21053"/>
                  </a:lnTo>
                  <a:lnTo>
                    <a:pt x="17313" y="21053"/>
                  </a:lnTo>
                  <a:lnTo>
                    <a:pt x="17647" y="20916"/>
                  </a:lnTo>
                  <a:lnTo>
                    <a:pt x="17981" y="20916"/>
                  </a:lnTo>
                  <a:lnTo>
                    <a:pt x="18371" y="20780"/>
                  </a:lnTo>
                  <a:lnTo>
                    <a:pt x="18705" y="20643"/>
                  </a:lnTo>
                  <a:lnTo>
                    <a:pt x="19039" y="20643"/>
                  </a:lnTo>
                  <a:lnTo>
                    <a:pt x="19540" y="20324"/>
                  </a:lnTo>
                  <a:lnTo>
                    <a:pt x="19874" y="20187"/>
                  </a:lnTo>
                  <a:lnTo>
                    <a:pt x="20208" y="19914"/>
                  </a:lnTo>
                  <a:lnTo>
                    <a:pt x="20598" y="19504"/>
                  </a:lnTo>
                  <a:lnTo>
                    <a:pt x="20765" y="19094"/>
                  </a:lnTo>
                  <a:lnTo>
                    <a:pt x="20765" y="18820"/>
                  </a:lnTo>
                  <a:lnTo>
                    <a:pt x="20765" y="18365"/>
                  </a:lnTo>
                  <a:lnTo>
                    <a:pt x="20765" y="17954"/>
                  </a:lnTo>
                  <a:lnTo>
                    <a:pt x="20598" y="17818"/>
                  </a:lnTo>
                  <a:lnTo>
                    <a:pt x="20598" y="17681"/>
                  </a:lnTo>
                  <a:lnTo>
                    <a:pt x="20598" y="17544"/>
                  </a:lnTo>
                  <a:lnTo>
                    <a:pt x="20375" y="17408"/>
                  </a:lnTo>
                  <a:lnTo>
                    <a:pt x="20208" y="17271"/>
                  </a:lnTo>
                  <a:lnTo>
                    <a:pt x="20208" y="17134"/>
                  </a:lnTo>
                  <a:lnTo>
                    <a:pt x="20041" y="17134"/>
                  </a:lnTo>
                  <a:lnTo>
                    <a:pt x="20208" y="16997"/>
                  </a:lnTo>
                  <a:lnTo>
                    <a:pt x="20208" y="16815"/>
                  </a:lnTo>
                  <a:lnTo>
                    <a:pt x="20375" y="16678"/>
                  </a:lnTo>
                  <a:lnTo>
                    <a:pt x="20375" y="16542"/>
                  </a:lnTo>
                  <a:lnTo>
                    <a:pt x="20598" y="16405"/>
                  </a:lnTo>
                  <a:lnTo>
                    <a:pt x="20598" y="16268"/>
                  </a:lnTo>
                  <a:lnTo>
                    <a:pt x="20765" y="16268"/>
                  </a:lnTo>
                  <a:lnTo>
                    <a:pt x="20765" y="16132"/>
                  </a:lnTo>
                  <a:lnTo>
                    <a:pt x="21600" y="14309"/>
                  </a:lnTo>
                  <a:close/>
                  <a:moveTo>
                    <a:pt x="21600" y="14309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77"/>
            <p:cNvSpPr/>
            <p:nvPr/>
          </p:nvSpPr>
          <p:spPr>
            <a:xfrm>
              <a:off x="5770800" y="4162320"/>
              <a:ext cx="646200" cy="27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41" y="6530"/>
                  </a:moveTo>
                  <a:lnTo>
                    <a:pt x="21069" y="5400"/>
                  </a:lnTo>
                  <a:lnTo>
                    <a:pt x="20751" y="4647"/>
                  </a:lnTo>
                  <a:lnTo>
                    <a:pt x="20432" y="3893"/>
                  </a:lnTo>
                  <a:lnTo>
                    <a:pt x="19955" y="3516"/>
                  </a:lnTo>
                  <a:lnTo>
                    <a:pt x="19477" y="3140"/>
                  </a:lnTo>
                  <a:lnTo>
                    <a:pt x="18946" y="3140"/>
                  </a:lnTo>
                  <a:lnTo>
                    <a:pt x="18469" y="3140"/>
                  </a:lnTo>
                  <a:lnTo>
                    <a:pt x="18150" y="3516"/>
                  </a:lnTo>
                  <a:lnTo>
                    <a:pt x="17832" y="3893"/>
                  </a:lnTo>
                  <a:lnTo>
                    <a:pt x="17673" y="3893"/>
                  </a:lnTo>
                  <a:lnTo>
                    <a:pt x="17354" y="4270"/>
                  </a:lnTo>
                  <a:lnTo>
                    <a:pt x="17195" y="4647"/>
                  </a:lnTo>
                  <a:lnTo>
                    <a:pt x="16824" y="5023"/>
                  </a:lnTo>
                  <a:lnTo>
                    <a:pt x="16664" y="5023"/>
                  </a:lnTo>
                  <a:lnTo>
                    <a:pt x="16346" y="5400"/>
                  </a:lnTo>
                  <a:lnTo>
                    <a:pt x="16187" y="5777"/>
                  </a:lnTo>
                  <a:lnTo>
                    <a:pt x="16028" y="5023"/>
                  </a:lnTo>
                  <a:lnTo>
                    <a:pt x="15868" y="4647"/>
                  </a:lnTo>
                  <a:lnTo>
                    <a:pt x="15550" y="4270"/>
                  </a:lnTo>
                  <a:lnTo>
                    <a:pt x="15391" y="3893"/>
                  </a:lnTo>
                  <a:lnTo>
                    <a:pt x="15231" y="3516"/>
                  </a:lnTo>
                  <a:lnTo>
                    <a:pt x="14913" y="3516"/>
                  </a:lnTo>
                  <a:lnTo>
                    <a:pt x="14542" y="3140"/>
                  </a:lnTo>
                  <a:lnTo>
                    <a:pt x="14382" y="3140"/>
                  </a:lnTo>
                  <a:lnTo>
                    <a:pt x="12949" y="3516"/>
                  </a:lnTo>
                  <a:lnTo>
                    <a:pt x="12790" y="3893"/>
                  </a:lnTo>
                  <a:lnTo>
                    <a:pt x="12419" y="3893"/>
                  </a:lnTo>
                  <a:lnTo>
                    <a:pt x="12100" y="4270"/>
                  </a:lnTo>
                  <a:lnTo>
                    <a:pt x="11782" y="4270"/>
                  </a:lnTo>
                  <a:lnTo>
                    <a:pt x="11623" y="4647"/>
                  </a:lnTo>
                  <a:lnTo>
                    <a:pt x="11304" y="4647"/>
                  </a:lnTo>
                  <a:lnTo>
                    <a:pt x="10986" y="5023"/>
                  </a:lnTo>
                  <a:lnTo>
                    <a:pt x="10614" y="5023"/>
                  </a:lnTo>
                  <a:lnTo>
                    <a:pt x="10614" y="4647"/>
                  </a:lnTo>
                  <a:lnTo>
                    <a:pt x="10614" y="4270"/>
                  </a:lnTo>
                  <a:lnTo>
                    <a:pt x="10455" y="3893"/>
                  </a:lnTo>
                  <a:lnTo>
                    <a:pt x="10455" y="3516"/>
                  </a:lnTo>
                  <a:lnTo>
                    <a:pt x="10296" y="3140"/>
                  </a:lnTo>
                  <a:lnTo>
                    <a:pt x="10137" y="2763"/>
                  </a:lnTo>
                  <a:lnTo>
                    <a:pt x="9977" y="2386"/>
                  </a:lnTo>
                  <a:lnTo>
                    <a:pt x="9818" y="2009"/>
                  </a:lnTo>
                  <a:lnTo>
                    <a:pt x="9659" y="1130"/>
                  </a:lnTo>
                  <a:lnTo>
                    <a:pt x="9341" y="753"/>
                  </a:lnTo>
                  <a:lnTo>
                    <a:pt x="9181" y="377"/>
                  </a:lnTo>
                  <a:lnTo>
                    <a:pt x="8863" y="0"/>
                  </a:lnTo>
                  <a:lnTo>
                    <a:pt x="8491" y="0"/>
                  </a:lnTo>
                  <a:lnTo>
                    <a:pt x="8173" y="0"/>
                  </a:lnTo>
                  <a:lnTo>
                    <a:pt x="7855" y="0"/>
                  </a:lnTo>
                  <a:lnTo>
                    <a:pt x="7536" y="0"/>
                  </a:lnTo>
                  <a:lnTo>
                    <a:pt x="6899" y="377"/>
                  </a:lnTo>
                  <a:lnTo>
                    <a:pt x="6581" y="753"/>
                  </a:lnTo>
                  <a:lnTo>
                    <a:pt x="6369" y="753"/>
                  </a:lnTo>
                  <a:lnTo>
                    <a:pt x="6050" y="1130"/>
                  </a:lnTo>
                  <a:lnTo>
                    <a:pt x="5732" y="1130"/>
                  </a:lnTo>
                  <a:lnTo>
                    <a:pt x="5413" y="1507"/>
                  </a:lnTo>
                  <a:lnTo>
                    <a:pt x="5254" y="1507"/>
                  </a:lnTo>
                  <a:lnTo>
                    <a:pt x="4936" y="2009"/>
                  </a:lnTo>
                  <a:lnTo>
                    <a:pt x="4617" y="2386"/>
                  </a:lnTo>
                  <a:lnTo>
                    <a:pt x="4617" y="2009"/>
                  </a:lnTo>
                  <a:lnTo>
                    <a:pt x="4458" y="2009"/>
                  </a:lnTo>
                  <a:lnTo>
                    <a:pt x="3927" y="1130"/>
                  </a:lnTo>
                  <a:lnTo>
                    <a:pt x="3450" y="1130"/>
                  </a:lnTo>
                  <a:lnTo>
                    <a:pt x="2972" y="1130"/>
                  </a:lnTo>
                  <a:lnTo>
                    <a:pt x="2494" y="1130"/>
                  </a:lnTo>
                  <a:lnTo>
                    <a:pt x="2123" y="1507"/>
                  </a:lnTo>
                  <a:lnTo>
                    <a:pt x="1645" y="2386"/>
                  </a:lnTo>
                  <a:lnTo>
                    <a:pt x="1327" y="3140"/>
                  </a:lnTo>
                  <a:lnTo>
                    <a:pt x="1008" y="3893"/>
                  </a:lnTo>
                  <a:lnTo>
                    <a:pt x="1008" y="4270"/>
                  </a:lnTo>
                  <a:lnTo>
                    <a:pt x="849" y="4270"/>
                  </a:lnTo>
                  <a:lnTo>
                    <a:pt x="849" y="4647"/>
                  </a:lnTo>
                  <a:lnTo>
                    <a:pt x="690" y="5023"/>
                  </a:lnTo>
                  <a:lnTo>
                    <a:pt x="690" y="5400"/>
                  </a:lnTo>
                  <a:lnTo>
                    <a:pt x="849" y="6530"/>
                  </a:lnTo>
                  <a:lnTo>
                    <a:pt x="1168" y="8163"/>
                  </a:lnTo>
                  <a:lnTo>
                    <a:pt x="1327" y="9293"/>
                  </a:lnTo>
                  <a:lnTo>
                    <a:pt x="1645" y="10423"/>
                  </a:lnTo>
                  <a:lnTo>
                    <a:pt x="1804" y="11553"/>
                  </a:lnTo>
                  <a:lnTo>
                    <a:pt x="2123" y="12433"/>
                  </a:lnTo>
                  <a:lnTo>
                    <a:pt x="2335" y="13563"/>
                  </a:lnTo>
                  <a:lnTo>
                    <a:pt x="2654" y="14693"/>
                  </a:lnTo>
                  <a:lnTo>
                    <a:pt x="212" y="7409"/>
                  </a:lnTo>
                  <a:lnTo>
                    <a:pt x="212" y="7786"/>
                  </a:lnTo>
                  <a:lnTo>
                    <a:pt x="0" y="8540"/>
                  </a:lnTo>
                  <a:lnTo>
                    <a:pt x="0" y="8916"/>
                  </a:lnTo>
                  <a:lnTo>
                    <a:pt x="0" y="9670"/>
                  </a:lnTo>
                  <a:lnTo>
                    <a:pt x="0" y="10047"/>
                  </a:lnTo>
                  <a:lnTo>
                    <a:pt x="0" y="10423"/>
                  </a:lnTo>
                  <a:lnTo>
                    <a:pt x="212" y="11177"/>
                  </a:lnTo>
                  <a:lnTo>
                    <a:pt x="212" y="11553"/>
                  </a:lnTo>
                  <a:lnTo>
                    <a:pt x="371" y="12809"/>
                  </a:lnTo>
                  <a:lnTo>
                    <a:pt x="690" y="13563"/>
                  </a:lnTo>
                  <a:lnTo>
                    <a:pt x="1168" y="14316"/>
                  </a:lnTo>
                  <a:lnTo>
                    <a:pt x="1486" y="15070"/>
                  </a:lnTo>
                  <a:lnTo>
                    <a:pt x="1964" y="15447"/>
                  </a:lnTo>
                  <a:lnTo>
                    <a:pt x="2494" y="15447"/>
                  </a:lnTo>
                  <a:lnTo>
                    <a:pt x="2972" y="15447"/>
                  </a:lnTo>
                  <a:lnTo>
                    <a:pt x="3450" y="15070"/>
                  </a:lnTo>
                  <a:lnTo>
                    <a:pt x="3609" y="15070"/>
                  </a:lnTo>
                  <a:lnTo>
                    <a:pt x="3768" y="14693"/>
                  </a:lnTo>
                  <a:lnTo>
                    <a:pt x="3927" y="14693"/>
                  </a:lnTo>
                  <a:lnTo>
                    <a:pt x="4086" y="14693"/>
                  </a:lnTo>
                  <a:lnTo>
                    <a:pt x="4246" y="14693"/>
                  </a:lnTo>
                  <a:lnTo>
                    <a:pt x="4458" y="14316"/>
                  </a:lnTo>
                  <a:lnTo>
                    <a:pt x="4617" y="14316"/>
                  </a:lnTo>
                  <a:lnTo>
                    <a:pt x="4776" y="14316"/>
                  </a:lnTo>
                  <a:lnTo>
                    <a:pt x="4776" y="14693"/>
                  </a:lnTo>
                  <a:lnTo>
                    <a:pt x="4776" y="15070"/>
                  </a:lnTo>
                  <a:lnTo>
                    <a:pt x="4776" y="15447"/>
                  </a:lnTo>
                  <a:lnTo>
                    <a:pt x="4936" y="15823"/>
                  </a:lnTo>
                  <a:lnTo>
                    <a:pt x="4936" y="16200"/>
                  </a:lnTo>
                  <a:lnTo>
                    <a:pt x="4936" y="16577"/>
                  </a:lnTo>
                  <a:lnTo>
                    <a:pt x="5095" y="16577"/>
                  </a:lnTo>
                  <a:lnTo>
                    <a:pt x="5095" y="17079"/>
                  </a:lnTo>
                  <a:lnTo>
                    <a:pt x="5413" y="18209"/>
                  </a:lnTo>
                  <a:lnTo>
                    <a:pt x="5891" y="18963"/>
                  </a:lnTo>
                  <a:lnTo>
                    <a:pt x="6209" y="19340"/>
                  </a:lnTo>
                  <a:lnTo>
                    <a:pt x="6740" y="19716"/>
                  </a:lnTo>
                  <a:lnTo>
                    <a:pt x="7218" y="19716"/>
                  </a:lnTo>
                  <a:lnTo>
                    <a:pt x="7695" y="19716"/>
                  </a:lnTo>
                  <a:lnTo>
                    <a:pt x="8173" y="19340"/>
                  </a:lnTo>
                  <a:lnTo>
                    <a:pt x="8491" y="18963"/>
                  </a:lnTo>
                  <a:lnTo>
                    <a:pt x="8704" y="18586"/>
                  </a:lnTo>
                  <a:lnTo>
                    <a:pt x="9022" y="18586"/>
                  </a:lnTo>
                  <a:lnTo>
                    <a:pt x="9341" y="18209"/>
                  </a:lnTo>
                  <a:lnTo>
                    <a:pt x="9659" y="17833"/>
                  </a:lnTo>
                  <a:lnTo>
                    <a:pt x="9977" y="17833"/>
                  </a:lnTo>
                  <a:lnTo>
                    <a:pt x="10296" y="17456"/>
                  </a:lnTo>
                  <a:lnTo>
                    <a:pt x="10614" y="17456"/>
                  </a:lnTo>
                  <a:lnTo>
                    <a:pt x="10986" y="17079"/>
                  </a:lnTo>
                  <a:lnTo>
                    <a:pt x="11304" y="17079"/>
                  </a:lnTo>
                  <a:lnTo>
                    <a:pt x="11304" y="17456"/>
                  </a:lnTo>
                  <a:lnTo>
                    <a:pt x="11304" y="17833"/>
                  </a:lnTo>
                  <a:lnTo>
                    <a:pt x="11304" y="18209"/>
                  </a:lnTo>
                  <a:lnTo>
                    <a:pt x="11463" y="18209"/>
                  </a:lnTo>
                  <a:lnTo>
                    <a:pt x="11623" y="19340"/>
                  </a:lnTo>
                  <a:lnTo>
                    <a:pt x="11941" y="20093"/>
                  </a:lnTo>
                  <a:lnTo>
                    <a:pt x="12419" y="20847"/>
                  </a:lnTo>
                  <a:lnTo>
                    <a:pt x="12790" y="21223"/>
                  </a:lnTo>
                  <a:lnTo>
                    <a:pt x="13268" y="21600"/>
                  </a:lnTo>
                  <a:lnTo>
                    <a:pt x="13745" y="21600"/>
                  </a:lnTo>
                  <a:lnTo>
                    <a:pt x="14223" y="21600"/>
                  </a:lnTo>
                  <a:lnTo>
                    <a:pt x="14701" y="21223"/>
                  </a:lnTo>
                  <a:lnTo>
                    <a:pt x="15391" y="20470"/>
                  </a:lnTo>
                  <a:lnTo>
                    <a:pt x="16028" y="19340"/>
                  </a:lnTo>
                  <a:lnTo>
                    <a:pt x="16505" y="18586"/>
                  </a:lnTo>
                  <a:lnTo>
                    <a:pt x="17195" y="17833"/>
                  </a:lnTo>
                  <a:lnTo>
                    <a:pt x="17673" y="17079"/>
                  </a:lnTo>
                  <a:lnTo>
                    <a:pt x="18310" y="16200"/>
                  </a:lnTo>
                  <a:lnTo>
                    <a:pt x="18946" y="15447"/>
                  </a:lnTo>
                  <a:lnTo>
                    <a:pt x="19477" y="14693"/>
                  </a:lnTo>
                  <a:lnTo>
                    <a:pt x="20114" y="14316"/>
                  </a:lnTo>
                  <a:lnTo>
                    <a:pt x="20592" y="13563"/>
                  </a:lnTo>
                  <a:lnTo>
                    <a:pt x="20910" y="12809"/>
                  </a:lnTo>
                  <a:lnTo>
                    <a:pt x="21282" y="12056"/>
                  </a:lnTo>
                  <a:lnTo>
                    <a:pt x="21441" y="10800"/>
                  </a:lnTo>
                  <a:lnTo>
                    <a:pt x="21600" y="9670"/>
                  </a:lnTo>
                  <a:lnTo>
                    <a:pt x="21600" y="8916"/>
                  </a:lnTo>
                  <a:lnTo>
                    <a:pt x="21600" y="7786"/>
                  </a:lnTo>
                  <a:lnTo>
                    <a:pt x="21441" y="6530"/>
                  </a:lnTo>
                  <a:close/>
                  <a:moveTo>
                    <a:pt x="11782" y="8540"/>
                  </a:moveTo>
                  <a:lnTo>
                    <a:pt x="11782" y="8540"/>
                  </a:lnTo>
                  <a:lnTo>
                    <a:pt x="11782" y="8916"/>
                  </a:lnTo>
                  <a:lnTo>
                    <a:pt x="11782" y="9293"/>
                  </a:lnTo>
                  <a:lnTo>
                    <a:pt x="11782" y="9670"/>
                  </a:lnTo>
                  <a:lnTo>
                    <a:pt x="11623" y="9670"/>
                  </a:lnTo>
                  <a:lnTo>
                    <a:pt x="11782" y="8540"/>
                  </a:lnTo>
                  <a:close/>
                  <a:moveTo>
                    <a:pt x="2654" y="3516"/>
                  </a:moveTo>
                  <a:lnTo>
                    <a:pt x="2654" y="3516"/>
                  </a:lnTo>
                  <a:lnTo>
                    <a:pt x="2654" y="3140"/>
                  </a:lnTo>
                  <a:lnTo>
                    <a:pt x="2654" y="3516"/>
                  </a:lnTo>
                  <a:close/>
                  <a:moveTo>
                    <a:pt x="4246" y="10423"/>
                  </a:moveTo>
                  <a:lnTo>
                    <a:pt x="4776" y="11553"/>
                  </a:lnTo>
                  <a:lnTo>
                    <a:pt x="4776" y="12433"/>
                  </a:lnTo>
                  <a:lnTo>
                    <a:pt x="4617" y="12056"/>
                  </a:lnTo>
                  <a:lnTo>
                    <a:pt x="4617" y="11553"/>
                  </a:lnTo>
                  <a:lnTo>
                    <a:pt x="4458" y="11177"/>
                  </a:lnTo>
                  <a:lnTo>
                    <a:pt x="4458" y="10800"/>
                  </a:lnTo>
                  <a:lnTo>
                    <a:pt x="4246" y="10800"/>
                  </a:lnTo>
                  <a:lnTo>
                    <a:pt x="4246" y="10423"/>
                  </a:lnTo>
                  <a:close/>
                  <a:moveTo>
                    <a:pt x="4246" y="10423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AutoShape 78"/>
            <p:cNvSpPr/>
            <p:nvPr/>
          </p:nvSpPr>
          <p:spPr>
            <a:xfrm>
              <a:off x="6523200" y="3849480"/>
              <a:ext cx="298440" cy="81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383" y="11640"/>
                  </a:moveTo>
                  <a:lnTo>
                    <a:pt x="18383" y="11640"/>
                  </a:lnTo>
                  <a:lnTo>
                    <a:pt x="18843" y="11514"/>
                  </a:lnTo>
                  <a:lnTo>
                    <a:pt x="18843" y="11388"/>
                  </a:lnTo>
                  <a:lnTo>
                    <a:pt x="19187" y="11262"/>
                  </a:lnTo>
                  <a:lnTo>
                    <a:pt x="19532" y="11136"/>
                  </a:lnTo>
                  <a:lnTo>
                    <a:pt x="19532" y="11010"/>
                  </a:lnTo>
                  <a:lnTo>
                    <a:pt x="19877" y="10884"/>
                  </a:lnTo>
                  <a:lnTo>
                    <a:pt x="20566" y="9960"/>
                  </a:lnTo>
                  <a:lnTo>
                    <a:pt x="20566" y="9833"/>
                  </a:lnTo>
                  <a:lnTo>
                    <a:pt x="20911" y="9581"/>
                  </a:lnTo>
                  <a:lnTo>
                    <a:pt x="20911" y="9455"/>
                  </a:lnTo>
                  <a:lnTo>
                    <a:pt x="20911" y="9329"/>
                  </a:lnTo>
                  <a:lnTo>
                    <a:pt x="20566" y="9077"/>
                  </a:lnTo>
                  <a:lnTo>
                    <a:pt x="20566" y="8951"/>
                  </a:lnTo>
                  <a:lnTo>
                    <a:pt x="20566" y="8783"/>
                  </a:lnTo>
                  <a:lnTo>
                    <a:pt x="20221" y="8657"/>
                  </a:lnTo>
                  <a:lnTo>
                    <a:pt x="20221" y="8405"/>
                  </a:lnTo>
                  <a:lnTo>
                    <a:pt x="19877" y="8279"/>
                  </a:lnTo>
                  <a:lnTo>
                    <a:pt x="19877" y="8153"/>
                  </a:lnTo>
                  <a:lnTo>
                    <a:pt x="19532" y="8026"/>
                  </a:lnTo>
                  <a:lnTo>
                    <a:pt x="19187" y="7900"/>
                  </a:lnTo>
                  <a:lnTo>
                    <a:pt x="18843" y="7774"/>
                  </a:lnTo>
                  <a:lnTo>
                    <a:pt x="18383" y="7648"/>
                  </a:lnTo>
                  <a:lnTo>
                    <a:pt x="18038" y="7522"/>
                  </a:lnTo>
                  <a:lnTo>
                    <a:pt x="18383" y="7396"/>
                  </a:lnTo>
                  <a:lnTo>
                    <a:pt x="19187" y="7102"/>
                  </a:lnTo>
                  <a:lnTo>
                    <a:pt x="19532" y="6850"/>
                  </a:lnTo>
                  <a:lnTo>
                    <a:pt x="19877" y="6598"/>
                  </a:lnTo>
                  <a:lnTo>
                    <a:pt x="20221" y="6346"/>
                  </a:lnTo>
                  <a:lnTo>
                    <a:pt x="20566" y="6093"/>
                  </a:lnTo>
                  <a:lnTo>
                    <a:pt x="20911" y="5841"/>
                  </a:lnTo>
                  <a:lnTo>
                    <a:pt x="21255" y="5589"/>
                  </a:lnTo>
                  <a:lnTo>
                    <a:pt x="21600" y="4412"/>
                  </a:lnTo>
                  <a:lnTo>
                    <a:pt x="21600" y="4160"/>
                  </a:lnTo>
                  <a:lnTo>
                    <a:pt x="21600" y="3908"/>
                  </a:lnTo>
                  <a:lnTo>
                    <a:pt x="21255" y="3740"/>
                  </a:lnTo>
                  <a:lnTo>
                    <a:pt x="21255" y="3488"/>
                  </a:lnTo>
                  <a:lnTo>
                    <a:pt x="20911" y="3236"/>
                  </a:lnTo>
                  <a:lnTo>
                    <a:pt x="20566" y="3110"/>
                  </a:lnTo>
                  <a:lnTo>
                    <a:pt x="19877" y="2858"/>
                  </a:lnTo>
                  <a:lnTo>
                    <a:pt x="19532" y="2732"/>
                  </a:lnTo>
                  <a:lnTo>
                    <a:pt x="19187" y="2605"/>
                  </a:lnTo>
                  <a:lnTo>
                    <a:pt x="18843" y="2605"/>
                  </a:lnTo>
                  <a:lnTo>
                    <a:pt x="18383" y="2479"/>
                  </a:lnTo>
                  <a:lnTo>
                    <a:pt x="18038" y="2479"/>
                  </a:lnTo>
                  <a:lnTo>
                    <a:pt x="17694" y="2353"/>
                  </a:lnTo>
                  <a:lnTo>
                    <a:pt x="17349" y="2353"/>
                  </a:lnTo>
                  <a:lnTo>
                    <a:pt x="17004" y="2353"/>
                  </a:lnTo>
                  <a:lnTo>
                    <a:pt x="16660" y="2353"/>
                  </a:lnTo>
                  <a:lnTo>
                    <a:pt x="16315" y="2353"/>
                  </a:lnTo>
                  <a:lnTo>
                    <a:pt x="14247" y="2227"/>
                  </a:lnTo>
                  <a:lnTo>
                    <a:pt x="13787" y="2227"/>
                  </a:lnTo>
                  <a:lnTo>
                    <a:pt x="13443" y="2227"/>
                  </a:lnTo>
                  <a:lnTo>
                    <a:pt x="13443" y="1933"/>
                  </a:lnTo>
                  <a:lnTo>
                    <a:pt x="13098" y="1681"/>
                  </a:lnTo>
                  <a:lnTo>
                    <a:pt x="13098" y="1303"/>
                  </a:lnTo>
                  <a:lnTo>
                    <a:pt x="12753" y="1051"/>
                  </a:lnTo>
                  <a:lnTo>
                    <a:pt x="12409" y="798"/>
                  </a:lnTo>
                  <a:lnTo>
                    <a:pt x="11719" y="672"/>
                  </a:lnTo>
                  <a:lnTo>
                    <a:pt x="11030" y="378"/>
                  </a:lnTo>
                  <a:lnTo>
                    <a:pt x="10340" y="252"/>
                  </a:lnTo>
                  <a:lnTo>
                    <a:pt x="9191" y="126"/>
                  </a:lnTo>
                  <a:lnTo>
                    <a:pt x="8157" y="0"/>
                  </a:lnTo>
                  <a:lnTo>
                    <a:pt x="7123" y="126"/>
                  </a:lnTo>
                  <a:lnTo>
                    <a:pt x="6089" y="126"/>
                  </a:lnTo>
                  <a:lnTo>
                    <a:pt x="5400" y="378"/>
                  </a:lnTo>
                  <a:lnTo>
                    <a:pt x="4251" y="546"/>
                  </a:lnTo>
                  <a:lnTo>
                    <a:pt x="3562" y="925"/>
                  </a:lnTo>
                  <a:lnTo>
                    <a:pt x="3217" y="1177"/>
                  </a:lnTo>
                  <a:lnTo>
                    <a:pt x="2528" y="1555"/>
                  </a:lnTo>
                  <a:lnTo>
                    <a:pt x="2183" y="1933"/>
                  </a:lnTo>
                  <a:lnTo>
                    <a:pt x="1838" y="2227"/>
                  </a:lnTo>
                  <a:lnTo>
                    <a:pt x="1494" y="2605"/>
                  </a:lnTo>
                  <a:lnTo>
                    <a:pt x="1149" y="2984"/>
                  </a:lnTo>
                  <a:lnTo>
                    <a:pt x="1149" y="3362"/>
                  </a:lnTo>
                  <a:lnTo>
                    <a:pt x="1149" y="3908"/>
                  </a:lnTo>
                  <a:lnTo>
                    <a:pt x="1149" y="4286"/>
                  </a:lnTo>
                  <a:lnTo>
                    <a:pt x="345" y="3362"/>
                  </a:lnTo>
                  <a:lnTo>
                    <a:pt x="0" y="3740"/>
                  </a:lnTo>
                  <a:lnTo>
                    <a:pt x="0" y="4160"/>
                  </a:lnTo>
                  <a:lnTo>
                    <a:pt x="0" y="4539"/>
                  </a:lnTo>
                  <a:lnTo>
                    <a:pt x="345" y="4791"/>
                  </a:lnTo>
                  <a:lnTo>
                    <a:pt x="1149" y="5169"/>
                  </a:lnTo>
                  <a:lnTo>
                    <a:pt x="1838" y="5421"/>
                  </a:lnTo>
                  <a:lnTo>
                    <a:pt x="2528" y="5715"/>
                  </a:lnTo>
                  <a:lnTo>
                    <a:pt x="3562" y="5967"/>
                  </a:lnTo>
                  <a:lnTo>
                    <a:pt x="6434" y="6219"/>
                  </a:lnTo>
                  <a:lnTo>
                    <a:pt x="6779" y="6219"/>
                  </a:lnTo>
                  <a:lnTo>
                    <a:pt x="7123" y="6219"/>
                  </a:lnTo>
                  <a:lnTo>
                    <a:pt x="7468" y="6219"/>
                  </a:lnTo>
                  <a:lnTo>
                    <a:pt x="7123" y="6472"/>
                  </a:lnTo>
                  <a:lnTo>
                    <a:pt x="6779" y="6598"/>
                  </a:lnTo>
                  <a:lnTo>
                    <a:pt x="6434" y="6850"/>
                  </a:lnTo>
                  <a:lnTo>
                    <a:pt x="5745" y="7102"/>
                  </a:lnTo>
                  <a:lnTo>
                    <a:pt x="5400" y="7270"/>
                  </a:lnTo>
                  <a:lnTo>
                    <a:pt x="4940" y="7522"/>
                  </a:lnTo>
                  <a:lnTo>
                    <a:pt x="4596" y="7774"/>
                  </a:lnTo>
                  <a:lnTo>
                    <a:pt x="4251" y="8026"/>
                  </a:lnTo>
                  <a:lnTo>
                    <a:pt x="3562" y="8279"/>
                  </a:lnTo>
                  <a:lnTo>
                    <a:pt x="3562" y="8405"/>
                  </a:lnTo>
                  <a:lnTo>
                    <a:pt x="3217" y="8531"/>
                  </a:lnTo>
                  <a:lnTo>
                    <a:pt x="3217" y="8657"/>
                  </a:lnTo>
                  <a:lnTo>
                    <a:pt x="2872" y="8783"/>
                  </a:lnTo>
                  <a:lnTo>
                    <a:pt x="2872" y="8951"/>
                  </a:lnTo>
                  <a:lnTo>
                    <a:pt x="2872" y="9077"/>
                  </a:lnTo>
                  <a:lnTo>
                    <a:pt x="2872" y="9329"/>
                  </a:lnTo>
                  <a:lnTo>
                    <a:pt x="2872" y="9455"/>
                  </a:lnTo>
                  <a:lnTo>
                    <a:pt x="2872" y="9707"/>
                  </a:lnTo>
                  <a:lnTo>
                    <a:pt x="3217" y="9960"/>
                  </a:lnTo>
                  <a:lnTo>
                    <a:pt x="3562" y="10212"/>
                  </a:lnTo>
                  <a:lnTo>
                    <a:pt x="3906" y="10464"/>
                  </a:lnTo>
                  <a:lnTo>
                    <a:pt x="4596" y="10758"/>
                  </a:lnTo>
                  <a:lnTo>
                    <a:pt x="4940" y="10884"/>
                  </a:lnTo>
                  <a:lnTo>
                    <a:pt x="5745" y="11010"/>
                  </a:lnTo>
                  <a:lnTo>
                    <a:pt x="6434" y="11136"/>
                  </a:lnTo>
                  <a:lnTo>
                    <a:pt x="6089" y="11262"/>
                  </a:lnTo>
                  <a:lnTo>
                    <a:pt x="5745" y="11514"/>
                  </a:lnTo>
                  <a:lnTo>
                    <a:pt x="5400" y="11640"/>
                  </a:lnTo>
                  <a:lnTo>
                    <a:pt x="4940" y="11893"/>
                  </a:lnTo>
                  <a:lnTo>
                    <a:pt x="4596" y="12019"/>
                  </a:lnTo>
                  <a:lnTo>
                    <a:pt x="4251" y="12313"/>
                  </a:lnTo>
                  <a:lnTo>
                    <a:pt x="3906" y="12565"/>
                  </a:lnTo>
                  <a:lnTo>
                    <a:pt x="3562" y="12691"/>
                  </a:lnTo>
                  <a:lnTo>
                    <a:pt x="2872" y="13195"/>
                  </a:lnTo>
                  <a:lnTo>
                    <a:pt x="2872" y="13574"/>
                  </a:lnTo>
                  <a:lnTo>
                    <a:pt x="2528" y="13994"/>
                  </a:lnTo>
                  <a:lnTo>
                    <a:pt x="2872" y="14246"/>
                  </a:lnTo>
                  <a:lnTo>
                    <a:pt x="2872" y="14624"/>
                  </a:lnTo>
                  <a:lnTo>
                    <a:pt x="3217" y="14876"/>
                  </a:lnTo>
                  <a:lnTo>
                    <a:pt x="3906" y="15128"/>
                  </a:lnTo>
                  <a:lnTo>
                    <a:pt x="4251" y="15381"/>
                  </a:lnTo>
                  <a:lnTo>
                    <a:pt x="4940" y="15507"/>
                  </a:lnTo>
                  <a:lnTo>
                    <a:pt x="4940" y="15675"/>
                  </a:lnTo>
                  <a:lnTo>
                    <a:pt x="4596" y="15801"/>
                  </a:lnTo>
                  <a:lnTo>
                    <a:pt x="4596" y="15927"/>
                  </a:lnTo>
                  <a:lnTo>
                    <a:pt x="4251" y="16053"/>
                  </a:lnTo>
                  <a:lnTo>
                    <a:pt x="3906" y="16179"/>
                  </a:lnTo>
                  <a:lnTo>
                    <a:pt x="3562" y="16305"/>
                  </a:lnTo>
                  <a:lnTo>
                    <a:pt x="3217" y="16431"/>
                  </a:lnTo>
                  <a:lnTo>
                    <a:pt x="2872" y="16683"/>
                  </a:lnTo>
                  <a:lnTo>
                    <a:pt x="2528" y="16809"/>
                  </a:lnTo>
                  <a:lnTo>
                    <a:pt x="2528" y="16935"/>
                  </a:lnTo>
                  <a:lnTo>
                    <a:pt x="2183" y="17061"/>
                  </a:lnTo>
                  <a:lnTo>
                    <a:pt x="2183" y="17188"/>
                  </a:lnTo>
                  <a:lnTo>
                    <a:pt x="1838" y="17356"/>
                  </a:lnTo>
                  <a:lnTo>
                    <a:pt x="1838" y="17734"/>
                  </a:lnTo>
                  <a:lnTo>
                    <a:pt x="1838" y="18112"/>
                  </a:lnTo>
                  <a:lnTo>
                    <a:pt x="2183" y="18490"/>
                  </a:lnTo>
                  <a:lnTo>
                    <a:pt x="2528" y="18742"/>
                  </a:lnTo>
                  <a:lnTo>
                    <a:pt x="2872" y="19163"/>
                  </a:lnTo>
                  <a:lnTo>
                    <a:pt x="3906" y="19415"/>
                  </a:lnTo>
                  <a:lnTo>
                    <a:pt x="4596" y="19667"/>
                  </a:lnTo>
                  <a:lnTo>
                    <a:pt x="5745" y="19793"/>
                  </a:lnTo>
                  <a:lnTo>
                    <a:pt x="5745" y="19919"/>
                  </a:lnTo>
                  <a:lnTo>
                    <a:pt x="5745" y="20171"/>
                  </a:lnTo>
                  <a:lnTo>
                    <a:pt x="6089" y="20297"/>
                  </a:lnTo>
                  <a:lnTo>
                    <a:pt x="6434" y="20549"/>
                  </a:lnTo>
                  <a:lnTo>
                    <a:pt x="6434" y="20718"/>
                  </a:lnTo>
                  <a:lnTo>
                    <a:pt x="6779" y="20970"/>
                  </a:lnTo>
                  <a:lnTo>
                    <a:pt x="7123" y="21096"/>
                  </a:lnTo>
                  <a:lnTo>
                    <a:pt x="7813" y="21222"/>
                  </a:lnTo>
                  <a:lnTo>
                    <a:pt x="8502" y="21474"/>
                  </a:lnTo>
                  <a:lnTo>
                    <a:pt x="9651" y="21600"/>
                  </a:lnTo>
                  <a:lnTo>
                    <a:pt x="10685" y="21600"/>
                  </a:lnTo>
                  <a:lnTo>
                    <a:pt x="11719" y="21600"/>
                  </a:lnTo>
                  <a:lnTo>
                    <a:pt x="12753" y="21474"/>
                  </a:lnTo>
                  <a:lnTo>
                    <a:pt x="13787" y="21348"/>
                  </a:lnTo>
                  <a:lnTo>
                    <a:pt x="14591" y="21096"/>
                  </a:lnTo>
                  <a:lnTo>
                    <a:pt x="15281" y="20844"/>
                  </a:lnTo>
                  <a:lnTo>
                    <a:pt x="15970" y="20549"/>
                  </a:lnTo>
                  <a:lnTo>
                    <a:pt x="16315" y="20297"/>
                  </a:lnTo>
                  <a:lnTo>
                    <a:pt x="16660" y="20045"/>
                  </a:lnTo>
                  <a:lnTo>
                    <a:pt x="17349" y="19793"/>
                  </a:lnTo>
                  <a:lnTo>
                    <a:pt x="17694" y="19541"/>
                  </a:lnTo>
                  <a:lnTo>
                    <a:pt x="18038" y="19163"/>
                  </a:lnTo>
                  <a:lnTo>
                    <a:pt x="18038" y="18868"/>
                  </a:lnTo>
                  <a:lnTo>
                    <a:pt x="18383" y="18490"/>
                  </a:lnTo>
                  <a:lnTo>
                    <a:pt x="17694" y="17356"/>
                  </a:lnTo>
                  <a:lnTo>
                    <a:pt x="17694" y="17188"/>
                  </a:lnTo>
                  <a:lnTo>
                    <a:pt x="17694" y="17061"/>
                  </a:lnTo>
                  <a:lnTo>
                    <a:pt x="17349" y="17061"/>
                  </a:lnTo>
                  <a:lnTo>
                    <a:pt x="17349" y="16935"/>
                  </a:lnTo>
                  <a:lnTo>
                    <a:pt x="17004" y="16809"/>
                  </a:lnTo>
                  <a:lnTo>
                    <a:pt x="16660" y="16683"/>
                  </a:lnTo>
                  <a:lnTo>
                    <a:pt x="17004" y="16557"/>
                  </a:lnTo>
                  <a:lnTo>
                    <a:pt x="17349" y="16305"/>
                  </a:lnTo>
                  <a:lnTo>
                    <a:pt x="17694" y="16179"/>
                  </a:lnTo>
                  <a:lnTo>
                    <a:pt x="18038" y="16053"/>
                  </a:lnTo>
                  <a:lnTo>
                    <a:pt x="18383" y="15927"/>
                  </a:lnTo>
                  <a:lnTo>
                    <a:pt x="18843" y="15675"/>
                  </a:lnTo>
                  <a:lnTo>
                    <a:pt x="19187" y="15507"/>
                  </a:lnTo>
                  <a:lnTo>
                    <a:pt x="19532" y="15381"/>
                  </a:lnTo>
                  <a:lnTo>
                    <a:pt x="21255" y="14246"/>
                  </a:lnTo>
                  <a:lnTo>
                    <a:pt x="21255" y="14120"/>
                  </a:lnTo>
                  <a:lnTo>
                    <a:pt x="21600" y="13994"/>
                  </a:lnTo>
                  <a:lnTo>
                    <a:pt x="21600" y="13826"/>
                  </a:lnTo>
                  <a:lnTo>
                    <a:pt x="21600" y="13700"/>
                  </a:lnTo>
                  <a:lnTo>
                    <a:pt x="21600" y="13574"/>
                  </a:lnTo>
                  <a:lnTo>
                    <a:pt x="21600" y="13321"/>
                  </a:lnTo>
                  <a:lnTo>
                    <a:pt x="21600" y="13195"/>
                  </a:lnTo>
                  <a:lnTo>
                    <a:pt x="21600" y="13069"/>
                  </a:lnTo>
                  <a:lnTo>
                    <a:pt x="21255" y="12817"/>
                  </a:lnTo>
                  <a:lnTo>
                    <a:pt x="21255" y="12691"/>
                  </a:lnTo>
                  <a:lnTo>
                    <a:pt x="20911" y="12439"/>
                  </a:lnTo>
                  <a:lnTo>
                    <a:pt x="20566" y="12313"/>
                  </a:lnTo>
                  <a:lnTo>
                    <a:pt x="19877" y="12019"/>
                  </a:lnTo>
                  <a:lnTo>
                    <a:pt x="19532" y="11893"/>
                  </a:lnTo>
                  <a:lnTo>
                    <a:pt x="18843" y="11767"/>
                  </a:lnTo>
                  <a:lnTo>
                    <a:pt x="18383" y="11640"/>
                  </a:lnTo>
                  <a:close/>
                  <a:moveTo>
                    <a:pt x="11374" y="12817"/>
                  </a:moveTo>
                  <a:lnTo>
                    <a:pt x="11374" y="12817"/>
                  </a:lnTo>
                  <a:close/>
                  <a:moveTo>
                    <a:pt x="11374" y="12817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2" name="AutoShape 79"/>
            <p:cNvSpPr/>
            <p:nvPr/>
          </p:nvSpPr>
          <p:spPr>
            <a:xfrm>
              <a:off x="6851880" y="4583160"/>
              <a:ext cx="355680" cy="51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21" y="5350"/>
                  </a:moveTo>
                  <a:lnTo>
                    <a:pt x="20732" y="5350"/>
                  </a:lnTo>
                  <a:lnTo>
                    <a:pt x="20732" y="5149"/>
                  </a:lnTo>
                  <a:lnTo>
                    <a:pt x="20443" y="4949"/>
                  </a:lnTo>
                  <a:lnTo>
                    <a:pt x="20154" y="4748"/>
                  </a:lnTo>
                  <a:lnTo>
                    <a:pt x="20154" y="4480"/>
                  </a:lnTo>
                  <a:lnTo>
                    <a:pt x="19864" y="4280"/>
                  </a:lnTo>
                  <a:lnTo>
                    <a:pt x="19575" y="4079"/>
                  </a:lnTo>
                  <a:lnTo>
                    <a:pt x="19286" y="3879"/>
                  </a:lnTo>
                  <a:lnTo>
                    <a:pt x="18996" y="3879"/>
                  </a:lnTo>
                  <a:lnTo>
                    <a:pt x="18707" y="3879"/>
                  </a:lnTo>
                  <a:lnTo>
                    <a:pt x="18321" y="3678"/>
                  </a:lnTo>
                  <a:lnTo>
                    <a:pt x="18032" y="3678"/>
                  </a:lnTo>
                  <a:lnTo>
                    <a:pt x="17743" y="3678"/>
                  </a:lnTo>
                  <a:lnTo>
                    <a:pt x="17743" y="3076"/>
                  </a:lnTo>
                  <a:lnTo>
                    <a:pt x="17454" y="2675"/>
                  </a:lnTo>
                  <a:lnTo>
                    <a:pt x="17454" y="2274"/>
                  </a:lnTo>
                  <a:lnTo>
                    <a:pt x="17164" y="1605"/>
                  </a:lnTo>
                  <a:lnTo>
                    <a:pt x="16586" y="1204"/>
                  </a:lnTo>
                  <a:lnTo>
                    <a:pt x="16296" y="802"/>
                  </a:lnTo>
                  <a:lnTo>
                    <a:pt x="16007" y="401"/>
                  </a:lnTo>
                  <a:lnTo>
                    <a:pt x="15718" y="0"/>
                  </a:lnTo>
                  <a:lnTo>
                    <a:pt x="14464" y="0"/>
                  </a:lnTo>
                  <a:lnTo>
                    <a:pt x="13596" y="0"/>
                  </a:lnTo>
                  <a:lnTo>
                    <a:pt x="12729" y="0"/>
                  </a:lnTo>
                  <a:lnTo>
                    <a:pt x="12150" y="201"/>
                  </a:lnTo>
                  <a:lnTo>
                    <a:pt x="11571" y="401"/>
                  </a:lnTo>
                  <a:lnTo>
                    <a:pt x="10896" y="401"/>
                  </a:lnTo>
                  <a:lnTo>
                    <a:pt x="10607" y="602"/>
                  </a:lnTo>
                  <a:lnTo>
                    <a:pt x="9739" y="1003"/>
                  </a:lnTo>
                  <a:lnTo>
                    <a:pt x="9161" y="1404"/>
                  </a:lnTo>
                  <a:lnTo>
                    <a:pt x="8293" y="2073"/>
                  </a:lnTo>
                  <a:lnTo>
                    <a:pt x="7425" y="2474"/>
                  </a:lnTo>
                  <a:lnTo>
                    <a:pt x="6461" y="2876"/>
                  </a:lnTo>
                  <a:lnTo>
                    <a:pt x="5882" y="3477"/>
                  </a:lnTo>
                  <a:lnTo>
                    <a:pt x="5014" y="3879"/>
                  </a:lnTo>
                  <a:lnTo>
                    <a:pt x="4436" y="4480"/>
                  </a:lnTo>
                  <a:lnTo>
                    <a:pt x="3857" y="4748"/>
                  </a:lnTo>
                  <a:lnTo>
                    <a:pt x="3568" y="5149"/>
                  </a:lnTo>
                  <a:lnTo>
                    <a:pt x="3182" y="5350"/>
                  </a:lnTo>
                  <a:lnTo>
                    <a:pt x="2893" y="5751"/>
                  </a:lnTo>
                  <a:lnTo>
                    <a:pt x="2893" y="5952"/>
                  </a:lnTo>
                  <a:lnTo>
                    <a:pt x="2604" y="6353"/>
                  </a:lnTo>
                  <a:lnTo>
                    <a:pt x="2604" y="6754"/>
                  </a:lnTo>
                  <a:lnTo>
                    <a:pt x="2604" y="7155"/>
                  </a:lnTo>
                  <a:lnTo>
                    <a:pt x="2604" y="7423"/>
                  </a:lnTo>
                  <a:lnTo>
                    <a:pt x="2893" y="7824"/>
                  </a:lnTo>
                  <a:lnTo>
                    <a:pt x="2893" y="8025"/>
                  </a:lnTo>
                  <a:lnTo>
                    <a:pt x="2893" y="8225"/>
                  </a:lnTo>
                  <a:lnTo>
                    <a:pt x="3182" y="8426"/>
                  </a:lnTo>
                  <a:lnTo>
                    <a:pt x="3568" y="8827"/>
                  </a:lnTo>
                  <a:lnTo>
                    <a:pt x="3857" y="9228"/>
                  </a:lnTo>
                  <a:lnTo>
                    <a:pt x="4146" y="9429"/>
                  </a:lnTo>
                  <a:lnTo>
                    <a:pt x="4436" y="9630"/>
                  </a:lnTo>
                  <a:lnTo>
                    <a:pt x="5014" y="9830"/>
                  </a:lnTo>
                  <a:lnTo>
                    <a:pt x="5304" y="10098"/>
                  </a:lnTo>
                  <a:lnTo>
                    <a:pt x="5882" y="10098"/>
                  </a:lnTo>
                  <a:lnTo>
                    <a:pt x="5882" y="10298"/>
                  </a:lnTo>
                  <a:lnTo>
                    <a:pt x="5593" y="10499"/>
                  </a:lnTo>
                  <a:lnTo>
                    <a:pt x="5593" y="10700"/>
                  </a:lnTo>
                  <a:lnTo>
                    <a:pt x="5304" y="10700"/>
                  </a:lnTo>
                  <a:lnTo>
                    <a:pt x="5304" y="10900"/>
                  </a:lnTo>
                  <a:lnTo>
                    <a:pt x="5304" y="11101"/>
                  </a:lnTo>
                  <a:lnTo>
                    <a:pt x="5304" y="11302"/>
                  </a:lnTo>
                  <a:lnTo>
                    <a:pt x="5014" y="11302"/>
                  </a:lnTo>
                  <a:lnTo>
                    <a:pt x="5014" y="11502"/>
                  </a:lnTo>
                  <a:lnTo>
                    <a:pt x="5014" y="11703"/>
                  </a:lnTo>
                  <a:lnTo>
                    <a:pt x="5014" y="11903"/>
                  </a:lnTo>
                  <a:lnTo>
                    <a:pt x="5014" y="12104"/>
                  </a:lnTo>
                  <a:lnTo>
                    <a:pt x="5014" y="12305"/>
                  </a:lnTo>
                  <a:lnTo>
                    <a:pt x="4725" y="12305"/>
                  </a:lnTo>
                  <a:lnTo>
                    <a:pt x="4436" y="12505"/>
                  </a:lnTo>
                  <a:lnTo>
                    <a:pt x="4146" y="12773"/>
                  </a:lnTo>
                  <a:lnTo>
                    <a:pt x="3568" y="12973"/>
                  </a:lnTo>
                  <a:lnTo>
                    <a:pt x="3182" y="13174"/>
                  </a:lnTo>
                  <a:lnTo>
                    <a:pt x="2893" y="13375"/>
                  </a:lnTo>
                  <a:lnTo>
                    <a:pt x="2604" y="13575"/>
                  </a:lnTo>
                  <a:lnTo>
                    <a:pt x="2314" y="13776"/>
                  </a:lnTo>
                  <a:lnTo>
                    <a:pt x="1736" y="13976"/>
                  </a:lnTo>
                  <a:lnTo>
                    <a:pt x="1157" y="14177"/>
                  </a:lnTo>
                  <a:lnTo>
                    <a:pt x="868" y="14578"/>
                  </a:lnTo>
                  <a:lnTo>
                    <a:pt x="579" y="14779"/>
                  </a:lnTo>
                  <a:lnTo>
                    <a:pt x="289" y="15180"/>
                  </a:lnTo>
                  <a:lnTo>
                    <a:pt x="0" y="15648"/>
                  </a:lnTo>
                  <a:lnTo>
                    <a:pt x="0" y="15849"/>
                  </a:lnTo>
                  <a:lnTo>
                    <a:pt x="0" y="16250"/>
                  </a:lnTo>
                  <a:lnTo>
                    <a:pt x="0" y="16651"/>
                  </a:lnTo>
                  <a:lnTo>
                    <a:pt x="0" y="16852"/>
                  </a:lnTo>
                  <a:lnTo>
                    <a:pt x="0" y="17253"/>
                  </a:lnTo>
                  <a:lnTo>
                    <a:pt x="0" y="17454"/>
                  </a:lnTo>
                  <a:lnTo>
                    <a:pt x="289" y="17654"/>
                  </a:lnTo>
                  <a:lnTo>
                    <a:pt x="289" y="17855"/>
                  </a:lnTo>
                  <a:lnTo>
                    <a:pt x="579" y="18123"/>
                  </a:lnTo>
                  <a:lnTo>
                    <a:pt x="579" y="18323"/>
                  </a:lnTo>
                  <a:lnTo>
                    <a:pt x="868" y="18524"/>
                  </a:lnTo>
                  <a:lnTo>
                    <a:pt x="868" y="18925"/>
                  </a:lnTo>
                  <a:lnTo>
                    <a:pt x="868" y="19126"/>
                  </a:lnTo>
                  <a:lnTo>
                    <a:pt x="1157" y="19527"/>
                  </a:lnTo>
                  <a:lnTo>
                    <a:pt x="1157" y="19728"/>
                  </a:lnTo>
                  <a:lnTo>
                    <a:pt x="1446" y="20129"/>
                  </a:lnTo>
                  <a:lnTo>
                    <a:pt x="1736" y="20329"/>
                  </a:lnTo>
                  <a:lnTo>
                    <a:pt x="2025" y="20798"/>
                  </a:lnTo>
                  <a:lnTo>
                    <a:pt x="2314" y="20998"/>
                  </a:lnTo>
                  <a:lnTo>
                    <a:pt x="3182" y="21399"/>
                  </a:lnTo>
                  <a:lnTo>
                    <a:pt x="4146" y="21600"/>
                  </a:lnTo>
                  <a:lnTo>
                    <a:pt x="4725" y="21600"/>
                  </a:lnTo>
                  <a:lnTo>
                    <a:pt x="5593" y="21600"/>
                  </a:lnTo>
                  <a:lnTo>
                    <a:pt x="6461" y="21600"/>
                  </a:lnTo>
                  <a:lnTo>
                    <a:pt x="7425" y="21399"/>
                  </a:lnTo>
                  <a:lnTo>
                    <a:pt x="8004" y="20998"/>
                  </a:lnTo>
                  <a:lnTo>
                    <a:pt x="8871" y="20530"/>
                  </a:lnTo>
                  <a:lnTo>
                    <a:pt x="9161" y="20329"/>
                  </a:lnTo>
                  <a:lnTo>
                    <a:pt x="9161" y="20129"/>
                  </a:lnTo>
                  <a:lnTo>
                    <a:pt x="9450" y="20129"/>
                  </a:lnTo>
                  <a:lnTo>
                    <a:pt x="9450" y="19928"/>
                  </a:lnTo>
                  <a:lnTo>
                    <a:pt x="9739" y="19928"/>
                  </a:lnTo>
                  <a:lnTo>
                    <a:pt x="9739" y="19728"/>
                  </a:lnTo>
                  <a:lnTo>
                    <a:pt x="11282" y="18524"/>
                  </a:lnTo>
                  <a:lnTo>
                    <a:pt x="11571" y="18323"/>
                  </a:lnTo>
                  <a:lnTo>
                    <a:pt x="11861" y="18123"/>
                  </a:lnTo>
                  <a:lnTo>
                    <a:pt x="11861" y="17855"/>
                  </a:lnTo>
                  <a:lnTo>
                    <a:pt x="12150" y="17454"/>
                  </a:lnTo>
                  <a:lnTo>
                    <a:pt x="12150" y="17253"/>
                  </a:lnTo>
                  <a:lnTo>
                    <a:pt x="12150" y="16852"/>
                  </a:lnTo>
                  <a:lnTo>
                    <a:pt x="12150" y="16651"/>
                  </a:lnTo>
                  <a:lnTo>
                    <a:pt x="12150" y="16451"/>
                  </a:lnTo>
                  <a:lnTo>
                    <a:pt x="12439" y="16250"/>
                  </a:lnTo>
                  <a:lnTo>
                    <a:pt x="12729" y="16050"/>
                  </a:lnTo>
                  <a:lnTo>
                    <a:pt x="13307" y="16050"/>
                  </a:lnTo>
                  <a:lnTo>
                    <a:pt x="13596" y="15849"/>
                  </a:lnTo>
                  <a:lnTo>
                    <a:pt x="13886" y="15648"/>
                  </a:lnTo>
                  <a:lnTo>
                    <a:pt x="14175" y="15648"/>
                  </a:lnTo>
                  <a:lnTo>
                    <a:pt x="14464" y="15448"/>
                  </a:lnTo>
                  <a:lnTo>
                    <a:pt x="15139" y="14980"/>
                  </a:lnTo>
                  <a:lnTo>
                    <a:pt x="15429" y="14980"/>
                  </a:lnTo>
                  <a:lnTo>
                    <a:pt x="15429" y="14779"/>
                  </a:lnTo>
                  <a:lnTo>
                    <a:pt x="15718" y="14779"/>
                  </a:lnTo>
                  <a:lnTo>
                    <a:pt x="16007" y="14578"/>
                  </a:lnTo>
                  <a:lnTo>
                    <a:pt x="16296" y="14378"/>
                  </a:lnTo>
                  <a:lnTo>
                    <a:pt x="16296" y="14177"/>
                  </a:lnTo>
                  <a:lnTo>
                    <a:pt x="16586" y="13976"/>
                  </a:lnTo>
                  <a:lnTo>
                    <a:pt x="16586" y="13776"/>
                  </a:lnTo>
                  <a:lnTo>
                    <a:pt x="16875" y="13776"/>
                  </a:lnTo>
                  <a:lnTo>
                    <a:pt x="16875" y="13575"/>
                  </a:lnTo>
                  <a:lnTo>
                    <a:pt x="16875" y="13375"/>
                  </a:lnTo>
                  <a:lnTo>
                    <a:pt x="16875" y="13174"/>
                  </a:lnTo>
                  <a:lnTo>
                    <a:pt x="17164" y="12973"/>
                  </a:lnTo>
                  <a:lnTo>
                    <a:pt x="17164" y="12773"/>
                  </a:lnTo>
                  <a:lnTo>
                    <a:pt x="17164" y="12505"/>
                  </a:lnTo>
                  <a:lnTo>
                    <a:pt x="17164" y="12305"/>
                  </a:lnTo>
                  <a:lnTo>
                    <a:pt x="17454" y="11903"/>
                  </a:lnTo>
                  <a:lnTo>
                    <a:pt x="17454" y="11703"/>
                  </a:lnTo>
                  <a:lnTo>
                    <a:pt x="17743" y="11302"/>
                  </a:lnTo>
                  <a:lnTo>
                    <a:pt x="18032" y="11101"/>
                  </a:lnTo>
                  <a:lnTo>
                    <a:pt x="18321" y="11101"/>
                  </a:lnTo>
                  <a:lnTo>
                    <a:pt x="18321" y="10900"/>
                  </a:lnTo>
                  <a:lnTo>
                    <a:pt x="18707" y="10700"/>
                  </a:lnTo>
                  <a:lnTo>
                    <a:pt x="18996" y="10700"/>
                  </a:lnTo>
                  <a:lnTo>
                    <a:pt x="18996" y="10499"/>
                  </a:lnTo>
                  <a:lnTo>
                    <a:pt x="19575" y="9830"/>
                  </a:lnTo>
                  <a:lnTo>
                    <a:pt x="20154" y="9228"/>
                  </a:lnTo>
                  <a:lnTo>
                    <a:pt x="20443" y="9028"/>
                  </a:lnTo>
                  <a:lnTo>
                    <a:pt x="20732" y="8627"/>
                  </a:lnTo>
                  <a:lnTo>
                    <a:pt x="21021" y="8426"/>
                  </a:lnTo>
                  <a:lnTo>
                    <a:pt x="21311" y="8225"/>
                  </a:lnTo>
                  <a:lnTo>
                    <a:pt x="21600" y="7824"/>
                  </a:lnTo>
                  <a:lnTo>
                    <a:pt x="21600" y="7624"/>
                  </a:lnTo>
                  <a:lnTo>
                    <a:pt x="21600" y="7155"/>
                  </a:lnTo>
                  <a:lnTo>
                    <a:pt x="21600" y="6754"/>
                  </a:lnTo>
                  <a:lnTo>
                    <a:pt x="21311" y="6353"/>
                  </a:lnTo>
                  <a:lnTo>
                    <a:pt x="21311" y="5952"/>
                  </a:lnTo>
                  <a:lnTo>
                    <a:pt x="21021" y="5751"/>
                  </a:lnTo>
                  <a:lnTo>
                    <a:pt x="21021" y="5550"/>
                  </a:lnTo>
                  <a:lnTo>
                    <a:pt x="21021" y="5350"/>
                  </a:lnTo>
                  <a:close/>
                  <a:moveTo>
                    <a:pt x="16007" y="9630"/>
                  </a:moveTo>
                  <a:lnTo>
                    <a:pt x="16007" y="9630"/>
                  </a:lnTo>
                  <a:lnTo>
                    <a:pt x="16296" y="9630"/>
                  </a:lnTo>
                  <a:lnTo>
                    <a:pt x="16007" y="9630"/>
                  </a:lnTo>
                  <a:close/>
                  <a:moveTo>
                    <a:pt x="4146" y="14980"/>
                  </a:moveTo>
                  <a:lnTo>
                    <a:pt x="4146" y="14980"/>
                  </a:lnTo>
                  <a:lnTo>
                    <a:pt x="3857" y="14980"/>
                  </a:lnTo>
                  <a:lnTo>
                    <a:pt x="4146" y="14980"/>
                  </a:lnTo>
                  <a:close/>
                  <a:moveTo>
                    <a:pt x="4146" y="14980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>
              <a:off x="5659560" y="3800520"/>
              <a:ext cx="263520" cy="40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518" y="4472"/>
                  </a:moveTo>
                  <a:lnTo>
                    <a:pt x="18737" y="3966"/>
                  </a:lnTo>
                  <a:lnTo>
                    <a:pt x="18347" y="3713"/>
                  </a:lnTo>
                  <a:lnTo>
                    <a:pt x="17957" y="3375"/>
                  </a:lnTo>
                  <a:lnTo>
                    <a:pt x="17566" y="3375"/>
                  </a:lnTo>
                  <a:lnTo>
                    <a:pt x="17176" y="3375"/>
                  </a:lnTo>
                  <a:lnTo>
                    <a:pt x="17176" y="3122"/>
                  </a:lnTo>
                  <a:lnTo>
                    <a:pt x="16786" y="3122"/>
                  </a:lnTo>
                  <a:lnTo>
                    <a:pt x="16786" y="2869"/>
                  </a:lnTo>
                  <a:lnTo>
                    <a:pt x="16395" y="2616"/>
                  </a:lnTo>
                  <a:lnTo>
                    <a:pt x="16395" y="2363"/>
                  </a:lnTo>
                  <a:lnTo>
                    <a:pt x="16395" y="2109"/>
                  </a:lnTo>
                  <a:lnTo>
                    <a:pt x="16005" y="1856"/>
                  </a:lnTo>
                  <a:lnTo>
                    <a:pt x="15614" y="1603"/>
                  </a:lnTo>
                  <a:lnTo>
                    <a:pt x="15224" y="1350"/>
                  </a:lnTo>
                  <a:lnTo>
                    <a:pt x="14313" y="844"/>
                  </a:lnTo>
                  <a:lnTo>
                    <a:pt x="13142" y="338"/>
                  </a:lnTo>
                  <a:lnTo>
                    <a:pt x="11971" y="338"/>
                  </a:lnTo>
                  <a:lnTo>
                    <a:pt x="10800" y="0"/>
                  </a:lnTo>
                  <a:lnTo>
                    <a:pt x="9629" y="338"/>
                  </a:lnTo>
                  <a:lnTo>
                    <a:pt x="8328" y="338"/>
                  </a:lnTo>
                  <a:lnTo>
                    <a:pt x="7547" y="844"/>
                  </a:lnTo>
                  <a:lnTo>
                    <a:pt x="6376" y="1350"/>
                  </a:lnTo>
                  <a:lnTo>
                    <a:pt x="6376" y="1603"/>
                  </a:lnTo>
                  <a:lnTo>
                    <a:pt x="5986" y="1603"/>
                  </a:lnTo>
                  <a:lnTo>
                    <a:pt x="5986" y="1856"/>
                  </a:lnTo>
                  <a:lnTo>
                    <a:pt x="5595" y="1856"/>
                  </a:lnTo>
                  <a:lnTo>
                    <a:pt x="5595" y="2109"/>
                  </a:lnTo>
                  <a:lnTo>
                    <a:pt x="5205" y="2109"/>
                  </a:lnTo>
                  <a:lnTo>
                    <a:pt x="4424" y="2616"/>
                  </a:lnTo>
                  <a:lnTo>
                    <a:pt x="3904" y="3122"/>
                  </a:lnTo>
                  <a:lnTo>
                    <a:pt x="3904" y="3966"/>
                  </a:lnTo>
                  <a:lnTo>
                    <a:pt x="3904" y="4978"/>
                  </a:lnTo>
                  <a:lnTo>
                    <a:pt x="3904" y="5991"/>
                  </a:lnTo>
                  <a:lnTo>
                    <a:pt x="3904" y="7088"/>
                  </a:lnTo>
                  <a:lnTo>
                    <a:pt x="4424" y="8353"/>
                  </a:lnTo>
                  <a:lnTo>
                    <a:pt x="4814" y="9366"/>
                  </a:lnTo>
                  <a:lnTo>
                    <a:pt x="4424" y="9366"/>
                  </a:lnTo>
                  <a:lnTo>
                    <a:pt x="2733" y="3713"/>
                  </a:lnTo>
                  <a:lnTo>
                    <a:pt x="2342" y="3966"/>
                  </a:lnTo>
                  <a:lnTo>
                    <a:pt x="1952" y="4219"/>
                  </a:lnTo>
                  <a:lnTo>
                    <a:pt x="1952" y="4472"/>
                  </a:lnTo>
                  <a:lnTo>
                    <a:pt x="1561" y="4725"/>
                  </a:lnTo>
                  <a:lnTo>
                    <a:pt x="1561" y="5231"/>
                  </a:lnTo>
                  <a:lnTo>
                    <a:pt x="1171" y="5484"/>
                  </a:lnTo>
                  <a:lnTo>
                    <a:pt x="1171" y="5738"/>
                  </a:lnTo>
                  <a:lnTo>
                    <a:pt x="1171" y="5991"/>
                  </a:lnTo>
                  <a:lnTo>
                    <a:pt x="1171" y="6750"/>
                  </a:lnTo>
                  <a:lnTo>
                    <a:pt x="1171" y="7341"/>
                  </a:lnTo>
                  <a:lnTo>
                    <a:pt x="1171" y="7847"/>
                  </a:lnTo>
                  <a:lnTo>
                    <a:pt x="1561" y="8353"/>
                  </a:lnTo>
                  <a:lnTo>
                    <a:pt x="2342" y="8859"/>
                  </a:lnTo>
                  <a:lnTo>
                    <a:pt x="2733" y="9366"/>
                  </a:lnTo>
                  <a:lnTo>
                    <a:pt x="3513" y="9619"/>
                  </a:lnTo>
                  <a:lnTo>
                    <a:pt x="3904" y="9872"/>
                  </a:lnTo>
                  <a:lnTo>
                    <a:pt x="3904" y="10125"/>
                  </a:lnTo>
                  <a:lnTo>
                    <a:pt x="3513" y="10463"/>
                  </a:lnTo>
                  <a:lnTo>
                    <a:pt x="3513" y="10716"/>
                  </a:lnTo>
                  <a:lnTo>
                    <a:pt x="3123" y="10969"/>
                  </a:lnTo>
                  <a:lnTo>
                    <a:pt x="3123" y="11222"/>
                  </a:lnTo>
                  <a:lnTo>
                    <a:pt x="3123" y="11728"/>
                  </a:lnTo>
                  <a:lnTo>
                    <a:pt x="2733" y="11981"/>
                  </a:lnTo>
                  <a:lnTo>
                    <a:pt x="2733" y="12488"/>
                  </a:lnTo>
                  <a:lnTo>
                    <a:pt x="3123" y="12741"/>
                  </a:lnTo>
                  <a:lnTo>
                    <a:pt x="3123" y="12994"/>
                  </a:lnTo>
                  <a:lnTo>
                    <a:pt x="3123" y="13247"/>
                  </a:lnTo>
                  <a:lnTo>
                    <a:pt x="3513" y="13838"/>
                  </a:lnTo>
                  <a:lnTo>
                    <a:pt x="3123" y="13838"/>
                  </a:lnTo>
                  <a:lnTo>
                    <a:pt x="3123" y="14091"/>
                  </a:lnTo>
                  <a:lnTo>
                    <a:pt x="2733" y="14091"/>
                  </a:lnTo>
                  <a:lnTo>
                    <a:pt x="2733" y="14344"/>
                  </a:lnTo>
                  <a:lnTo>
                    <a:pt x="2342" y="14344"/>
                  </a:lnTo>
                  <a:lnTo>
                    <a:pt x="2342" y="14597"/>
                  </a:lnTo>
                  <a:lnTo>
                    <a:pt x="1952" y="14597"/>
                  </a:lnTo>
                  <a:lnTo>
                    <a:pt x="1561" y="14850"/>
                  </a:lnTo>
                  <a:lnTo>
                    <a:pt x="1561" y="15103"/>
                  </a:lnTo>
                  <a:lnTo>
                    <a:pt x="1171" y="15103"/>
                  </a:lnTo>
                  <a:lnTo>
                    <a:pt x="1171" y="15356"/>
                  </a:lnTo>
                  <a:lnTo>
                    <a:pt x="1171" y="15609"/>
                  </a:lnTo>
                  <a:lnTo>
                    <a:pt x="781" y="15609"/>
                  </a:lnTo>
                  <a:lnTo>
                    <a:pt x="781" y="15863"/>
                  </a:lnTo>
                  <a:lnTo>
                    <a:pt x="390" y="16116"/>
                  </a:lnTo>
                  <a:lnTo>
                    <a:pt x="390" y="16875"/>
                  </a:lnTo>
                  <a:lnTo>
                    <a:pt x="0" y="17719"/>
                  </a:lnTo>
                  <a:lnTo>
                    <a:pt x="390" y="18478"/>
                  </a:lnTo>
                  <a:lnTo>
                    <a:pt x="390" y="19238"/>
                  </a:lnTo>
                  <a:lnTo>
                    <a:pt x="1171" y="19744"/>
                  </a:lnTo>
                  <a:lnTo>
                    <a:pt x="1952" y="20250"/>
                  </a:lnTo>
                  <a:lnTo>
                    <a:pt x="2733" y="20841"/>
                  </a:lnTo>
                  <a:lnTo>
                    <a:pt x="3904" y="21347"/>
                  </a:lnTo>
                  <a:lnTo>
                    <a:pt x="6766" y="21600"/>
                  </a:lnTo>
                  <a:lnTo>
                    <a:pt x="7157" y="21600"/>
                  </a:lnTo>
                  <a:lnTo>
                    <a:pt x="7547" y="21600"/>
                  </a:lnTo>
                  <a:lnTo>
                    <a:pt x="7937" y="21600"/>
                  </a:lnTo>
                  <a:lnTo>
                    <a:pt x="8328" y="21600"/>
                  </a:lnTo>
                  <a:lnTo>
                    <a:pt x="8718" y="21600"/>
                  </a:lnTo>
                  <a:lnTo>
                    <a:pt x="10019" y="21600"/>
                  </a:lnTo>
                  <a:lnTo>
                    <a:pt x="11190" y="21347"/>
                  </a:lnTo>
                  <a:lnTo>
                    <a:pt x="11971" y="21094"/>
                  </a:lnTo>
                  <a:lnTo>
                    <a:pt x="13142" y="20588"/>
                  </a:lnTo>
                  <a:lnTo>
                    <a:pt x="13533" y="19997"/>
                  </a:lnTo>
                  <a:lnTo>
                    <a:pt x="14313" y="19238"/>
                  </a:lnTo>
                  <a:lnTo>
                    <a:pt x="14834" y="18478"/>
                  </a:lnTo>
                  <a:lnTo>
                    <a:pt x="14834" y="17719"/>
                  </a:lnTo>
                  <a:lnTo>
                    <a:pt x="14834" y="17466"/>
                  </a:lnTo>
                  <a:lnTo>
                    <a:pt x="14834" y="17213"/>
                  </a:lnTo>
                  <a:lnTo>
                    <a:pt x="15224" y="17213"/>
                  </a:lnTo>
                  <a:lnTo>
                    <a:pt x="18347" y="14597"/>
                  </a:lnTo>
                  <a:lnTo>
                    <a:pt x="18347" y="14344"/>
                  </a:lnTo>
                  <a:lnTo>
                    <a:pt x="18737" y="14091"/>
                  </a:lnTo>
                  <a:lnTo>
                    <a:pt x="18737" y="13500"/>
                  </a:lnTo>
                  <a:lnTo>
                    <a:pt x="19128" y="12994"/>
                  </a:lnTo>
                  <a:lnTo>
                    <a:pt x="19128" y="12741"/>
                  </a:lnTo>
                  <a:lnTo>
                    <a:pt x="19128" y="12234"/>
                  </a:lnTo>
                  <a:lnTo>
                    <a:pt x="18737" y="11981"/>
                  </a:lnTo>
                  <a:lnTo>
                    <a:pt x="18737" y="11475"/>
                  </a:lnTo>
                  <a:lnTo>
                    <a:pt x="18737" y="11222"/>
                  </a:lnTo>
                  <a:lnTo>
                    <a:pt x="18737" y="10969"/>
                  </a:lnTo>
                  <a:lnTo>
                    <a:pt x="19128" y="10969"/>
                  </a:lnTo>
                  <a:lnTo>
                    <a:pt x="19128" y="10716"/>
                  </a:lnTo>
                  <a:lnTo>
                    <a:pt x="19518" y="10716"/>
                  </a:lnTo>
                  <a:lnTo>
                    <a:pt x="21210" y="8100"/>
                  </a:lnTo>
                  <a:lnTo>
                    <a:pt x="21600" y="7594"/>
                  </a:lnTo>
                  <a:lnTo>
                    <a:pt x="21600" y="7088"/>
                  </a:lnTo>
                  <a:lnTo>
                    <a:pt x="21600" y="6497"/>
                  </a:lnTo>
                  <a:lnTo>
                    <a:pt x="21210" y="6244"/>
                  </a:lnTo>
                  <a:lnTo>
                    <a:pt x="20819" y="5738"/>
                  </a:lnTo>
                  <a:lnTo>
                    <a:pt x="20429" y="5231"/>
                  </a:lnTo>
                  <a:lnTo>
                    <a:pt x="20039" y="4725"/>
                  </a:lnTo>
                  <a:lnTo>
                    <a:pt x="19518" y="4472"/>
                  </a:lnTo>
                  <a:close/>
                  <a:moveTo>
                    <a:pt x="7547" y="10716"/>
                  </a:moveTo>
                  <a:lnTo>
                    <a:pt x="7937" y="10463"/>
                  </a:lnTo>
                  <a:lnTo>
                    <a:pt x="8328" y="10463"/>
                  </a:lnTo>
                  <a:lnTo>
                    <a:pt x="7937" y="10716"/>
                  </a:lnTo>
                  <a:lnTo>
                    <a:pt x="7547" y="10716"/>
                  </a:lnTo>
                  <a:close/>
                  <a:moveTo>
                    <a:pt x="7547" y="10716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4" name="AutoShape 81"/>
            <p:cNvSpPr/>
            <p:nvPr/>
          </p:nvSpPr>
          <p:spPr>
            <a:xfrm>
              <a:off x="4965840" y="4387680"/>
              <a:ext cx="477720" cy="48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97"/>
                  </a:moveTo>
                  <a:lnTo>
                    <a:pt x="21385" y="16464"/>
                  </a:lnTo>
                  <a:lnTo>
                    <a:pt x="21169" y="15971"/>
                  </a:lnTo>
                  <a:lnTo>
                    <a:pt x="20739" y="15549"/>
                  </a:lnTo>
                  <a:lnTo>
                    <a:pt x="20308" y="15127"/>
                  </a:lnTo>
                  <a:lnTo>
                    <a:pt x="19878" y="14916"/>
                  </a:lnTo>
                  <a:lnTo>
                    <a:pt x="19375" y="14705"/>
                  </a:lnTo>
                  <a:lnTo>
                    <a:pt x="18730" y="14494"/>
                  </a:lnTo>
                  <a:lnTo>
                    <a:pt x="18299" y="14494"/>
                  </a:lnTo>
                  <a:lnTo>
                    <a:pt x="18084" y="14283"/>
                  </a:lnTo>
                  <a:lnTo>
                    <a:pt x="18084" y="14072"/>
                  </a:lnTo>
                  <a:lnTo>
                    <a:pt x="17868" y="13861"/>
                  </a:lnTo>
                  <a:lnTo>
                    <a:pt x="17868" y="13650"/>
                  </a:lnTo>
                  <a:lnTo>
                    <a:pt x="17653" y="13650"/>
                  </a:lnTo>
                  <a:lnTo>
                    <a:pt x="17653" y="13368"/>
                  </a:lnTo>
                  <a:lnTo>
                    <a:pt x="17438" y="13368"/>
                  </a:lnTo>
                  <a:lnTo>
                    <a:pt x="17007" y="12946"/>
                  </a:lnTo>
                  <a:lnTo>
                    <a:pt x="17007" y="12735"/>
                  </a:lnTo>
                  <a:lnTo>
                    <a:pt x="16792" y="12735"/>
                  </a:lnTo>
                  <a:lnTo>
                    <a:pt x="16792" y="12524"/>
                  </a:lnTo>
                  <a:lnTo>
                    <a:pt x="16505" y="12524"/>
                  </a:lnTo>
                  <a:lnTo>
                    <a:pt x="16290" y="12313"/>
                  </a:lnTo>
                  <a:lnTo>
                    <a:pt x="16074" y="12313"/>
                  </a:lnTo>
                  <a:lnTo>
                    <a:pt x="15859" y="12102"/>
                  </a:lnTo>
                  <a:lnTo>
                    <a:pt x="15859" y="11891"/>
                  </a:lnTo>
                  <a:lnTo>
                    <a:pt x="15859" y="11679"/>
                  </a:lnTo>
                  <a:lnTo>
                    <a:pt x="15859" y="11468"/>
                  </a:lnTo>
                  <a:lnTo>
                    <a:pt x="15859" y="11257"/>
                  </a:lnTo>
                  <a:lnTo>
                    <a:pt x="15859" y="10835"/>
                  </a:lnTo>
                  <a:lnTo>
                    <a:pt x="15644" y="10132"/>
                  </a:lnTo>
                  <a:lnTo>
                    <a:pt x="15429" y="9709"/>
                  </a:lnTo>
                  <a:lnTo>
                    <a:pt x="14998" y="9287"/>
                  </a:lnTo>
                  <a:lnTo>
                    <a:pt x="14567" y="8865"/>
                  </a:lnTo>
                  <a:lnTo>
                    <a:pt x="14137" y="8443"/>
                  </a:lnTo>
                  <a:lnTo>
                    <a:pt x="13635" y="8232"/>
                  </a:lnTo>
                  <a:lnTo>
                    <a:pt x="12989" y="8232"/>
                  </a:lnTo>
                  <a:lnTo>
                    <a:pt x="12558" y="8021"/>
                  </a:lnTo>
                  <a:lnTo>
                    <a:pt x="12128" y="8021"/>
                  </a:lnTo>
                  <a:lnTo>
                    <a:pt x="11912" y="8021"/>
                  </a:lnTo>
                  <a:lnTo>
                    <a:pt x="12558" y="7106"/>
                  </a:lnTo>
                  <a:lnTo>
                    <a:pt x="12773" y="6684"/>
                  </a:lnTo>
                  <a:lnTo>
                    <a:pt x="12989" y="6262"/>
                  </a:lnTo>
                  <a:lnTo>
                    <a:pt x="12989" y="5629"/>
                  </a:lnTo>
                  <a:lnTo>
                    <a:pt x="12989" y="5207"/>
                  </a:lnTo>
                  <a:lnTo>
                    <a:pt x="12989" y="4503"/>
                  </a:lnTo>
                  <a:lnTo>
                    <a:pt x="12773" y="4081"/>
                  </a:lnTo>
                  <a:lnTo>
                    <a:pt x="12558" y="3659"/>
                  </a:lnTo>
                  <a:lnTo>
                    <a:pt x="12128" y="3236"/>
                  </a:lnTo>
                  <a:lnTo>
                    <a:pt x="11912" y="3025"/>
                  </a:lnTo>
                  <a:lnTo>
                    <a:pt x="11697" y="2814"/>
                  </a:lnTo>
                  <a:lnTo>
                    <a:pt x="11482" y="2603"/>
                  </a:lnTo>
                  <a:lnTo>
                    <a:pt x="11051" y="2392"/>
                  </a:lnTo>
                  <a:lnTo>
                    <a:pt x="10764" y="2111"/>
                  </a:lnTo>
                  <a:lnTo>
                    <a:pt x="10334" y="2111"/>
                  </a:lnTo>
                  <a:lnTo>
                    <a:pt x="10118" y="1900"/>
                  </a:lnTo>
                  <a:lnTo>
                    <a:pt x="9688" y="1900"/>
                  </a:lnTo>
                  <a:lnTo>
                    <a:pt x="9472" y="1900"/>
                  </a:lnTo>
                  <a:lnTo>
                    <a:pt x="8827" y="1900"/>
                  </a:lnTo>
                  <a:lnTo>
                    <a:pt x="8611" y="1900"/>
                  </a:lnTo>
                  <a:lnTo>
                    <a:pt x="8396" y="1900"/>
                  </a:lnTo>
                  <a:lnTo>
                    <a:pt x="8181" y="1900"/>
                  </a:lnTo>
                  <a:lnTo>
                    <a:pt x="7894" y="1900"/>
                  </a:lnTo>
                  <a:lnTo>
                    <a:pt x="7678" y="1900"/>
                  </a:lnTo>
                  <a:lnTo>
                    <a:pt x="7678" y="1689"/>
                  </a:lnTo>
                  <a:lnTo>
                    <a:pt x="7678" y="1478"/>
                  </a:lnTo>
                  <a:lnTo>
                    <a:pt x="7463" y="1266"/>
                  </a:lnTo>
                  <a:lnTo>
                    <a:pt x="7248" y="1055"/>
                  </a:lnTo>
                  <a:lnTo>
                    <a:pt x="7033" y="844"/>
                  </a:lnTo>
                  <a:lnTo>
                    <a:pt x="7033" y="633"/>
                  </a:lnTo>
                  <a:lnTo>
                    <a:pt x="6817" y="633"/>
                  </a:lnTo>
                  <a:lnTo>
                    <a:pt x="6171" y="211"/>
                  </a:lnTo>
                  <a:lnTo>
                    <a:pt x="5526" y="0"/>
                  </a:lnTo>
                  <a:lnTo>
                    <a:pt x="4808" y="0"/>
                  </a:lnTo>
                  <a:lnTo>
                    <a:pt x="4162" y="0"/>
                  </a:lnTo>
                  <a:lnTo>
                    <a:pt x="3732" y="0"/>
                  </a:lnTo>
                  <a:lnTo>
                    <a:pt x="3086" y="422"/>
                  </a:lnTo>
                  <a:lnTo>
                    <a:pt x="2655" y="633"/>
                  </a:lnTo>
                  <a:lnTo>
                    <a:pt x="1938" y="1266"/>
                  </a:lnTo>
                  <a:lnTo>
                    <a:pt x="1722" y="1478"/>
                  </a:lnTo>
                  <a:lnTo>
                    <a:pt x="1507" y="1900"/>
                  </a:lnTo>
                  <a:lnTo>
                    <a:pt x="1292" y="2392"/>
                  </a:lnTo>
                  <a:lnTo>
                    <a:pt x="1076" y="2603"/>
                  </a:lnTo>
                  <a:lnTo>
                    <a:pt x="861" y="3025"/>
                  </a:lnTo>
                  <a:lnTo>
                    <a:pt x="646" y="3448"/>
                  </a:lnTo>
                  <a:lnTo>
                    <a:pt x="431" y="3870"/>
                  </a:lnTo>
                  <a:lnTo>
                    <a:pt x="215" y="4292"/>
                  </a:lnTo>
                  <a:lnTo>
                    <a:pt x="646" y="3025"/>
                  </a:lnTo>
                  <a:lnTo>
                    <a:pt x="431" y="3448"/>
                  </a:lnTo>
                  <a:lnTo>
                    <a:pt x="215" y="3870"/>
                  </a:lnTo>
                  <a:lnTo>
                    <a:pt x="0" y="4292"/>
                  </a:lnTo>
                  <a:lnTo>
                    <a:pt x="0" y="4714"/>
                  </a:lnTo>
                  <a:lnTo>
                    <a:pt x="0" y="5207"/>
                  </a:lnTo>
                  <a:lnTo>
                    <a:pt x="0" y="5418"/>
                  </a:lnTo>
                  <a:lnTo>
                    <a:pt x="215" y="5840"/>
                  </a:lnTo>
                  <a:lnTo>
                    <a:pt x="431" y="6262"/>
                  </a:lnTo>
                  <a:lnTo>
                    <a:pt x="431" y="6473"/>
                  </a:lnTo>
                  <a:lnTo>
                    <a:pt x="646" y="6895"/>
                  </a:lnTo>
                  <a:lnTo>
                    <a:pt x="861" y="7317"/>
                  </a:lnTo>
                  <a:lnTo>
                    <a:pt x="1292" y="7528"/>
                  </a:lnTo>
                  <a:lnTo>
                    <a:pt x="1507" y="7739"/>
                  </a:lnTo>
                  <a:lnTo>
                    <a:pt x="1938" y="8021"/>
                  </a:lnTo>
                  <a:lnTo>
                    <a:pt x="2368" y="8232"/>
                  </a:lnTo>
                  <a:lnTo>
                    <a:pt x="2870" y="8232"/>
                  </a:lnTo>
                  <a:lnTo>
                    <a:pt x="3301" y="8443"/>
                  </a:lnTo>
                  <a:lnTo>
                    <a:pt x="3947" y="8443"/>
                  </a:lnTo>
                  <a:lnTo>
                    <a:pt x="3732" y="8654"/>
                  </a:lnTo>
                  <a:lnTo>
                    <a:pt x="3732" y="8865"/>
                  </a:lnTo>
                  <a:lnTo>
                    <a:pt x="3516" y="9076"/>
                  </a:lnTo>
                  <a:lnTo>
                    <a:pt x="3516" y="9287"/>
                  </a:lnTo>
                  <a:lnTo>
                    <a:pt x="3516" y="9498"/>
                  </a:lnTo>
                  <a:lnTo>
                    <a:pt x="3301" y="9498"/>
                  </a:lnTo>
                  <a:lnTo>
                    <a:pt x="3301" y="9709"/>
                  </a:lnTo>
                  <a:lnTo>
                    <a:pt x="3086" y="10343"/>
                  </a:lnTo>
                  <a:lnTo>
                    <a:pt x="2870" y="10554"/>
                  </a:lnTo>
                  <a:lnTo>
                    <a:pt x="2870" y="11046"/>
                  </a:lnTo>
                  <a:lnTo>
                    <a:pt x="2870" y="11257"/>
                  </a:lnTo>
                  <a:lnTo>
                    <a:pt x="2870" y="11468"/>
                  </a:lnTo>
                  <a:lnTo>
                    <a:pt x="2870" y="11679"/>
                  </a:lnTo>
                  <a:lnTo>
                    <a:pt x="2870" y="12102"/>
                  </a:lnTo>
                  <a:lnTo>
                    <a:pt x="2870" y="12313"/>
                  </a:lnTo>
                  <a:lnTo>
                    <a:pt x="3086" y="12524"/>
                  </a:lnTo>
                  <a:lnTo>
                    <a:pt x="3086" y="12946"/>
                  </a:lnTo>
                  <a:lnTo>
                    <a:pt x="3301" y="13368"/>
                  </a:lnTo>
                  <a:lnTo>
                    <a:pt x="3516" y="13650"/>
                  </a:lnTo>
                  <a:lnTo>
                    <a:pt x="3732" y="13861"/>
                  </a:lnTo>
                  <a:lnTo>
                    <a:pt x="3947" y="14283"/>
                  </a:lnTo>
                  <a:lnTo>
                    <a:pt x="4162" y="14494"/>
                  </a:lnTo>
                  <a:lnTo>
                    <a:pt x="4377" y="14705"/>
                  </a:lnTo>
                  <a:lnTo>
                    <a:pt x="4808" y="14916"/>
                  </a:lnTo>
                  <a:lnTo>
                    <a:pt x="5023" y="14916"/>
                  </a:lnTo>
                  <a:lnTo>
                    <a:pt x="5526" y="15127"/>
                  </a:lnTo>
                  <a:lnTo>
                    <a:pt x="5741" y="15127"/>
                  </a:lnTo>
                  <a:lnTo>
                    <a:pt x="5956" y="15338"/>
                  </a:lnTo>
                  <a:lnTo>
                    <a:pt x="6171" y="15338"/>
                  </a:lnTo>
                  <a:lnTo>
                    <a:pt x="6387" y="15338"/>
                  </a:lnTo>
                  <a:lnTo>
                    <a:pt x="6602" y="15338"/>
                  </a:lnTo>
                  <a:lnTo>
                    <a:pt x="7033" y="15338"/>
                  </a:lnTo>
                  <a:lnTo>
                    <a:pt x="7248" y="15338"/>
                  </a:lnTo>
                  <a:lnTo>
                    <a:pt x="7463" y="15127"/>
                  </a:lnTo>
                  <a:lnTo>
                    <a:pt x="7463" y="15338"/>
                  </a:lnTo>
                  <a:lnTo>
                    <a:pt x="7463" y="15549"/>
                  </a:lnTo>
                  <a:lnTo>
                    <a:pt x="7463" y="15760"/>
                  </a:lnTo>
                  <a:lnTo>
                    <a:pt x="7463" y="15971"/>
                  </a:lnTo>
                  <a:lnTo>
                    <a:pt x="7463" y="16182"/>
                  </a:lnTo>
                  <a:lnTo>
                    <a:pt x="7678" y="16182"/>
                  </a:lnTo>
                  <a:lnTo>
                    <a:pt x="7678" y="16464"/>
                  </a:lnTo>
                  <a:lnTo>
                    <a:pt x="7894" y="17097"/>
                  </a:lnTo>
                  <a:lnTo>
                    <a:pt x="8181" y="17519"/>
                  </a:lnTo>
                  <a:lnTo>
                    <a:pt x="8611" y="17941"/>
                  </a:lnTo>
                  <a:lnTo>
                    <a:pt x="9042" y="18364"/>
                  </a:lnTo>
                  <a:lnTo>
                    <a:pt x="9688" y="18575"/>
                  </a:lnTo>
                  <a:lnTo>
                    <a:pt x="10334" y="18786"/>
                  </a:lnTo>
                  <a:lnTo>
                    <a:pt x="10764" y="18786"/>
                  </a:lnTo>
                  <a:lnTo>
                    <a:pt x="11482" y="18786"/>
                  </a:lnTo>
                  <a:lnTo>
                    <a:pt x="11697" y="19489"/>
                  </a:lnTo>
                  <a:lnTo>
                    <a:pt x="11912" y="19911"/>
                  </a:lnTo>
                  <a:lnTo>
                    <a:pt x="12128" y="20545"/>
                  </a:lnTo>
                  <a:lnTo>
                    <a:pt x="12558" y="20967"/>
                  </a:lnTo>
                  <a:lnTo>
                    <a:pt x="12989" y="21178"/>
                  </a:lnTo>
                  <a:lnTo>
                    <a:pt x="13635" y="21389"/>
                  </a:lnTo>
                  <a:lnTo>
                    <a:pt x="14352" y="21600"/>
                  </a:lnTo>
                  <a:lnTo>
                    <a:pt x="14998" y="21600"/>
                  </a:lnTo>
                  <a:lnTo>
                    <a:pt x="15859" y="21600"/>
                  </a:lnTo>
                  <a:lnTo>
                    <a:pt x="16074" y="21600"/>
                  </a:lnTo>
                  <a:lnTo>
                    <a:pt x="16505" y="21600"/>
                  </a:lnTo>
                  <a:lnTo>
                    <a:pt x="17007" y="21389"/>
                  </a:lnTo>
                  <a:lnTo>
                    <a:pt x="17438" y="21389"/>
                  </a:lnTo>
                  <a:lnTo>
                    <a:pt x="17868" y="21178"/>
                  </a:lnTo>
                  <a:lnTo>
                    <a:pt x="18299" y="21178"/>
                  </a:lnTo>
                  <a:lnTo>
                    <a:pt x="18730" y="20967"/>
                  </a:lnTo>
                  <a:lnTo>
                    <a:pt x="19160" y="20756"/>
                  </a:lnTo>
                  <a:lnTo>
                    <a:pt x="19160" y="20967"/>
                  </a:lnTo>
                  <a:lnTo>
                    <a:pt x="19662" y="20756"/>
                  </a:lnTo>
                  <a:lnTo>
                    <a:pt x="20308" y="20334"/>
                  </a:lnTo>
                  <a:lnTo>
                    <a:pt x="20739" y="19911"/>
                  </a:lnTo>
                  <a:lnTo>
                    <a:pt x="21169" y="19489"/>
                  </a:lnTo>
                  <a:lnTo>
                    <a:pt x="21385" y="18786"/>
                  </a:lnTo>
                  <a:lnTo>
                    <a:pt x="21600" y="18364"/>
                  </a:lnTo>
                  <a:lnTo>
                    <a:pt x="21600" y="17730"/>
                  </a:lnTo>
                  <a:lnTo>
                    <a:pt x="21600" y="17097"/>
                  </a:lnTo>
                  <a:close/>
                  <a:moveTo>
                    <a:pt x="11912" y="16182"/>
                  </a:moveTo>
                  <a:lnTo>
                    <a:pt x="11697" y="16182"/>
                  </a:lnTo>
                  <a:lnTo>
                    <a:pt x="11912" y="15760"/>
                  </a:lnTo>
                  <a:lnTo>
                    <a:pt x="11912" y="15971"/>
                  </a:lnTo>
                  <a:lnTo>
                    <a:pt x="11912" y="16182"/>
                  </a:lnTo>
                  <a:close/>
                  <a:moveTo>
                    <a:pt x="13922" y="18364"/>
                  </a:moveTo>
                  <a:lnTo>
                    <a:pt x="13635" y="18364"/>
                  </a:lnTo>
                  <a:lnTo>
                    <a:pt x="13922" y="18364"/>
                  </a:lnTo>
                  <a:lnTo>
                    <a:pt x="13922" y="18152"/>
                  </a:lnTo>
                  <a:lnTo>
                    <a:pt x="14137" y="18152"/>
                  </a:lnTo>
                  <a:lnTo>
                    <a:pt x="13922" y="18364"/>
                  </a:lnTo>
                  <a:close/>
                  <a:moveTo>
                    <a:pt x="13922" y="18364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5253120" y="2711520"/>
              <a:ext cx="381240" cy="20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90" y="997"/>
                  </a:moveTo>
                  <a:lnTo>
                    <a:pt x="5850" y="1662"/>
                  </a:lnTo>
                  <a:lnTo>
                    <a:pt x="5310" y="2160"/>
                  </a:lnTo>
                  <a:lnTo>
                    <a:pt x="4770" y="2658"/>
                  </a:lnTo>
                  <a:lnTo>
                    <a:pt x="4410" y="3157"/>
                  </a:lnTo>
                  <a:lnTo>
                    <a:pt x="3870" y="3655"/>
                  </a:lnTo>
                  <a:lnTo>
                    <a:pt x="3330" y="4154"/>
                  </a:lnTo>
                  <a:lnTo>
                    <a:pt x="3060" y="5151"/>
                  </a:lnTo>
                  <a:lnTo>
                    <a:pt x="2520" y="5649"/>
                  </a:lnTo>
                  <a:lnTo>
                    <a:pt x="2790" y="7643"/>
                  </a:lnTo>
                  <a:lnTo>
                    <a:pt x="2790" y="9305"/>
                  </a:lnTo>
                  <a:lnTo>
                    <a:pt x="3060" y="10800"/>
                  </a:lnTo>
                  <a:lnTo>
                    <a:pt x="3330" y="12794"/>
                  </a:lnTo>
                  <a:lnTo>
                    <a:pt x="3330" y="14289"/>
                  </a:lnTo>
                  <a:lnTo>
                    <a:pt x="3600" y="16449"/>
                  </a:lnTo>
                  <a:lnTo>
                    <a:pt x="3600" y="17945"/>
                  </a:lnTo>
                  <a:lnTo>
                    <a:pt x="3870" y="19938"/>
                  </a:lnTo>
                  <a:lnTo>
                    <a:pt x="1440" y="7643"/>
                  </a:lnTo>
                  <a:lnTo>
                    <a:pt x="1170" y="8308"/>
                  </a:lnTo>
                  <a:lnTo>
                    <a:pt x="810" y="8806"/>
                  </a:lnTo>
                  <a:lnTo>
                    <a:pt x="810" y="9305"/>
                  </a:lnTo>
                  <a:lnTo>
                    <a:pt x="540" y="9803"/>
                  </a:lnTo>
                  <a:lnTo>
                    <a:pt x="540" y="10302"/>
                  </a:lnTo>
                  <a:lnTo>
                    <a:pt x="270" y="10800"/>
                  </a:lnTo>
                  <a:lnTo>
                    <a:pt x="270" y="11298"/>
                  </a:lnTo>
                  <a:lnTo>
                    <a:pt x="270" y="11797"/>
                  </a:lnTo>
                  <a:lnTo>
                    <a:pt x="0" y="13791"/>
                  </a:lnTo>
                  <a:lnTo>
                    <a:pt x="270" y="15452"/>
                  </a:lnTo>
                  <a:lnTo>
                    <a:pt x="540" y="16449"/>
                  </a:lnTo>
                  <a:lnTo>
                    <a:pt x="810" y="17945"/>
                  </a:lnTo>
                  <a:lnTo>
                    <a:pt x="1440" y="18942"/>
                  </a:lnTo>
                  <a:lnTo>
                    <a:pt x="1980" y="19938"/>
                  </a:lnTo>
                  <a:lnTo>
                    <a:pt x="2790" y="20437"/>
                  </a:lnTo>
                  <a:lnTo>
                    <a:pt x="3600" y="20935"/>
                  </a:lnTo>
                  <a:lnTo>
                    <a:pt x="5850" y="21600"/>
                  </a:lnTo>
                  <a:lnTo>
                    <a:pt x="7200" y="20935"/>
                  </a:lnTo>
                  <a:lnTo>
                    <a:pt x="8640" y="20437"/>
                  </a:lnTo>
                  <a:lnTo>
                    <a:pt x="9990" y="19938"/>
                  </a:lnTo>
                  <a:lnTo>
                    <a:pt x="11340" y="19440"/>
                  </a:lnTo>
                  <a:lnTo>
                    <a:pt x="13050" y="18942"/>
                  </a:lnTo>
                  <a:lnTo>
                    <a:pt x="14400" y="18443"/>
                  </a:lnTo>
                  <a:lnTo>
                    <a:pt x="15840" y="18443"/>
                  </a:lnTo>
                  <a:lnTo>
                    <a:pt x="17190" y="17945"/>
                  </a:lnTo>
                  <a:lnTo>
                    <a:pt x="17730" y="17945"/>
                  </a:lnTo>
                  <a:lnTo>
                    <a:pt x="14400" y="4652"/>
                  </a:lnTo>
                  <a:lnTo>
                    <a:pt x="13050" y="6646"/>
                  </a:lnTo>
                  <a:lnTo>
                    <a:pt x="12780" y="7145"/>
                  </a:lnTo>
                  <a:lnTo>
                    <a:pt x="12510" y="8806"/>
                  </a:lnTo>
                  <a:lnTo>
                    <a:pt x="12780" y="10302"/>
                  </a:lnTo>
                  <a:lnTo>
                    <a:pt x="13050" y="12295"/>
                  </a:lnTo>
                  <a:lnTo>
                    <a:pt x="13590" y="14289"/>
                  </a:lnTo>
                  <a:lnTo>
                    <a:pt x="14400" y="16449"/>
                  </a:lnTo>
                  <a:lnTo>
                    <a:pt x="14940" y="18942"/>
                  </a:lnTo>
                  <a:lnTo>
                    <a:pt x="15840" y="21600"/>
                  </a:lnTo>
                  <a:lnTo>
                    <a:pt x="16650" y="21600"/>
                  </a:lnTo>
                  <a:lnTo>
                    <a:pt x="17460" y="21600"/>
                  </a:lnTo>
                  <a:lnTo>
                    <a:pt x="18270" y="20935"/>
                  </a:lnTo>
                  <a:lnTo>
                    <a:pt x="18810" y="19938"/>
                  </a:lnTo>
                  <a:lnTo>
                    <a:pt x="19440" y="18942"/>
                  </a:lnTo>
                  <a:lnTo>
                    <a:pt x="19980" y="17446"/>
                  </a:lnTo>
                  <a:lnTo>
                    <a:pt x="20250" y="16449"/>
                  </a:lnTo>
                  <a:lnTo>
                    <a:pt x="20520" y="14954"/>
                  </a:lnTo>
                  <a:lnTo>
                    <a:pt x="20520" y="13292"/>
                  </a:lnTo>
                  <a:lnTo>
                    <a:pt x="20250" y="11797"/>
                  </a:lnTo>
                  <a:lnTo>
                    <a:pt x="19980" y="10302"/>
                  </a:lnTo>
                  <a:lnTo>
                    <a:pt x="19440" y="9305"/>
                  </a:lnTo>
                  <a:lnTo>
                    <a:pt x="18810" y="7643"/>
                  </a:lnTo>
                  <a:lnTo>
                    <a:pt x="18270" y="7145"/>
                  </a:lnTo>
                  <a:lnTo>
                    <a:pt x="17460" y="6646"/>
                  </a:lnTo>
                  <a:lnTo>
                    <a:pt x="16650" y="6148"/>
                  </a:lnTo>
                  <a:lnTo>
                    <a:pt x="17190" y="7643"/>
                  </a:lnTo>
                  <a:lnTo>
                    <a:pt x="18270" y="8806"/>
                  </a:lnTo>
                  <a:lnTo>
                    <a:pt x="19710" y="9305"/>
                  </a:lnTo>
                  <a:lnTo>
                    <a:pt x="20790" y="10302"/>
                  </a:lnTo>
                  <a:lnTo>
                    <a:pt x="21330" y="10800"/>
                  </a:lnTo>
                  <a:lnTo>
                    <a:pt x="21600" y="11298"/>
                  </a:lnTo>
                  <a:lnTo>
                    <a:pt x="21600" y="12295"/>
                  </a:lnTo>
                  <a:lnTo>
                    <a:pt x="21600" y="13292"/>
                  </a:lnTo>
                  <a:lnTo>
                    <a:pt x="21060" y="14954"/>
                  </a:lnTo>
                  <a:lnTo>
                    <a:pt x="20520" y="15951"/>
                  </a:lnTo>
                  <a:lnTo>
                    <a:pt x="19440" y="17945"/>
                  </a:lnTo>
                  <a:lnTo>
                    <a:pt x="17730" y="19938"/>
                  </a:lnTo>
                  <a:lnTo>
                    <a:pt x="18000" y="19938"/>
                  </a:lnTo>
                  <a:lnTo>
                    <a:pt x="18000" y="19440"/>
                  </a:lnTo>
                  <a:lnTo>
                    <a:pt x="18270" y="19440"/>
                  </a:lnTo>
                  <a:lnTo>
                    <a:pt x="18270" y="18942"/>
                  </a:lnTo>
                  <a:lnTo>
                    <a:pt x="18540" y="18942"/>
                  </a:lnTo>
                  <a:lnTo>
                    <a:pt x="18810" y="18443"/>
                  </a:lnTo>
                  <a:lnTo>
                    <a:pt x="20250" y="15951"/>
                  </a:lnTo>
                  <a:lnTo>
                    <a:pt x="20520" y="14954"/>
                  </a:lnTo>
                  <a:lnTo>
                    <a:pt x="20790" y="14289"/>
                  </a:lnTo>
                  <a:lnTo>
                    <a:pt x="21060" y="13791"/>
                  </a:lnTo>
                  <a:lnTo>
                    <a:pt x="21060" y="12794"/>
                  </a:lnTo>
                  <a:lnTo>
                    <a:pt x="21330" y="11797"/>
                  </a:lnTo>
                  <a:lnTo>
                    <a:pt x="21330" y="11298"/>
                  </a:lnTo>
                  <a:lnTo>
                    <a:pt x="21330" y="10302"/>
                  </a:lnTo>
                  <a:lnTo>
                    <a:pt x="21330" y="9305"/>
                  </a:lnTo>
                  <a:lnTo>
                    <a:pt x="21330" y="7643"/>
                  </a:lnTo>
                  <a:lnTo>
                    <a:pt x="20790" y="6148"/>
                  </a:lnTo>
                  <a:lnTo>
                    <a:pt x="20520" y="5151"/>
                  </a:lnTo>
                  <a:lnTo>
                    <a:pt x="19980" y="4154"/>
                  </a:lnTo>
                  <a:lnTo>
                    <a:pt x="19170" y="3157"/>
                  </a:lnTo>
                  <a:lnTo>
                    <a:pt x="18540" y="2658"/>
                  </a:lnTo>
                  <a:lnTo>
                    <a:pt x="17730" y="2658"/>
                  </a:lnTo>
                  <a:lnTo>
                    <a:pt x="16920" y="2658"/>
                  </a:lnTo>
                  <a:lnTo>
                    <a:pt x="15840" y="2658"/>
                  </a:lnTo>
                  <a:lnTo>
                    <a:pt x="14670" y="3157"/>
                  </a:lnTo>
                  <a:lnTo>
                    <a:pt x="13320" y="3157"/>
                  </a:lnTo>
                  <a:lnTo>
                    <a:pt x="12240" y="3655"/>
                  </a:lnTo>
                  <a:lnTo>
                    <a:pt x="10800" y="3655"/>
                  </a:lnTo>
                  <a:lnTo>
                    <a:pt x="9720" y="4154"/>
                  </a:lnTo>
                  <a:lnTo>
                    <a:pt x="8370" y="4652"/>
                  </a:lnTo>
                  <a:lnTo>
                    <a:pt x="7200" y="5151"/>
                  </a:lnTo>
                  <a:lnTo>
                    <a:pt x="6120" y="5649"/>
                  </a:lnTo>
                  <a:lnTo>
                    <a:pt x="5040" y="5649"/>
                  </a:lnTo>
                  <a:lnTo>
                    <a:pt x="7200" y="18942"/>
                  </a:lnTo>
                  <a:lnTo>
                    <a:pt x="7740" y="17945"/>
                  </a:lnTo>
                  <a:lnTo>
                    <a:pt x="7740" y="16449"/>
                  </a:lnTo>
                  <a:lnTo>
                    <a:pt x="7470" y="14289"/>
                  </a:lnTo>
                  <a:lnTo>
                    <a:pt x="7200" y="12794"/>
                  </a:lnTo>
                  <a:lnTo>
                    <a:pt x="6930" y="11298"/>
                  </a:lnTo>
                  <a:lnTo>
                    <a:pt x="6660" y="9803"/>
                  </a:lnTo>
                  <a:lnTo>
                    <a:pt x="6390" y="8308"/>
                  </a:lnTo>
                  <a:lnTo>
                    <a:pt x="6120" y="6646"/>
                  </a:lnTo>
                  <a:lnTo>
                    <a:pt x="6120" y="4652"/>
                  </a:lnTo>
                  <a:lnTo>
                    <a:pt x="6390" y="6148"/>
                  </a:lnTo>
                  <a:lnTo>
                    <a:pt x="6660" y="7643"/>
                  </a:lnTo>
                  <a:lnTo>
                    <a:pt x="6930" y="9305"/>
                  </a:lnTo>
                  <a:lnTo>
                    <a:pt x="7200" y="10800"/>
                  </a:lnTo>
                  <a:lnTo>
                    <a:pt x="7470" y="12295"/>
                  </a:lnTo>
                  <a:lnTo>
                    <a:pt x="7740" y="13791"/>
                  </a:lnTo>
                  <a:lnTo>
                    <a:pt x="8010" y="15452"/>
                  </a:lnTo>
                  <a:lnTo>
                    <a:pt x="8640" y="16948"/>
                  </a:lnTo>
                  <a:lnTo>
                    <a:pt x="8640" y="16449"/>
                  </a:lnTo>
                  <a:lnTo>
                    <a:pt x="8910" y="15951"/>
                  </a:lnTo>
                  <a:lnTo>
                    <a:pt x="9180" y="15951"/>
                  </a:lnTo>
                  <a:lnTo>
                    <a:pt x="9180" y="15452"/>
                  </a:lnTo>
                  <a:lnTo>
                    <a:pt x="9450" y="15452"/>
                  </a:lnTo>
                  <a:lnTo>
                    <a:pt x="9720" y="14954"/>
                  </a:lnTo>
                  <a:lnTo>
                    <a:pt x="9990" y="14954"/>
                  </a:lnTo>
                  <a:lnTo>
                    <a:pt x="10260" y="14954"/>
                  </a:lnTo>
                  <a:lnTo>
                    <a:pt x="10800" y="13791"/>
                  </a:lnTo>
                  <a:lnTo>
                    <a:pt x="11340" y="12794"/>
                  </a:lnTo>
                  <a:lnTo>
                    <a:pt x="11970" y="11797"/>
                  </a:lnTo>
                  <a:lnTo>
                    <a:pt x="12240" y="10302"/>
                  </a:lnTo>
                  <a:lnTo>
                    <a:pt x="12510" y="8806"/>
                  </a:lnTo>
                  <a:lnTo>
                    <a:pt x="12510" y="7145"/>
                  </a:lnTo>
                  <a:lnTo>
                    <a:pt x="12240" y="5649"/>
                  </a:lnTo>
                  <a:lnTo>
                    <a:pt x="11970" y="4154"/>
                  </a:lnTo>
                  <a:lnTo>
                    <a:pt x="11610" y="3157"/>
                  </a:lnTo>
                  <a:lnTo>
                    <a:pt x="11070" y="2160"/>
                  </a:lnTo>
                  <a:lnTo>
                    <a:pt x="10260" y="997"/>
                  </a:lnTo>
                  <a:lnTo>
                    <a:pt x="9450" y="498"/>
                  </a:lnTo>
                  <a:lnTo>
                    <a:pt x="8910" y="0"/>
                  </a:lnTo>
                  <a:lnTo>
                    <a:pt x="8010" y="0"/>
                  </a:lnTo>
                  <a:lnTo>
                    <a:pt x="7200" y="0"/>
                  </a:lnTo>
                  <a:lnTo>
                    <a:pt x="6390" y="997"/>
                  </a:lnTo>
                  <a:close/>
                  <a:moveTo>
                    <a:pt x="6390" y="997"/>
                  </a:move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7596360" y="2805120"/>
              <a:ext cx="396720" cy="30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41" y="14249"/>
                  </a:moveTo>
                  <a:lnTo>
                    <a:pt x="21341" y="13571"/>
                  </a:lnTo>
                  <a:lnTo>
                    <a:pt x="21082" y="13231"/>
                  </a:lnTo>
                  <a:lnTo>
                    <a:pt x="21082" y="12553"/>
                  </a:lnTo>
                  <a:lnTo>
                    <a:pt x="20822" y="12101"/>
                  </a:lnTo>
                  <a:lnTo>
                    <a:pt x="20477" y="11422"/>
                  </a:lnTo>
                  <a:lnTo>
                    <a:pt x="20218" y="11083"/>
                  </a:lnTo>
                  <a:lnTo>
                    <a:pt x="19699" y="10743"/>
                  </a:lnTo>
                  <a:lnTo>
                    <a:pt x="19440" y="10404"/>
                  </a:lnTo>
                  <a:lnTo>
                    <a:pt x="19699" y="9726"/>
                  </a:lnTo>
                  <a:lnTo>
                    <a:pt x="19699" y="9386"/>
                  </a:lnTo>
                  <a:lnTo>
                    <a:pt x="19699" y="9047"/>
                  </a:lnTo>
                  <a:lnTo>
                    <a:pt x="19699" y="8708"/>
                  </a:lnTo>
                  <a:lnTo>
                    <a:pt x="19699" y="8369"/>
                  </a:lnTo>
                  <a:lnTo>
                    <a:pt x="19440" y="8029"/>
                  </a:lnTo>
                  <a:lnTo>
                    <a:pt x="19440" y="7577"/>
                  </a:lnTo>
                  <a:lnTo>
                    <a:pt x="19440" y="7238"/>
                  </a:lnTo>
                  <a:lnTo>
                    <a:pt x="19440" y="6898"/>
                  </a:lnTo>
                  <a:lnTo>
                    <a:pt x="18922" y="5881"/>
                  </a:lnTo>
                  <a:lnTo>
                    <a:pt x="18662" y="5202"/>
                  </a:lnTo>
                  <a:lnTo>
                    <a:pt x="18144" y="4524"/>
                  </a:lnTo>
                  <a:lnTo>
                    <a:pt x="17626" y="3845"/>
                  </a:lnTo>
                  <a:lnTo>
                    <a:pt x="17021" y="3053"/>
                  </a:lnTo>
                  <a:lnTo>
                    <a:pt x="16502" y="3053"/>
                  </a:lnTo>
                  <a:lnTo>
                    <a:pt x="15725" y="2714"/>
                  </a:lnTo>
                  <a:lnTo>
                    <a:pt x="14947" y="2714"/>
                  </a:lnTo>
                  <a:lnTo>
                    <a:pt x="14429" y="2714"/>
                  </a:lnTo>
                  <a:lnTo>
                    <a:pt x="13565" y="3053"/>
                  </a:lnTo>
                  <a:lnTo>
                    <a:pt x="13306" y="3053"/>
                  </a:lnTo>
                  <a:lnTo>
                    <a:pt x="13046" y="3053"/>
                  </a:lnTo>
                  <a:lnTo>
                    <a:pt x="13046" y="3506"/>
                  </a:lnTo>
                  <a:lnTo>
                    <a:pt x="12787" y="3506"/>
                  </a:lnTo>
                  <a:lnTo>
                    <a:pt x="12528" y="3053"/>
                  </a:lnTo>
                  <a:lnTo>
                    <a:pt x="12528" y="2714"/>
                  </a:lnTo>
                  <a:lnTo>
                    <a:pt x="12269" y="2375"/>
                  </a:lnTo>
                  <a:lnTo>
                    <a:pt x="12269" y="2036"/>
                  </a:lnTo>
                  <a:lnTo>
                    <a:pt x="12010" y="2036"/>
                  </a:lnTo>
                  <a:lnTo>
                    <a:pt x="11491" y="1357"/>
                  </a:lnTo>
                  <a:lnTo>
                    <a:pt x="10973" y="679"/>
                  </a:lnTo>
                  <a:lnTo>
                    <a:pt x="10109" y="339"/>
                  </a:lnTo>
                  <a:lnTo>
                    <a:pt x="9331" y="0"/>
                  </a:lnTo>
                  <a:lnTo>
                    <a:pt x="8554" y="0"/>
                  </a:lnTo>
                  <a:lnTo>
                    <a:pt x="7776" y="339"/>
                  </a:lnTo>
                  <a:lnTo>
                    <a:pt x="6998" y="679"/>
                  </a:lnTo>
                  <a:lnTo>
                    <a:pt x="6394" y="1357"/>
                  </a:lnTo>
                  <a:lnTo>
                    <a:pt x="5616" y="1696"/>
                  </a:lnTo>
                  <a:lnTo>
                    <a:pt x="5098" y="2375"/>
                  </a:lnTo>
                  <a:lnTo>
                    <a:pt x="4579" y="3053"/>
                  </a:lnTo>
                  <a:lnTo>
                    <a:pt x="4061" y="4184"/>
                  </a:lnTo>
                  <a:lnTo>
                    <a:pt x="3542" y="4863"/>
                  </a:lnTo>
                  <a:lnTo>
                    <a:pt x="2938" y="5541"/>
                  </a:lnTo>
                  <a:lnTo>
                    <a:pt x="2419" y="6220"/>
                  </a:lnTo>
                  <a:lnTo>
                    <a:pt x="1901" y="6898"/>
                  </a:lnTo>
                  <a:lnTo>
                    <a:pt x="2160" y="8369"/>
                  </a:lnTo>
                  <a:lnTo>
                    <a:pt x="2419" y="9386"/>
                  </a:lnTo>
                  <a:lnTo>
                    <a:pt x="2678" y="10743"/>
                  </a:lnTo>
                  <a:lnTo>
                    <a:pt x="2678" y="11761"/>
                  </a:lnTo>
                  <a:lnTo>
                    <a:pt x="2938" y="12892"/>
                  </a:lnTo>
                  <a:lnTo>
                    <a:pt x="3197" y="14249"/>
                  </a:lnTo>
                  <a:lnTo>
                    <a:pt x="3542" y="15267"/>
                  </a:lnTo>
                  <a:lnTo>
                    <a:pt x="3802" y="16624"/>
                  </a:lnTo>
                  <a:lnTo>
                    <a:pt x="864" y="8708"/>
                  </a:lnTo>
                  <a:lnTo>
                    <a:pt x="605" y="9047"/>
                  </a:lnTo>
                  <a:lnTo>
                    <a:pt x="605" y="9726"/>
                  </a:lnTo>
                  <a:lnTo>
                    <a:pt x="346" y="10065"/>
                  </a:lnTo>
                  <a:lnTo>
                    <a:pt x="346" y="10404"/>
                  </a:lnTo>
                  <a:lnTo>
                    <a:pt x="0" y="11083"/>
                  </a:lnTo>
                  <a:lnTo>
                    <a:pt x="0" y="11422"/>
                  </a:lnTo>
                  <a:lnTo>
                    <a:pt x="0" y="12101"/>
                  </a:lnTo>
                  <a:lnTo>
                    <a:pt x="0" y="12553"/>
                  </a:lnTo>
                  <a:lnTo>
                    <a:pt x="346" y="13571"/>
                  </a:lnTo>
                  <a:lnTo>
                    <a:pt x="605" y="14588"/>
                  </a:lnTo>
                  <a:lnTo>
                    <a:pt x="1123" y="15267"/>
                  </a:lnTo>
                  <a:lnTo>
                    <a:pt x="1642" y="15946"/>
                  </a:lnTo>
                  <a:lnTo>
                    <a:pt x="2160" y="16624"/>
                  </a:lnTo>
                  <a:lnTo>
                    <a:pt x="2938" y="17076"/>
                  </a:lnTo>
                  <a:lnTo>
                    <a:pt x="3802" y="17416"/>
                  </a:lnTo>
                  <a:lnTo>
                    <a:pt x="4579" y="17416"/>
                  </a:lnTo>
                  <a:lnTo>
                    <a:pt x="7517" y="16624"/>
                  </a:lnTo>
                  <a:lnTo>
                    <a:pt x="7776" y="16285"/>
                  </a:lnTo>
                  <a:lnTo>
                    <a:pt x="8035" y="16285"/>
                  </a:lnTo>
                  <a:lnTo>
                    <a:pt x="8294" y="15946"/>
                  </a:lnTo>
                  <a:lnTo>
                    <a:pt x="8554" y="15946"/>
                  </a:lnTo>
                  <a:lnTo>
                    <a:pt x="8813" y="15606"/>
                  </a:lnTo>
                  <a:lnTo>
                    <a:pt x="9072" y="15606"/>
                  </a:lnTo>
                  <a:lnTo>
                    <a:pt x="9072" y="15946"/>
                  </a:lnTo>
                  <a:lnTo>
                    <a:pt x="9072" y="16285"/>
                  </a:lnTo>
                  <a:lnTo>
                    <a:pt x="9072" y="17416"/>
                  </a:lnTo>
                  <a:lnTo>
                    <a:pt x="9331" y="18434"/>
                  </a:lnTo>
                  <a:lnTo>
                    <a:pt x="9590" y="19112"/>
                  </a:lnTo>
                  <a:lnTo>
                    <a:pt x="10109" y="19791"/>
                  </a:lnTo>
                  <a:lnTo>
                    <a:pt x="10973" y="20469"/>
                  </a:lnTo>
                  <a:lnTo>
                    <a:pt x="11491" y="21148"/>
                  </a:lnTo>
                  <a:lnTo>
                    <a:pt x="12269" y="21148"/>
                  </a:lnTo>
                  <a:lnTo>
                    <a:pt x="13046" y="21600"/>
                  </a:lnTo>
                  <a:lnTo>
                    <a:pt x="15725" y="21148"/>
                  </a:lnTo>
                  <a:lnTo>
                    <a:pt x="15984" y="20808"/>
                  </a:lnTo>
                  <a:lnTo>
                    <a:pt x="16243" y="20808"/>
                  </a:lnTo>
                  <a:lnTo>
                    <a:pt x="16502" y="20808"/>
                  </a:lnTo>
                  <a:lnTo>
                    <a:pt x="16762" y="20469"/>
                  </a:lnTo>
                  <a:lnTo>
                    <a:pt x="17021" y="20469"/>
                  </a:lnTo>
                  <a:lnTo>
                    <a:pt x="17626" y="20469"/>
                  </a:lnTo>
                  <a:lnTo>
                    <a:pt x="17885" y="20469"/>
                  </a:lnTo>
                  <a:lnTo>
                    <a:pt x="18144" y="20130"/>
                  </a:lnTo>
                  <a:lnTo>
                    <a:pt x="18922" y="20130"/>
                  </a:lnTo>
                  <a:lnTo>
                    <a:pt x="19699" y="19451"/>
                  </a:lnTo>
                  <a:lnTo>
                    <a:pt x="20218" y="18773"/>
                  </a:lnTo>
                  <a:lnTo>
                    <a:pt x="20822" y="18094"/>
                  </a:lnTo>
                  <a:lnTo>
                    <a:pt x="21082" y="17416"/>
                  </a:lnTo>
                  <a:lnTo>
                    <a:pt x="21341" y="16285"/>
                  </a:lnTo>
                  <a:lnTo>
                    <a:pt x="21600" y="15267"/>
                  </a:lnTo>
                  <a:lnTo>
                    <a:pt x="21341" y="14249"/>
                  </a:lnTo>
                  <a:close/>
                  <a:moveTo>
                    <a:pt x="5098" y="6220"/>
                  </a:moveTo>
                  <a:lnTo>
                    <a:pt x="5098" y="6220"/>
                  </a:lnTo>
                  <a:close/>
                  <a:moveTo>
                    <a:pt x="5098" y="6220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8004240" y="2755800"/>
              <a:ext cx="381240" cy="37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200" y="831"/>
                  </a:moveTo>
                  <a:lnTo>
                    <a:pt x="6390" y="1662"/>
                  </a:lnTo>
                  <a:lnTo>
                    <a:pt x="5490" y="2308"/>
                  </a:lnTo>
                  <a:lnTo>
                    <a:pt x="4680" y="3138"/>
                  </a:lnTo>
                  <a:lnTo>
                    <a:pt x="3870" y="3969"/>
                  </a:lnTo>
                  <a:lnTo>
                    <a:pt x="3060" y="5077"/>
                  </a:lnTo>
                  <a:lnTo>
                    <a:pt x="2520" y="6000"/>
                  </a:lnTo>
                  <a:lnTo>
                    <a:pt x="1620" y="6831"/>
                  </a:lnTo>
                  <a:lnTo>
                    <a:pt x="1080" y="7938"/>
                  </a:lnTo>
                  <a:lnTo>
                    <a:pt x="540" y="8492"/>
                  </a:lnTo>
                  <a:lnTo>
                    <a:pt x="270" y="9046"/>
                  </a:lnTo>
                  <a:lnTo>
                    <a:pt x="0" y="9692"/>
                  </a:lnTo>
                  <a:lnTo>
                    <a:pt x="0" y="10246"/>
                  </a:lnTo>
                  <a:lnTo>
                    <a:pt x="0" y="10800"/>
                  </a:lnTo>
                  <a:lnTo>
                    <a:pt x="0" y="11354"/>
                  </a:lnTo>
                  <a:lnTo>
                    <a:pt x="0" y="11908"/>
                  </a:lnTo>
                  <a:lnTo>
                    <a:pt x="0" y="12462"/>
                  </a:lnTo>
                  <a:lnTo>
                    <a:pt x="270" y="13108"/>
                  </a:lnTo>
                  <a:lnTo>
                    <a:pt x="540" y="13385"/>
                  </a:lnTo>
                  <a:lnTo>
                    <a:pt x="810" y="13938"/>
                  </a:lnTo>
                  <a:lnTo>
                    <a:pt x="1080" y="14215"/>
                  </a:lnTo>
                  <a:lnTo>
                    <a:pt x="1620" y="14769"/>
                  </a:lnTo>
                  <a:lnTo>
                    <a:pt x="1890" y="15046"/>
                  </a:lnTo>
                  <a:lnTo>
                    <a:pt x="2520" y="15323"/>
                  </a:lnTo>
                  <a:lnTo>
                    <a:pt x="2790" y="15600"/>
                  </a:lnTo>
                  <a:lnTo>
                    <a:pt x="3330" y="15600"/>
                  </a:lnTo>
                  <a:lnTo>
                    <a:pt x="3870" y="15600"/>
                  </a:lnTo>
                  <a:lnTo>
                    <a:pt x="5490" y="15877"/>
                  </a:lnTo>
                  <a:lnTo>
                    <a:pt x="7200" y="15600"/>
                  </a:lnTo>
                  <a:lnTo>
                    <a:pt x="8820" y="15323"/>
                  </a:lnTo>
                  <a:lnTo>
                    <a:pt x="10530" y="14769"/>
                  </a:lnTo>
                  <a:lnTo>
                    <a:pt x="12150" y="14215"/>
                  </a:lnTo>
                  <a:lnTo>
                    <a:pt x="13860" y="13662"/>
                  </a:lnTo>
                  <a:lnTo>
                    <a:pt x="15480" y="12738"/>
                  </a:lnTo>
                  <a:lnTo>
                    <a:pt x="16920" y="12185"/>
                  </a:lnTo>
                  <a:lnTo>
                    <a:pt x="18540" y="11631"/>
                  </a:lnTo>
                  <a:lnTo>
                    <a:pt x="19080" y="11354"/>
                  </a:lnTo>
                  <a:lnTo>
                    <a:pt x="13050" y="7938"/>
                  </a:lnTo>
                  <a:lnTo>
                    <a:pt x="13050" y="8769"/>
                  </a:lnTo>
                  <a:lnTo>
                    <a:pt x="13590" y="6277"/>
                  </a:lnTo>
                  <a:lnTo>
                    <a:pt x="13590" y="6554"/>
                  </a:lnTo>
                  <a:lnTo>
                    <a:pt x="12780" y="7662"/>
                  </a:lnTo>
                  <a:lnTo>
                    <a:pt x="11880" y="8492"/>
                  </a:lnTo>
                  <a:lnTo>
                    <a:pt x="11070" y="9415"/>
                  </a:lnTo>
                  <a:lnTo>
                    <a:pt x="10530" y="10246"/>
                  </a:lnTo>
                  <a:lnTo>
                    <a:pt x="9720" y="11077"/>
                  </a:lnTo>
                  <a:lnTo>
                    <a:pt x="8820" y="11908"/>
                  </a:lnTo>
                  <a:lnTo>
                    <a:pt x="8010" y="13108"/>
                  </a:lnTo>
                  <a:lnTo>
                    <a:pt x="7200" y="13938"/>
                  </a:lnTo>
                  <a:lnTo>
                    <a:pt x="7470" y="14769"/>
                  </a:lnTo>
                  <a:lnTo>
                    <a:pt x="7740" y="15600"/>
                  </a:lnTo>
                  <a:lnTo>
                    <a:pt x="8010" y="16800"/>
                  </a:lnTo>
                  <a:lnTo>
                    <a:pt x="8280" y="17631"/>
                  </a:lnTo>
                  <a:lnTo>
                    <a:pt x="8550" y="18462"/>
                  </a:lnTo>
                  <a:lnTo>
                    <a:pt x="8820" y="19292"/>
                  </a:lnTo>
                  <a:lnTo>
                    <a:pt x="9180" y="20492"/>
                  </a:lnTo>
                  <a:lnTo>
                    <a:pt x="9450" y="21323"/>
                  </a:lnTo>
                  <a:lnTo>
                    <a:pt x="10260" y="21600"/>
                  </a:lnTo>
                  <a:lnTo>
                    <a:pt x="11070" y="21600"/>
                  </a:lnTo>
                  <a:lnTo>
                    <a:pt x="11880" y="21323"/>
                  </a:lnTo>
                  <a:lnTo>
                    <a:pt x="12780" y="21046"/>
                  </a:lnTo>
                  <a:lnTo>
                    <a:pt x="13320" y="20769"/>
                  </a:lnTo>
                  <a:lnTo>
                    <a:pt x="13860" y="20123"/>
                  </a:lnTo>
                  <a:lnTo>
                    <a:pt x="14400" y="19569"/>
                  </a:lnTo>
                  <a:lnTo>
                    <a:pt x="14670" y="18738"/>
                  </a:lnTo>
                  <a:lnTo>
                    <a:pt x="14940" y="17908"/>
                  </a:lnTo>
                  <a:lnTo>
                    <a:pt x="14940" y="17077"/>
                  </a:lnTo>
                  <a:lnTo>
                    <a:pt x="14940" y="16154"/>
                  </a:lnTo>
                  <a:lnTo>
                    <a:pt x="14670" y="15323"/>
                  </a:lnTo>
                  <a:lnTo>
                    <a:pt x="14130" y="14769"/>
                  </a:lnTo>
                  <a:lnTo>
                    <a:pt x="13590" y="14215"/>
                  </a:lnTo>
                  <a:lnTo>
                    <a:pt x="13050" y="13662"/>
                  </a:lnTo>
                  <a:lnTo>
                    <a:pt x="12150" y="13108"/>
                  </a:lnTo>
                  <a:lnTo>
                    <a:pt x="12150" y="13938"/>
                  </a:lnTo>
                  <a:lnTo>
                    <a:pt x="12420" y="15046"/>
                  </a:lnTo>
                  <a:lnTo>
                    <a:pt x="12420" y="15877"/>
                  </a:lnTo>
                  <a:lnTo>
                    <a:pt x="12420" y="16800"/>
                  </a:lnTo>
                  <a:lnTo>
                    <a:pt x="12780" y="17631"/>
                  </a:lnTo>
                  <a:lnTo>
                    <a:pt x="12780" y="18462"/>
                  </a:lnTo>
                  <a:lnTo>
                    <a:pt x="12780" y="19292"/>
                  </a:lnTo>
                  <a:lnTo>
                    <a:pt x="12780" y="20123"/>
                  </a:lnTo>
                  <a:lnTo>
                    <a:pt x="13590" y="19292"/>
                  </a:lnTo>
                  <a:lnTo>
                    <a:pt x="14400" y="18462"/>
                  </a:lnTo>
                  <a:lnTo>
                    <a:pt x="15210" y="17631"/>
                  </a:lnTo>
                  <a:lnTo>
                    <a:pt x="16020" y="16800"/>
                  </a:lnTo>
                  <a:lnTo>
                    <a:pt x="16920" y="15877"/>
                  </a:lnTo>
                  <a:lnTo>
                    <a:pt x="17460" y="15046"/>
                  </a:lnTo>
                  <a:lnTo>
                    <a:pt x="18270" y="14215"/>
                  </a:lnTo>
                  <a:lnTo>
                    <a:pt x="19080" y="13385"/>
                  </a:lnTo>
                  <a:lnTo>
                    <a:pt x="21060" y="10523"/>
                  </a:lnTo>
                  <a:lnTo>
                    <a:pt x="21060" y="9969"/>
                  </a:lnTo>
                  <a:lnTo>
                    <a:pt x="21330" y="9692"/>
                  </a:lnTo>
                  <a:lnTo>
                    <a:pt x="21330" y="9415"/>
                  </a:lnTo>
                  <a:lnTo>
                    <a:pt x="21330" y="9046"/>
                  </a:lnTo>
                  <a:lnTo>
                    <a:pt x="21600" y="8769"/>
                  </a:lnTo>
                  <a:lnTo>
                    <a:pt x="21600" y="8492"/>
                  </a:lnTo>
                  <a:lnTo>
                    <a:pt x="21600" y="8215"/>
                  </a:lnTo>
                  <a:lnTo>
                    <a:pt x="21330" y="7938"/>
                  </a:lnTo>
                  <a:lnTo>
                    <a:pt x="21330" y="6831"/>
                  </a:lnTo>
                  <a:lnTo>
                    <a:pt x="21330" y="6554"/>
                  </a:lnTo>
                  <a:lnTo>
                    <a:pt x="21330" y="6277"/>
                  </a:lnTo>
                  <a:lnTo>
                    <a:pt x="21060" y="6000"/>
                  </a:lnTo>
                  <a:lnTo>
                    <a:pt x="21060" y="5723"/>
                  </a:lnTo>
                  <a:lnTo>
                    <a:pt x="21060" y="5354"/>
                  </a:lnTo>
                  <a:lnTo>
                    <a:pt x="20520" y="4800"/>
                  </a:lnTo>
                  <a:lnTo>
                    <a:pt x="19980" y="3969"/>
                  </a:lnTo>
                  <a:lnTo>
                    <a:pt x="19080" y="3692"/>
                  </a:lnTo>
                  <a:lnTo>
                    <a:pt x="18540" y="3415"/>
                  </a:lnTo>
                  <a:lnTo>
                    <a:pt x="17730" y="3138"/>
                  </a:lnTo>
                  <a:lnTo>
                    <a:pt x="16920" y="3138"/>
                  </a:lnTo>
                  <a:lnTo>
                    <a:pt x="16020" y="3138"/>
                  </a:lnTo>
                  <a:lnTo>
                    <a:pt x="15210" y="3692"/>
                  </a:lnTo>
                  <a:lnTo>
                    <a:pt x="14130" y="4246"/>
                  </a:lnTo>
                  <a:lnTo>
                    <a:pt x="13320" y="4523"/>
                  </a:lnTo>
                  <a:lnTo>
                    <a:pt x="12150" y="4800"/>
                  </a:lnTo>
                  <a:lnTo>
                    <a:pt x="11340" y="5354"/>
                  </a:lnTo>
                  <a:lnTo>
                    <a:pt x="10260" y="5723"/>
                  </a:lnTo>
                  <a:lnTo>
                    <a:pt x="9450" y="6000"/>
                  </a:lnTo>
                  <a:lnTo>
                    <a:pt x="8550" y="6277"/>
                  </a:lnTo>
                  <a:lnTo>
                    <a:pt x="7470" y="6831"/>
                  </a:lnTo>
                  <a:lnTo>
                    <a:pt x="6660" y="7108"/>
                  </a:lnTo>
                  <a:lnTo>
                    <a:pt x="4680" y="7108"/>
                  </a:lnTo>
                  <a:lnTo>
                    <a:pt x="8010" y="9415"/>
                  </a:lnTo>
                  <a:lnTo>
                    <a:pt x="7740" y="9046"/>
                  </a:lnTo>
                  <a:lnTo>
                    <a:pt x="7470" y="13385"/>
                  </a:lnTo>
                  <a:lnTo>
                    <a:pt x="8010" y="12738"/>
                  </a:lnTo>
                  <a:lnTo>
                    <a:pt x="8550" y="11908"/>
                  </a:lnTo>
                  <a:lnTo>
                    <a:pt x="9180" y="11354"/>
                  </a:lnTo>
                  <a:lnTo>
                    <a:pt x="9450" y="10523"/>
                  </a:lnTo>
                  <a:lnTo>
                    <a:pt x="9990" y="9969"/>
                  </a:lnTo>
                  <a:lnTo>
                    <a:pt x="10530" y="9415"/>
                  </a:lnTo>
                  <a:lnTo>
                    <a:pt x="11340" y="8769"/>
                  </a:lnTo>
                  <a:lnTo>
                    <a:pt x="11880" y="7938"/>
                  </a:lnTo>
                  <a:lnTo>
                    <a:pt x="12420" y="7385"/>
                  </a:lnTo>
                  <a:lnTo>
                    <a:pt x="13050" y="6831"/>
                  </a:lnTo>
                  <a:lnTo>
                    <a:pt x="13590" y="6277"/>
                  </a:lnTo>
                  <a:lnTo>
                    <a:pt x="13860" y="5354"/>
                  </a:lnTo>
                  <a:lnTo>
                    <a:pt x="14130" y="4523"/>
                  </a:lnTo>
                  <a:lnTo>
                    <a:pt x="14130" y="3692"/>
                  </a:lnTo>
                  <a:lnTo>
                    <a:pt x="13860" y="2862"/>
                  </a:lnTo>
                  <a:lnTo>
                    <a:pt x="13590" y="2308"/>
                  </a:lnTo>
                  <a:lnTo>
                    <a:pt x="13050" y="1385"/>
                  </a:lnTo>
                  <a:lnTo>
                    <a:pt x="12420" y="831"/>
                  </a:lnTo>
                  <a:lnTo>
                    <a:pt x="11880" y="277"/>
                  </a:lnTo>
                  <a:lnTo>
                    <a:pt x="11070" y="0"/>
                  </a:lnTo>
                  <a:lnTo>
                    <a:pt x="10260" y="0"/>
                  </a:lnTo>
                  <a:lnTo>
                    <a:pt x="9450" y="0"/>
                  </a:lnTo>
                  <a:lnTo>
                    <a:pt x="8550" y="0"/>
                  </a:lnTo>
                  <a:lnTo>
                    <a:pt x="8010" y="277"/>
                  </a:lnTo>
                  <a:lnTo>
                    <a:pt x="7200" y="831"/>
                  </a:lnTo>
                  <a:close/>
                  <a:moveTo>
                    <a:pt x="7200" y="831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7847280" y="3071880"/>
              <a:ext cx="225360" cy="199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143"/>
                  </a:moveTo>
                  <a:lnTo>
                    <a:pt x="21600" y="10629"/>
                  </a:lnTo>
                  <a:lnTo>
                    <a:pt x="21144" y="9943"/>
                  </a:lnTo>
                  <a:lnTo>
                    <a:pt x="21144" y="8914"/>
                  </a:lnTo>
                  <a:lnTo>
                    <a:pt x="20687" y="8400"/>
                  </a:lnTo>
                  <a:lnTo>
                    <a:pt x="20231" y="7886"/>
                  </a:lnTo>
                  <a:lnTo>
                    <a:pt x="20231" y="7371"/>
                  </a:lnTo>
                  <a:lnTo>
                    <a:pt x="19775" y="6857"/>
                  </a:lnTo>
                  <a:lnTo>
                    <a:pt x="19318" y="6343"/>
                  </a:lnTo>
                  <a:lnTo>
                    <a:pt x="18862" y="5829"/>
                  </a:lnTo>
                  <a:lnTo>
                    <a:pt x="18862" y="5314"/>
                  </a:lnTo>
                  <a:lnTo>
                    <a:pt x="18254" y="4800"/>
                  </a:lnTo>
                  <a:lnTo>
                    <a:pt x="18254" y="4286"/>
                  </a:lnTo>
                  <a:lnTo>
                    <a:pt x="17797" y="3771"/>
                  </a:lnTo>
                  <a:lnTo>
                    <a:pt x="17797" y="3086"/>
                  </a:lnTo>
                  <a:lnTo>
                    <a:pt x="17341" y="2571"/>
                  </a:lnTo>
                  <a:lnTo>
                    <a:pt x="16885" y="2057"/>
                  </a:lnTo>
                  <a:lnTo>
                    <a:pt x="15515" y="1029"/>
                  </a:lnTo>
                  <a:lnTo>
                    <a:pt x="14603" y="514"/>
                  </a:lnTo>
                  <a:lnTo>
                    <a:pt x="13234" y="0"/>
                  </a:lnTo>
                  <a:lnTo>
                    <a:pt x="11713" y="0"/>
                  </a:lnTo>
                  <a:lnTo>
                    <a:pt x="10344" y="514"/>
                  </a:lnTo>
                  <a:lnTo>
                    <a:pt x="8975" y="1029"/>
                  </a:lnTo>
                  <a:lnTo>
                    <a:pt x="8062" y="2057"/>
                  </a:lnTo>
                  <a:lnTo>
                    <a:pt x="6693" y="3086"/>
                  </a:lnTo>
                  <a:lnTo>
                    <a:pt x="5628" y="4286"/>
                  </a:lnTo>
                  <a:lnTo>
                    <a:pt x="4715" y="5314"/>
                  </a:lnTo>
                  <a:lnTo>
                    <a:pt x="4715" y="7371"/>
                  </a:lnTo>
                  <a:lnTo>
                    <a:pt x="4259" y="9429"/>
                  </a:lnTo>
                  <a:lnTo>
                    <a:pt x="4715" y="12171"/>
                  </a:lnTo>
                  <a:lnTo>
                    <a:pt x="4715" y="14743"/>
                  </a:lnTo>
                  <a:lnTo>
                    <a:pt x="5172" y="17486"/>
                  </a:lnTo>
                  <a:lnTo>
                    <a:pt x="5172" y="20057"/>
                  </a:lnTo>
                  <a:lnTo>
                    <a:pt x="2890" y="6857"/>
                  </a:lnTo>
                  <a:lnTo>
                    <a:pt x="2434" y="7371"/>
                  </a:lnTo>
                  <a:lnTo>
                    <a:pt x="1977" y="7886"/>
                  </a:lnTo>
                  <a:lnTo>
                    <a:pt x="1521" y="7886"/>
                  </a:lnTo>
                  <a:lnTo>
                    <a:pt x="1521" y="8400"/>
                  </a:lnTo>
                  <a:lnTo>
                    <a:pt x="1065" y="8914"/>
                  </a:lnTo>
                  <a:lnTo>
                    <a:pt x="1065" y="9429"/>
                  </a:lnTo>
                  <a:lnTo>
                    <a:pt x="608" y="9943"/>
                  </a:lnTo>
                  <a:lnTo>
                    <a:pt x="608" y="10629"/>
                  </a:lnTo>
                  <a:lnTo>
                    <a:pt x="0" y="12171"/>
                  </a:lnTo>
                  <a:lnTo>
                    <a:pt x="0" y="13714"/>
                  </a:lnTo>
                  <a:lnTo>
                    <a:pt x="0" y="15257"/>
                  </a:lnTo>
                  <a:lnTo>
                    <a:pt x="608" y="16800"/>
                  </a:lnTo>
                  <a:lnTo>
                    <a:pt x="1521" y="18000"/>
                  </a:lnTo>
                  <a:lnTo>
                    <a:pt x="1977" y="19029"/>
                  </a:lnTo>
                  <a:lnTo>
                    <a:pt x="3346" y="20057"/>
                  </a:lnTo>
                  <a:lnTo>
                    <a:pt x="4715" y="21086"/>
                  </a:lnTo>
                  <a:lnTo>
                    <a:pt x="8975" y="21600"/>
                  </a:lnTo>
                  <a:lnTo>
                    <a:pt x="9887" y="21600"/>
                  </a:lnTo>
                  <a:lnTo>
                    <a:pt x="10344" y="21600"/>
                  </a:lnTo>
                  <a:lnTo>
                    <a:pt x="11256" y="21086"/>
                  </a:lnTo>
                  <a:lnTo>
                    <a:pt x="12169" y="21086"/>
                  </a:lnTo>
                  <a:lnTo>
                    <a:pt x="13234" y="21086"/>
                  </a:lnTo>
                  <a:lnTo>
                    <a:pt x="14146" y="20571"/>
                  </a:lnTo>
                  <a:lnTo>
                    <a:pt x="14603" y="20571"/>
                  </a:lnTo>
                  <a:lnTo>
                    <a:pt x="15515" y="20571"/>
                  </a:lnTo>
                  <a:lnTo>
                    <a:pt x="16885" y="20057"/>
                  </a:lnTo>
                  <a:lnTo>
                    <a:pt x="18254" y="19543"/>
                  </a:lnTo>
                  <a:lnTo>
                    <a:pt x="19318" y="18514"/>
                  </a:lnTo>
                  <a:lnTo>
                    <a:pt x="20231" y="17486"/>
                  </a:lnTo>
                  <a:lnTo>
                    <a:pt x="21144" y="15771"/>
                  </a:lnTo>
                  <a:lnTo>
                    <a:pt x="21600" y="14229"/>
                  </a:lnTo>
                  <a:lnTo>
                    <a:pt x="21600" y="13200"/>
                  </a:lnTo>
                  <a:lnTo>
                    <a:pt x="21600" y="11143"/>
                  </a:lnTo>
                  <a:close/>
                  <a:moveTo>
                    <a:pt x="21600" y="11143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9" name="AutoShape 86"/>
            <p:cNvSpPr/>
            <p:nvPr/>
          </p:nvSpPr>
          <p:spPr>
            <a:xfrm>
              <a:off x="7515360" y="3195720"/>
              <a:ext cx="137304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25" y="12577"/>
                  </a:moveTo>
                  <a:lnTo>
                    <a:pt x="21375" y="12323"/>
                  </a:lnTo>
                  <a:lnTo>
                    <a:pt x="21300" y="12154"/>
                  </a:lnTo>
                  <a:lnTo>
                    <a:pt x="21051" y="11984"/>
                  </a:lnTo>
                  <a:lnTo>
                    <a:pt x="20901" y="11872"/>
                  </a:lnTo>
                  <a:lnTo>
                    <a:pt x="20676" y="11787"/>
                  </a:lnTo>
                  <a:lnTo>
                    <a:pt x="20451" y="11702"/>
                  </a:lnTo>
                  <a:lnTo>
                    <a:pt x="20227" y="11702"/>
                  </a:lnTo>
                  <a:lnTo>
                    <a:pt x="19977" y="11787"/>
                  </a:lnTo>
                  <a:lnTo>
                    <a:pt x="19752" y="11872"/>
                  </a:lnTo>
                  <a:lnTo>
                    <a:pt x="19153" y="12154"/>
                  </a:lnTo>
                  <a:lnTo>
                    <a:pt x="18529" y="12407"/>
                  </a:lnTo>
                  <a:lnTo>
                    <a:pt x="17904" y="12661"/>
                  </a:lnTo>
                  <a:lnTo>
                    <a:pt x="17305" y="12915"/>
                  </a:lnTo>
                  <a:lnTo>
                    <a:pt x="16681" y="13197"/>
                  </a:lnTo>
                  <a:lnTo>
                    <a:pt x="16056" y="13535"/>
                  </a:lnTo>
                  <a:lnTo>
                    <a:pt x="15457" y="13789"/>
                  </a:lnTo>
                  <a:lnTo>
                    <a:pt x="14833" y="14043"/>
                  </a:lnTo>
                  <a:lnTo>
                    <a:pt x="15132" y="13789"/>
                  </a:lnTo>
                  <a:lnTo>
                    <a:pt x="15457" y="13451"/>
                  </a:lnTo>
                  <a:lnTo>
                    <a:pt x="15757" y="13197"/>
                  </a:lnTo>
                  <a:lnTo>
                    <a:pt x="16056" y="12915"/>
                  </a:lnTo>
                  <a:lnTo>
                    <a:pt x="16381" y="12661"/>
                  </a:lnTo>
                  <a:lnTo>
                    <a:pt x="16681" y="12407"/>
                  </a:lnTo>
                  <a:lnTo>
                    <a:pt x="16980" y="12238"/>
                  </a:lnTo>
                  <a:lnTo>
                    <a:pt x="17305" y="11984"/>
                  </a:lnTo>
                  <a:lnTo>
                    <a:pt x="18379" y="11026"/>
                  </a:lnTo>
                  <a:lnTo>
                    <a:pt x="18379" y="10941"/>
                  </a:lnTo>
                  <a:lnTo>
                    <a:pt x="18454" y="10856"/>
                  </a:lnTo>
                  <a:lnTo>
                    <a:pt x="18529" y="10744"/>
                  </a:lnTo>
                  <a:lnTo>
                    <a:pt x="18529" y="10659"/>
                  </a:lnTo>
                  <a:lnTo>
                    <a:pt x="18603" y="10574"/>
                  </a:lnTo>
                  <a:lnTo>
                    <a:pt x="18603" y="10405"/>
                  </a:lnTo>
                  <a:lnTo>
                    <a:pt x="18603" y="10321"/>
                  </a:lnTo>
                  <a:lnTo>
                    <a:pt x="18603" y="10236"/>
                  </a:lnTo>
                  <a:lnTo>
                    <a:pt x="18678" y="9982"/>
                  </a:lnTo>
                  <a:lnTo>
                    <a:pt x="18603" y="9728"/>
                  </a:lnTo>
                  <a:lnTo>
                    <a:pt x="18529" y="9446"/>
                  </a:lnTo>
                  <a:lnTo>
                    <a:pt x="18379" y="9277"/>
                  </a:lnTo>
                  <a:lnTo>
                    <a:pt x="18229" y="9108"/>
                  </a:lnTo>
                  <a:lnTo>
                    <a:pt x="18054" y="8939"/>
                  </a:lnTo>
                  <a:lnTo>
                    <a:pt x="17829" y="8854"/>
                  </a:lnTo>
                  <a:lnTo>
                    <a:pt x="17605" y="8770"/>
                  </a:lnTo>
                  <a:lnTo>
                    <a:pt x="17754" y="8685"/>
                  </a:lnTo>
                  <a:lnTo>
                    <a:pt x="17904" y="8488"/>
                  </a:lnTo>
                  <a:lnTo>
                    <a:pt x="17979" y="8403"/>
                  </a:lnTo>
                  <a:lnTo>
                    <a:pt x="18154" y="8234"/>
                  </a:lnTo>
                  <a:lnTo>
                    <a:pt x="18229" y="8065"/>
                  </a:lnTo>
                  <a:lnTo>
                    <a:pt x="18229" y="7811"/>
                  </a:lnTo>
                  <a:lnTo>
                    <a:pt x="18229" y="7642"/>
                  </a:lnTo>
                  <a:lnTo>
                    <a:pt x="18229" y="7473"/>
                  </a:lnTo>
                  <a:lnTo>
                    <a:pt x="18229" y="7191"/>
                  </a:lnTo>
                  <a:lnTo>
                    <a:pt x="18154" y="7021"/>
                  </a:lnTo>
                  <a:lnTo>
                    <a:pt x="17979" y="6768"/>
                  </a:lnTo>
                  <a:lnTo>
                    <a:pt x="17829" y="6598"/>
                  </a:lnTo>
                  <a:lnTo>
                    <a:pt x="17680" y="6429"/>
                  </a:lnTo>
                  <a:lnTo>
                    <a:pt x="17455" y="6345"/>
                  </a:lnTo>
                  <a:lnTo>
                    <a:pt x="17230" y="6232"/>
                  </a:lnTo>
                  <a:lnTo>
                    <a:pt x="16980" y="6232"/>
                  </a:lnTo>
                  <a:lnTo>
                    <a:pt x="16756" y="6345"/>
                  </a:lnTo>
                  <a:lnTo>
                    <a:pt x="16231" y="6514"/>
                  </a:lnTo>
                  <a:lnTo>
                    <a:pt x="15982" y="6514"/>
                  </a:lnTo>
                  <a:lnTo>
                    <a:pt x="15757" y="6598"/>
                  </a:lnTo>
                  <a:lnTo>
                    <a:pt x="15532" y="6683"/>
                  </a:lnTo>
                  <a:lnTo>
                    <a:pt x="15307" y="6768"/>
                  </a:lnTo>
                  <a:lnTo>
                    <a:pt x="15058" y="6852"/>
                  </a:lnTo>
                  <a:lnTo>
                    <a:pt x="14833" y="6937"/>
                  </a:lnTo>
                  <a:lnTo>
                    <a:pt x="14608" y="7021"/>
                  </a:lnTo>
                  <a:lnTo>
                    <a:pt x="14308" y="7106"/>
                  </a:lnTo>
                  <a:lnTo>
                    <a:pt x="14533" y="6937"/>
                  </a:lnTo>
                  <a:lnTo>
                    <a:pt x="14758" y="6768"/>
                  </a:lnTo>
                  <a:lnTo>
                    <a:pt x="14983" y="6598"/>
                  </a:lnTo>
                  <a:lnTo>
                    <a:pt x="15307" y="6514"/>
                  </a:lnTo>
                  <a:lnTo>
                    <a:pt x="15532" y="6345"/>
                  </a:lnTo>
                  <a:lnTo>
                    <a:pt x="15757" y="6147"/>
                  </a:lnTo>
                  <a:lnTo>
                    <a:pt x="15982" y="5978"/>
                  </a:lnTo>
                  <a:lnTo>
                    <a:pt x="16231" y="5809"/>
                  </a:lnTo>
                  <a:lnTo>
                    <a:pt x="16831" y="5019"/>
                  </a:lnTo>
                  <a:lnTo>
                    <a:pt x="16905" y="4850"/>
                  </a:lnTo>
                  <a:lnTo>
                    <a:pt x="16980" y="4681"/>
                  </a:lnTo>
                  <a:lnTo>
                    <a:pt x="17055" y="4596"/>
                  </a:lnTo>
                  <a:lnTo>
                    <a:pt x="17055" y="4427"/>
                  </a:lnTo>
                  <a:lnTo>
                    <a:pt x="17055" y="4258"/>
                  </a:lnTo>
                  <a:lnTo>
                    <a:pt x="17055" y="4089"/>
                  </a:lnTo>
                  <a:lnTo>
                    <a:pt x="17055" y="3891"/>
                  </a:lnTo>
                  <a:lnTo>
                    <a:pt x="16980" y="3807"/>
                  </a:lnTo>
                  <a:lnTo>
                    <a:pt x="16980" y="3638"/>
                  </a:lnTo>
                  <a:lnTo>
                    <a:pt x="16831" y="3384"/>
                  </a:lnTo>
                  <a:lnTo>
                    <a:pt x="16756" y="3215"/>
                  </a:lnTo>
                  <a:lnTo>
                    <a:pt x="16606" y="3045"/>
                  </a:lnTo>
                  <a:lnTo>
                    <a:pt x="16381" y="2848"/>
                  </a:lnTo>
                  <a:lnTo>
                    <a:pt x="16131" y="2763"/>
                  </a:lnTo>
                  <a:lnTo>
                    <a:pt x="15982" y="2763"/>
                  </a:lnTo>
                  <a:lnTo>
                    <a:pt x="15757" y="2763"/>
                  </a:lnTo>
                  <a:lnTo>
                    <a:pt x="15532" y="2763"/>
                  </a:lnTo>
                  <a:lnTo>
                    <a:pt x="15058" y="2961"/>
                  </a:lnTo>
                  <a:lnTo>
                    <a:pt x="14608" y="3130"/>
                  </a:lnTo>
                  <a:lnTo>
                    <a:pt x="14134" y="3299"/>
                  </a:lnTo>
                  <a:lnTo>
                    <a:pt x="13759" y="3468"/>
                  </a:lnTo>
                  <a:lnTo>
                    <a:pt x="13310" y="3638"/>
                  </a:lnTo>
                  <a:lnTo>
                    <a:pt x="12910" y="3807"/>
                  </a:lnTo>
                  <a:lnTo>
                    <a:pt x="12461" y="3976"/>
                  </a:lnTo>
                  <a:lnTo>
                    <a:pt x="11986" y="4173"/>
                  </a:lnTo>
                  <a:lnTo>
                    <a:pt x="11612" y="4343"/>
                  </a:lnTo>
                  <a:lnTo>
                    <a:pt x="11686" y="4258"/>
                  </a:lnTo>
                  <a:lnTo>
                    <a:pt x="11836" y="4173"/>
                  </a:lnTo>
                  <a:lnTo>
                    <a:pt x="11911" y="4089"/>
                  </a:lnTo>
                  <a:lnTo>
                    <a:pt x="12061" y="3976"/>
                  </a:lnTo>
                  <a:lnTo>
                    <a:pt x="12136" y="3891"/>
                  </a:lnTo>
                  <a:lnTo>
                    <a:pt x="12311" y="3807"/>
                  </a:lnTo>
                  <a:lnTo>
                    <a:pt x="12386" y="3722"/>
                  </a:lnTo>
                  <a:lnTo>
                    <a:pt x="12535" y="3638"/>
                  </a:lnTo>
                  <a:lnTo>
                    <a:pt x="13759" y="2425"/>
                  </a:lnTo>
                  <a:lnTo>
                    <a:pt x="13834" y="2256"/>
                  </a:lnTo>
                  <a:lnTo>
                    <a:pt x="13909" y="2171"/>
                  </a:lnTo>
                  <a:lnTo>
                    <a:pt x="13984" y="2002"/>
                  </a:lnTo>
                  <a:lnTo>
                    <a:pt x="14059" y="1833"/>
                  </a:lnTo>
                  <a:lnTo>
                    <a:pt x="14059" y="1636"/>
                  </a:lnTo>
                  <a:lnTo>
                    <a:pt x="14059" y="1466"/>
                  </a:lnTo>
                  <a:lnTo>
                    <a:pt x="14059" y="1297"/>
                  </a:lnTo>
                  <a:lnTo>
                    <a:pt x="13984" y="1128"/>
                  </a:lnTo>
                  <a:lnTo>
                    <a:pt x="13909" y="874"/>
                  </a:lnTo>
                  <a:lnTo>
                    <a:pt x="13759" y="592"/>
                  </a:lnTo>
                  <a:lnTo>
                    <a:pt x="13609" y="423"/>
                  </a:lnTo>
                  <a:lnTo>
                    <a:pt x="13385" y="338"/>
                  </a:lnTo>
                  <a:lnTo>
                    <a:pt x="13135" y="254"/>
                  </a:lnTo>
                  <a:lnTo>
                    <a:pt x="12910" y="254"/>
                  </a:lnTo>
                  <a:lnTo>
                    <a:pt x="12685" y="254"/>
                  </a:lnTo>
                  <a:lnTo>
                    <a:pt x="12461" y="338"/>
                  </a:lnTo>
                  <a:lnTo>
                    <a:pt x="11986" y="508"/>
                  </a:lnTo>
                  <a:lnTo>
                    <a:pt x="11612" y="705"/>
                  </a:lnTo>
                  <a:lnTo>
                    <a:pt x="11237" y="874"/>
                  </a:lnTo>
                  <a:lnTo>
                    <a:pt x="10837" y="959"/>
                  </a:lnTo>
                  <a:lnTo>
                    <a:pt x="10463" y="1128"/>
                  </a:lnTo>
                  <a:lnTo>
                    <a:pt x="10138" y="1297"/>
                  </a:lnTo>
                  <a:lnTo>
                    <a:pt x="9764" y="1466"/>
                  </a:lnTo>
                  <a:lnTo>
                    <a:pt x="9389" y="1551"/>
                  </a:lnTo>
                  <a:lnTo>
                    <a:pt x="8990" y="1720"/>
                  </a:lnTo>
                  <a:lnTo>
                    <a:pt x="9065" y="1551"/>
                  </a:lnTo>
                  <a:lnTo>
                    <a:pt x="9065" y="1382"/>
                  </a:lnTo>
                  <a:lnTo>
                    <a:pt x="9065" y="1213"/>
                  </a:lnTo>
                  <a:lnTo>
                    <a:pt x="9065" y="1043"/>
                  </a:lnTo>
                  <a:lnTo>
                    <a:pt x="8990" y="874"/>
                  </a:lnTo>
                  <a:lnTo>
                    <a:pt x="8915" y="705"/>
                  </a:lnTo>
                  <a:lnTo>
                    <a:pt x="8840" y="508"/>
                  </a:lnTo>
                  <a:lnTo>
                    <a:pt x="8765" y="338"/>
                  </a:lnTo>
                  <a:lnTo>
                    <a:pt x="8540" y="169"/>
                  </a:lnTo>
                  <a:lnTo>
                    <a:pt x="8390" y="85"/>
                  </a:lnTo>
                  <a:lnTo>
                    <a:pt x="8141" y="0"/>
                  </a:lnTo>
                  <a:lnTo>
                    <a:pt x="7916" y="0"/>
                  </a:lnTo>
                  <a:lnTo>
                    <a:pt x="7691" y="0"/>
                  </a:lnTo>
                  <a:lnTo>
                    <a:pt x="7466" y="85"/>
                  </a:lnTo>
                  <a:lnTo>
                    <a:pt x="7317" y="169"/>
                  </a:lnTo>
                  <a:lnTo>
                    <a:pt x="7067" y="338"/>
                  </a:lnTo>
                  <a:lnTo>
                    <a:pt x="6468" y="790"/>
                  </a:lnTo>
                  <a:lnTo>
                    <a:pt x="5843" y="1297"/>
                  </a:lnTo>
                  <a:lnTo>
                    <a:pt x="5219" y="1720"/>
                  </a:lnTo>
                  <a:lnTo>
                    <a:pt x="4695" y="2256"/>
                  </a:lnTo>
                  <a:lnTo>
                    <a:pt x="4070" y="2763"/>
                  </a:lnTo>
                  <a:lnTo>
                    <a:pt x="3471" y="3299"/>
                  </a:lnTo>
                  <a:lnTo>
                    <a:pt x="2922" y="3807"/>
                  </a:lnTo>
                  <a:lnTo>
                    <a:pt x="2322" y="4343"/>
                  </a:lnTo>
                  <a:lnTo>
                    <a:pt x="2148" y="4512"/>
                  </a:lnTo>
                  <a:lnTo>
                    <a:pt x="2073" y="4681"/>
                  </a:lnTo>
                  <a:lnTo>
                    <a:pt x="1923" y="4766"/>
                  </a:lnTo>
                  <a:lnTo>
                    <a:pt x="1848" y="4935"/>
                  </a:lnTo>
                  <a:lnTo>
                    <a:pt x="1848" y="5104"/>
                  </a:lnTo>
                  <a:lnTo>
                    <a:pt x="1773" y="5301"/>
                  </a:lnTo>
                  <a:lnTo>
                    <a:pt x="1773" y="5470"/>
                  </a:lnTo>
                  <a:lnTo>
                    <a:pt x="1773" y="5640"/>
                  </a:lnTo>
                  <a:lnTo>
                    <a:pt x="1773" y="5809"/>
                  </a:lnTo>
                  <a:lnTo>
                    <a:pt x="1848" y="6063"/>
                  </a:lnTo>
                  <a:lnTo>
                    <a:pt x="1998" y="6232"/>
                  </a:lnTo>
                  <a:lnTo>
                    <a:pt x="2148" y="6514"/>
                  </a:lnTo>
                  <a:lnTo>
                    <a:pt x="2322" y="6598"/>
                  </a:lnTo>
                  <a:lnTo>
                    <a:pt x="2472" y="6768"/>
                  </a:lnTo>
                  <a:lnTo>
                    <a:pt x="2697" y="6852"/>
                  </a:lnTo>
                  <a:lnTo>
                    <a:pt x="2922" y="6852"/>
                  </a:lnTo>
                  <a:lnTo>
                    <a:pt x="3146" y="6768"/>
                  </a:lnTo>
                  <a:lnTo>
                    <a:pt x="3621" y="6683"/>
                  </a:lnTo>
                  <a:lnTo>
                    <a:pt x="3321" y="6937"/>
                  </a:lnTo>
                  <a:lnTo>
                    <a:pt x="2922" y="7106"/>
                  </a:lnTo>
                  <a:lnTo>
                    <a:pt x="2622" y="7360"/>
                  </a:lnTo>
                  <a:lnTo>
                    <a:pt x="2322" y="7642"/>
                  </a:lnTo>
                  <a:lnTo>
                    <a:pt x="1998" y="7896"/>
                  </a:lnTo>
                  <a:lnTo>
                    <a:pt x="1698" y="8149"/>
                  </a:lnTo>
                  <a:lnTo>
                    <a:pt x="1398" y="8403"/>
                  </a:lnTo>
                  <a:lnTo>
                    <a:pt x="1074" y="8685"/>
                  </a:lnTo>
                  <a:lnTo>
                    <a:pt x="774" y="8939"/>
                  </a:lnTo>
                  <a:lnTo>
                    <a:pt x="699" y="9023"/>
                  </a:lnTo>
                  <a:lnTo>
                    <a:pt x="549" y="9193"/>
                  </a:lnTo>
                  <a:lnTo>
                    <a:pt x="474" y="9362"/>
                  </a:lnTo>
                  <a:lnTo>
                    <a:pt x="400" y="9531"/>
                  </a:lnTo>
                  <a:lnTo>
                    <a:pt x="400" y="9813"/>
                  </a:lnTo>
                  <a:lnTo>
                    <a:pt x="300" y="9982"/>
                  </a:lnTo>
                  <a:lnTo>
                    <a:pt x="400" y="10151"/>
                  </a:lnTo>
                  <a:lnTo>
                    <a:pt x="400" y="10405"/>
                  </a:lnTo>
                  <a:lnTo>
                    <a:pt x="474" y="10490"/>
                  </a:lnTo>
                  <a:lnTo>
                    <a:pt x="474" y="10574"/>
                  </a:lnTo>
                  <a:lnTo>
                    <a:pt x="549" y="10659"/>
                  </a:lnTo>
                  <a:lnTo>
                    <a:pt x="549" y="10744"/>
                  </a:lnTo>
                  <a:lnTo>
                    <a:pt x="624" y="10744"/>
                  </a:lnTo>
                  <a:lnTo>
                    <a:pt x="624" y="10856"/>
                  </a:lnTo>
                  <a:lnTo>
                    <a:pt x="699" y="10941"/>
                  </a:lnTo>
                  <a:lnTo>
                    <a:pt x="624" y="11026"/>
                  </a:lnTo>
                  <a:lnTo>
                    <a:pt x="549" y="11110"/>
                  </a:lnTo>
                  <a:lnTo>
                    <a:pt x="474" y="11195"/>
                  </a:lnTo>
                  <a:lnTo>
                    <a:pt x="400" y="11364"/>
                  </a:lnTo>
                  <a:lnTo>
                    <a:pt x="300" y="11449"/>
                  </a:lnTo>
                  <a:lnTo>
                    <a:pt x="225" y="11533"/>
                  </a:lnTo>
                  <a:lnTo>
                    <a:pt x="150" y="11618"/>
                  </a:lnTo>
                  <a:lnTo>
                    <a:pt x="150" y="11787"/>
                  </a:lnTo>
                  <a:lnTo>
                    <a:pt x="225" y="11364"/>
                  </a:lnTo>
                  <a:lnTo>
                    <a:pt x="75" y="11533"/>
                  </a:lnTo>
                  <a:lnTo>
                    <a:pt x="0" y="11702"/>
                  </a:lnTo>
                  <a:lnTo>
                    <a:pt x="0" y="11984"/>
                  </a:lnTo>
                  <a:lnTo>
                    <a:pt x="0" y="12154"/>
                  </a:lnTo>
                  <a:lnTo>
                    <a:pt x="0" y="12407"/>
                  </a:lnTo>
                  <a:lnTo>
                    <a:pt x="0" y="12577"/>
                  </a:lnTo>
                  <a:lnTo>
                    <a:pt x="75" y="12830"/>
                  </a:lnTo>
                  <a:lnTo>
                    <a:pt x="225" y="12999"/>
                  </a:lnTo>
                  <a:lnTo>
                    <a:pt x="300" y="13112"/>
                  </a:lnTo>
                  <a:lnTo>
                    <a:pt x="400" y="13281"/>
                  </a:lnTo>
                  <a:lnTo>
                    <a:pt x="549" y="13366"/>
                  </a:lnTo>
                  <a:lnTo>
                    <a:pt x="699" y="13451"/>
                  </a:lnTo>
                  <a:lnTo>
                    <a:pt x="774" y="13535"/>
                  </a:lnTo>
                  <a:lnTo>
                    <a:pt x="924" y="13620"/>
                  </a:lnTo>
                  <a:lnTo>
                    <a:pt x="1074" y="13620"/>
                  </a:lnTo>
                  <a:lnTo>
                    <a:pt x="1224" y="13620"/>
                  </a:lnTo>
                  <a:lnTo>
                    <a:pt x="1398" y="13620"/>
                  </a:lnTo>
                  <a:lnTo>
                    <a:pt x="1923" y="13535"/>
                  </a:lnTo>
                  <a:lnTo>
                    <a:pt x="1998" y="13535"/>
                  </a:lnTo>
                  <a:lnTo>
                    <a:pt x="2073" y="13535"/>
                  </a:lnTo>
                  <a:lnTo>
                    <a:pt x="2148" y="13535"/>
                  </a:lnTo>
                  <a:lnTo>
                    <a:pt x="2222" y="13535"/>
                  </a:lnTo>
                  <a:lnTo>
                    <a:pt x="2322" y="13704"/>
                  </a:lnTo>
                  <a:lnTo>
                    <a:pt x="2322" y="13874"/>
                  </a:lnTo>
                  <a:lnTo>
                    <a:pt x="2472" y="13958"/>
                  </a:lnTo>
                  <a:lnTo>
                    <a:pt x="2547" y="14127"/>
                  </a:lnTo>
                  <a:lnTo>
                    <a:pt x="2697" y="14240"/>
                  </a:lnTo>
                  <a:lnTo>
                    <a:pt x="2772" y="14325"/>
                  </a:lnTo>
                  <a:lnTo>
                    <a:pt x="2922" y="14409"/>
                  </a:lnTo>
                  <a:lnTo>
                    <a:pt x="3071" y="14409"/>
                  </a:lnTo>
                  <a:lnTo>
                    <a:pt x="2922" y="14579"/>
                  </a:lnTo>
                  <a:lnTo>
                    <a:pt x="2697" y="14748"/>
                  </a:lnTo>
                  <a:lnTo>
                    <a:pt x="2547" y="14917"/>
                  </a:lnTo>
                  <a:lnTo>
                    <a:pt x="2322" y="15086"/>
                  </a:lnTo>
                  <a:lnTo>
                    <a:pt x="2148" y="15255"/>
                  </a:lnTo>
                  <a:lnTo>
                    <a:pt x="1998" y="15537"/>
                  </a:lnTo>
                  <a:lnTo>
                    <a:pt x="1773" y="15707"/>
                  </a:lnTo>
                  <a:lnTo>
                    <a:pt x="1623" y="15876"/>
                  </a:lnTo>
                  <a:lnTo>
                    <a:pt x="1398" y="16130"/>
                  </a:lnTo>
                  <a:lnTo>
                    <a:pt x="1298" y="16214"/>
                  </a:lnTo>
                  <a:lnTo>
                    <a:pt x="1224" y="16299"/>
                  </a:lnTo>
                  <a:lnTo>
                    <a:pt x="1224" y="16383"/>
                  </a:lnTo>
                  <a:lnTo>
                    <a:pt x="1149" y="16496"/>
                  </a:lnTo>
                  <a:lnTo>
                    <a:pt x="1149" y="16665"/>
                  </a:lnTo>
                  <a:lnTo>
                    <a:pt x="1074" y="16750"/>
                  </a:lnTo>
                  <a:lnTo>
                    <a:pt x="1074" y="16834"/>
                  </a:lnTo>
                  <a:lnTo>
                    <a:pt x="1074" y="16919"/>
                  </a:lnTo>
                  <a:lnTo>
                    <a:pt x="1074" y="17173"/>
                  </a:lnTo>
                  <a:lnTo>
                    <a:pt x="1149" y="17427"/>
                  </a:lnTo>
                  <a:lnTo>
                    <a:pt x="1224" y="17709"/>
                  </a:lnTo>
                  <a:lnTo>
                    <a:pt x="1398" y="17878"/>
                  </a:lnTo>
                  <a:lnTo>
                    <a:pt x="1548" y="18047"/>
                  </a:lnTo>
                  <a:lnTo>
                    <a:pt x="1698" y="18216"/>
                  </a:lnTo>
                  <a:lnTo>
                    <a:pt x="1923" y="18301"/>
                  </a:lnTo>
                  <a:lnTo>
                    <a:pt x="2148" y="18301"/>
                  </a:lnTo>
                  <a:lnTo>
                    <a:pt x="2772" y="18301"/>
                  </a:lnTo>
                  <a:lnTo>
                    <a:pt x="3071" y="18216"/>
                  </a:lnTo>
                  <a:lnTo>
                    <a:pt x="3396" y="18132"/>
                  </a:lnTo>
                  <a:lnTo>
                    <a:pt x="3621" y="18047"/>
                  </a:lnTo>
                  <a:lnTo>
                    <a:pt x="3920" y="17962"/>
                  </a:lnTo>
                  <a:lnTo>
                    <a:pt x="4220" y="17878"/>
                  </a:lnTo>
                  <a:lnTo>
                    <a:pt x="4545" y="17793"/>
                  </a:lnTo>
                  <a:lnTo>
                    <a:pt x="4844" y="17709"/>
                  </a:lnTo>
                  <a:lnTo>
                    <a:pt x="5069" y="17624"/>
                  </a:lnTo>
                  <a:lnTo>
                    <a:pt x="5069" y="17709"/>
                  </a:lnTo>
                  <a:lnTo>
                    <a:pt x="4994" y="17793"/>
                  </a:lnTo>
                  <a:lnTo>
                    <a:pt x="4919" y="17878"/>
                  </a:lnTo>
                  <a:lnTo>
                    <a:pt x="4844" y="17878"/>
                  </a:lnTo>
                  <a:lnTo>
                    <a:pt x="4769" y="17962"/>
                  </a:lnTo>
                  <a:lnTo>
                    <a:pt x="4695" y="18047"/>
                  </a:lnTo>
                  <a:lnTo>
                    <a:pt x="4620" y="18132"/>
                  </a:lnTo>
                  <a:lnTo>
                    <a:pt x="4545" y="18216"/>
                  </a:lnTo>
                  <a:lnTo>
                    <a:pt x="4395" y="18385"/>
                  </a:lnTo>
                  <a:lnTo>
                    <a:pt x="4220" y="18470"/>
                  </a:lnTo>
                  <a:lnTo>
                    <a:pt x="4145" y="18639"/>
                  </a:lnTo>
                  <a:lnTo>
                    <a:pt x="4070" y="18837"/>
                  </a:lnTo>
                  <a:lnTo>
                    <a:pt x="3995" y="19090"/>
                  </a:lnTo>
                  <a:lnTo>
                    <a:pt x="3995" y="19260"/>
                  </a:lnTo>
                  <a:lnTo>
                    <a:pt x="3995" y="19429"/>
                  </a:lnTo>
                  <a:lnTo>
                    <a:pt x="3995" y="19598"/>
                  </a:lnTo>
                  <a:lnTo>
                    <a:pt x="4070" y="19880"/>
                  </a:lnTo>
                  <a:lnTo>
                    <a:pt x="4145" y="20049"/>
                  </a:lnTo>
                  <a:lnTo>
                    <a:pt x="4320" y="20303"/>
                  </a:lnTo>
                  <a:lnTo>
                    <a:pt x="4470" y="20472"/>
                  </a:lnTo>
                  <a:lnTo>
                    <a:pt x="4695" y="20557"/>
                  </a:lnTo>
                  <a:lnTo>
                    <a:pt x="4919" y="20641"/>
                  </a:lnTo>
                  <a:lnTo>
                    <a:pt x="5144" y="20641"/>
                  </a:lnTo>
                  <a:lnTo>
                    <a:pt x="5319" y="20641"/>
                  </a:lnTo>
                  <a:lnTo>
                    <a:pt x="5544" y="20557"/>
                  </a:lnTo>
                  <a:lnTo>
                    <a:pt x="5993" y="20387"/>
                  </a:lnTo>
                  <a:lnTo>
                    <a:pt x="6068" y="20387"/>
                  </a:lnTo>
                  <a:lnTo>
                    <a:pt x="6143" y="20387"/>
                  </a:lnTo>
                  <a:lnTo>
                    <a:pt x="6143" y="20303"/>
                  </a:lnTo>
                  <a:lnTo>
                    <a:pt x="6318" y="20472"/>
                  </a:lnTo>
                  <a:lnTo>
                    <a:pt x="6468" y="20557"/>
                  </a:lnTo>
                  <a:lnTo>
                    <a:pt x="6617" y="20641"/>
                  </a:lnTo>
                  <a:lnTo>
                    <a:pt x="6767" y="20641"/>
                  </a:lnTo>
                  <a:lnTo>
                    <a:pt x="6992" y="20641"/>
                  </a:lnTo>
                  <a:lnTo>
                    <a:pt x="7142" y="20641"/>
                  </a:lnTo>
                  <a:lnTo>
                    <a:pt x="7317" y="20641"/>
                  </a:lnTo>
                  <a:lnTo>
                    <a:pt x="7541" y="20557"/>
                  </a:lnTo>
                  <a:lnTo>
                    <a:pt x="7541" y="20472"/>
                  </a:lnTo>
                  <a:lnTo>
                    <a:pt x="8215" y="20049"/>
                  </a:lnTo>
                  <a:lnTo>
                    <a:pt x="8315" y="19964"/>
                  </a:lnTo>
                  <a:lnTo>
                    <a:pt x="8390" y="19964"/>
                  </a:lnTo>
                  <a:lnTo>
                    <a:pt x="8465" y="19880"/>
                  </a:lnTo>
                  <a:lnTo>
                    <a:pt x="8390" y="19964"/>
                  </a:lnTo>
                  <a:lnTo>
                    <a:pt x="8390" y="20049"/>
                  </a:lnTo>
                  <a:lnTo>
                    <a:pt x="8390" y="20134"/>
                  </a:lnTo>
                  <a:lnTo>
                    <a:pt x="8390" y="20218"/>
                  </a:lnTo>
                  <a:lnTo>
                    <a:pt x="8390" y="20303"/>
                  </a:lnTo>
                  <a:lnTo>
                    <a:pt x="8390" y="20387"/>
                  </a:lnTo>
                  <a:lnTo>
                    <a:pt x="8390" y="20472"/>
                  </a:lnTo>
                  <a:lnTo>
                    <a:pt x="8465" y="20726"/>
                  </a:lnTo>
                  <a:lnTo>
                    <a:pt x="8540" y="21008"/>
                  </a:lnTo>
                  <a:lnTo>
                    <a:pt x="8690" y="21177"/>
                  </a:lnTo>
                  <a:lnTo>
                    <a:pt x="8840" y="21346"/>
                  </a:lnTo>
                  <a:lnTo>
                    <a:pt x="8990" y="21515"/>
                  </a:lnTo>
                  <a:lnTo>
                    <a:pt x="9214" y="21600"/>
                  </a:lnTo>
                  <a:lnTo>
                    <a:pt x="9464" y="21600"/>
                  </a:lnTo>
                  <a:lnTo>
                    <a:pt x="9689" y="21600"/>
                  </a:lnTo>
                  <a:lnTo>
                    <a:pt x="9988" y="21600"/>
                  </a:lnTo>
                  <a:lnTo>
                    <a:pt x="10238" y="21515"/>
                  </a:lnTo>
                  <a:lnTo>
                    <a:pt x="10463" y="21431"/>
                  </a:lnTo>
                  <a:lnTo>
                    <a:pt x="10763" y="21346"/>
                  </a:lnTo>
                  <a:lnTo>
                    <a:pt x="10987" y="21346"/>
                  </a:lnTo>
                  <a:lnTo>
                    <a:pt x="11237" y="21262"/>
                  </a:lnTo>
                  <a:lnTo>
                    <a:pt x="11537" y="21262"/>
                  </a:lnTo>
                  <a:lnTo>
                    <a:pt x="11761" y="21177"/>
                  </a:lnTo>
                  <a:lnTo>
                    <a:pt x="12061" y="21092"/>
                  </a:lnTo>
                  <a:lnTo>
                    <a:pt x="12136" y="21092"/>
                  </a:lnTo>
                  <a:lnTo>
                    <a:pt x="12236" y="21092"/>
                  </a:lnTo>
                  <a:lnTo>
                    <a:pt x="12311" y="21008"/>
                  </a:lnTo>
                  <a:lnTo>
                    <a:pt x="12386" y="21008"/>
                  </a:lnTo>
                  <a:lnTo>
                    <a:pt x="12461" y="20895"/>
                  </a:lnTo>
                  <a:lnTo>
                    <a:pt x="12610" y="21092"/>
                  </a:lnTo>
                  <a:lnTo>
                    <a:pt x="12835" y="21177"/>
                  </a:lnTo>
                  <a:lnTo>
                    <a:pt x="12985" y="21262"/>
                  </a:lnTo>
                  <a:lnTo>
                    <a:pt x="13235" y="21346"/>
                  </a:lnTo>
                  <a:lnTo>
                    <a:pt x="13459" y="21346"/>
                  </a:lnTo>
                  <a:lnTo>
                    <a:pt x="13609" y="21262"/>
                  </a:lnTo>
                  <a:lnTo>
                    <a:pt x="13834" y="21177"/>
                  </a:lnTo>
                  <a:lnTo>
                    <a:pt x="13984" y="21008"/>
                  </a:lnTo>
                  <a:lnTo>
                    <a:pt x="14833" y="20218"/>
                  </a:lnTo>
                  <a:lnTo>
                    <a:pt x="15682" y="19344"/>
                  </a:lnTo>
                  <a:lnTo>
                    <a:pt x="16456" y="18555"/>
                  </a:lnTo>
                  <a:lnTo>
                    <a:pt x="17305" y="17793"/>
                  </a:lnTo>
                  <a:lnTo>
                    <a:pt x="18154" y="17004"/>
                  </a:lnTo>
                  <a:lnTo>
                    <a:pt x="18978" y="16214"/>
                  </a:lnTo>
                  <a:lnTo>
                    <a:pt x="19827" y="15453"/>
                  </a:lnTo>
                  <a:lnTo>
                    <a:pt x="20676" y="14663"/>
                  </a:lnTo>
                  <a:lnTo>
                    <a:pt x="21450" y="13620"/>
                  </a:lnTo>
                  <a:lnTo>
                    <a:pt x="21525" y="13451"/>
                  </a:lnTo>
                  <a:lnTo>
                    <a:pt x="21525" y="13366"/>
                  </a:lnTo>
                  <a:lnTo>
                    <a:pt x="21525" y="13281"/>
                  </a:lnTo>
                  <a:lnTo>
                    <a:pt x="21600" y="13112"/>
                  </a:lnTo>
                  <a:lnTo>
                    <a:pt x="21600" y="12999"/>
                  </a:lnTo>
                  <a:lnTo>
                    <a:pt x="21525" y="12830"/>
                  </a:lnTo>
                  <a:lnTo>
                    <a:pt x="21525" y="12746"/>
                  </a:lnTo>
                  <a:lnTo>
                    <a:pt x="21525" y="12577"/>
                  </a:lnTo>
                  <a:close/>
                  <a:moveTo>
                    <a:pt x="10688" y="14409"/>
                  </a:moveTo>
                  <a:lnTo>
                    <a:pt x="10688" y="14409"/>
                  </a:lnTo>
                  <a:lnTo>
                    <a:pt x="10613" y="14325"/>
                  </a:lnTo>
                  <a:lnTo>
                    <a:pt x="10538" y="14240"/>
                  </a:lnTo>
                  <a:lnTo>
                    <a:pt x="10613" y="14127"/>
                  </a:lnTo>
                  <a:lnTo>
                    <a:pt x="10688" y="14127"/>
                  </a:lnTo>
                  <a:lnTo>
                    <a:pt x="10763" y="14127"/>
                  </a:lnTo>
                  <a:lnTo>
                    <a:pt x="10837" y="14043"/>
                  </a:lnTo>
                  <a:lnTo>
                    <a:pt x="10912" y="14043"/>
                  </a:lnTo>
                  <a:lnTo>
                    <a:pt x="10987" y="13958"/>
                  </a:lnTo>
                  <a:lnTo>
                    <a:pt x="11062" y="13958"/>
                  </a:lnTo>
                  <a:lnTo>
                    <a:pt x="11237" y="13874"/>
                  </a:lnTo>
                  <a:lnTo>
                    <a:pt x="11137" y="13958"/>
                  </a:lnTo>
                  <a:lnTo>
                    <a:pt x="11062" y="14043"/>
                  </a:lnTo>
                  <a:lnTo>
                    <a:pt x="10987" y="14043"/>
                  </a:lnTo>
                  <a:lnTo>
                    <a:pt x="10912" y="14127"/>
                  </a:lnTo>
                  <a:lnTo>
                    <a:pt x="10837" y="14240"/>
                  </a:lnTo>
                  <a:lnTo>
                    <a:pt x="10763" y="14240"/>
                  </a:lnTo>
                  <a:lnTo>
                    <a:pt x="10763" y="14325"/>
                  </a:lnTo>
                  <a:lnTo>
                    <a:pt x="10688" y="14409"/>
                  </a:lnTo>
                  <a:close/>
                  <a:moveTo>
                    <a:pt x="7391" y="8685"/>
                  </a:moveTo>
                  <a:lnTo>
                    <a:pt x="7317" y="8770"/>
                  </a:lnTo>
                  <a:lnTo>
                    <a:pt x="7217" y="8854"/>
                  </a:lnTo>
                  <a:lnTo>
                    <a:pt x="7142" y="8939"/>
                  </a:lnTo>
                  <a:lnTo>
                    <a:pt x="6992" y="8939"/>
                  </a:lnTo>
                  <a:lnTo>
                    <a:pt x="6917" y="9023"/>
                  </a:lnTo>
                  <a:lnTo>
                    <a:pt x="6842" y="9108"/>
                  </a:lnTo>
                  <a:lnTo>
                    <a:pt x="6767" y="9193"/>
                  </a:lnTo>
                  <a:lnTo>
                    <a:pt x="6617" y="9193"/>
                  </a:lnTo>
                  <a:lnTo>
                    <a:pt x="6542" y="9277"/>
                  </a:lnTo>
                  <a:lnTo>
                    <a:pt x="6393" y="9362"/>
                  </a:lnTo>
                  <a:lnTo>
                    <a:pt x="6218" y="9446"/>
                  </a:lnTo>
                  <a:lnTo>
                    <a:pt x="6143" y="9531"/>
                  </a:lnTo>
                  <a:lnTo>
                    <a:pt x="5993" y="9616"/>
                  </a:lnTo>
                  <a:lnTo>
                    <a:pt x="5918" y="9728"/>
                  </a:lnTo>
                  <a:lnTo>
                    <a:pt x="5768" y="9813"/>
                  </a:lnTo>
                  <a:lnTo>
                    <a:pt x="5618" y="9898"/>
                  </a:lnTo>
                  <a:lnTo>
                    <a:pt x="5693" y="9898"/>
                  </a:lnTo>
                  <a:lnTo>
                    <a:pt x="5693" y="9813"/>
                  </a:lnTo>
                  <a:lnTo>
                    <a:pt x="5768" y="9728"/>
                  </a:lnTo>
                  <a:lnTo>
                    <a:pt x="5768" y="9616"/>
                  </a:lnTo>
                  <a:lnTo>
                    <a:pt x="5768" y="9531"/>
                  </a:lnTo>
                  <a:lnTo>
                    <a:pt x="5768" y="9446"/>
                  </a:lnTo>
                  <a:lnTo>
                    <a:pt x="5843" y="9362"/>
                  </a:lnTo>
                  <a:lnTo>
                    <a:pt x="5993" y="9277"/>
                  </a:lnTo>
                  <a:lnTo>
                    <a:pt x="6218" y="9193"/>
                  </a:lnTo>
                  <a:lnTo>
                    <a:pt x="6393" y="9108"/>
                  </a:lnTo>
                  <a:lnTo>
                    <a:pt x="6617" y="9023"/>
                  </a:lnTo>
                  <a:lnTo>
                    <a:pt x="6767" y="8939"/>
                  </a:lnTo>
                  <a:lnTo>
                    <a:pt x="6992" y="8854"/>
                  </a:lnTo>
                  <a:lnTo>
                    <a:pt x="7217" y="8770"/>
                  </a:lnTo>
                  <a:lnTo>
                    <a:pt x="7391" y="8685"/>
                  </a:lnTo>
                  <a:close/>
                  <a:moveTo>
                    <a:pt x="12760" y="18752"/>
                  </a:moveTo>
                  <a:lnTo>
                    <a:pt x="13385" y="17793"/>
                  </a:lnTo>
                  <a:lnTo>
                    <a:pt x="13385" y="17709"/>
                  </a:lnTo>
                  <a:lnTo>
                    <a:pt x="13459" y="17624"/>
                  </a:lnTo>
                  <a:lnTo>
                    <a:pt x="13459" y="17511"/>
                  </a:lnTo>
                  <a:lnTo>
                    <a:pt x="13459" y="17427"/>
                  </a:lnTo>
                  <a:lnTo>
                    <a:pt x="13609" y="17342"/>
                  </a:lnTo>
                  <a:lnTo>
                    <a:pt x="13759" y="17342"/>
                  </a:lnTo>
                  <a:lnTo>
                    <a:pt x="13834" y="17257"/>
                  </a:lnTo>
                  <a:lnTo>
                    <a:pt x="13984" y="17173"/>
                  </a:lnTo>
                  <a:lnTo>
                    <a:pt x="14134" y="17173"/>
                  </a:lnTo>
                  <a:lnTo>
                    <a:pt x="14308" y="17088"/>
                  </a:lnTo>
                  <a:lnTo>
                    <a:pt x="14458" y="17004"/>
                  </a:lnTo>
                  <a:lnTo>
                    <a:pt x="14533" y="17004"/>
                  </a:lnTo>
                  <a:lnTo>
                    <a:pt x="14308" y="17173"/>
                  </a:lnTo>
                  <a:lnTo>
                    <a:pt x="14134" y="17342"/>
                  </a:lnTo>
                  <a:lnTo>
                    <a:pt x="13909" y="17624"/>
                  </a:lnTo>
                  <a:lnTo>
                    <a:pt x="13684" y="17793"/>
                  </a:lnTo>
                  <a:lnTo>
                    <a:pt x="13459" y="18047"/>
                  </a:lnTo>
                  <a:lnTo>
                    <a:pt x="13235" y="18216"/>
                  </a:lnTo>
                  <a:lnTo>
                    <a:pt x="12985" y="18470"/>
                  </a:lnTo>
                  <a:lnTo>
                    <a:pt x="12760" y="18752"/>
                  </a:lnTo>
                  <a:close/>
                  <a:moveTo>
                    <a:pt x="19378" y="12492"/>
                  </a:moveTo>
                  <a:lnTo>
                    <a:pt x="19378" y="12492"/>
                  </a:lnTo>
                  <a:lnTo>
                    <a:pt x="19527" y="12323"/>
                  </a:lnTo>
                  <a:lnTo>
                    <a:pt x="19452" y="12407"/>
                  </a:lnTo>
                  <a:lnTo>
                    <a:pt x="19378" y="12492"/>
                  </a:lnTo>
                  <a:close/>
                  <a:moveTo>
                    <a:pt x="19378" y="12492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0" name="AutoShape 87"/>
            <p:cNvSpPr/>
            <p:nvPr/>
          </p:nvSpPr>
          <p:spPr>
            <a:xfrm>
              <a:off x="8145720" y="2774880"/>
              <a:ext cx="29844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55" y="3189"/>
                  </a:moveTo>
                  <a:lnTo>
                    <a:pt x="20566" y="2263"/>
                  </a:lnTo>
                  <a:lnTo>
                    <a:pt x="20221" y="1646"/>
                  </a:lnTo>
                  <a:lnTo>
                    <a:pt x="19072" y="1029"/>
                  </a:lnTo>
                  <a:lnTo>
                    <a:pt x="18383" y="617"/>
                  </a:lnTo>
                  <a:lnTo>
                    <a:pt x="17349" y="309"/>
                  </a:lnTo>
                  <a:lnTo>
                    <a:pt x="16315" y="0"/>
                  </a:lnTo>
                  <a:lnTo>
                    <a:pt x="15281" y="309"/>
                  </a:lnTo>
                  <a:lnTo>
                    <a:pt x="14132" y="309"/>
                  </a:lnTo>
                  <a:lnTo>
                    <a:pt x="13098" y="617"/>
                  </a:lnTo>
                  <a:lnTo>
                    <a:pt x="12409" y="1337"/>
                  </a:lnTo>
                  <a:lnTo>
                    <a:pt x="11374" y="1646"/>
                  </a:lnTo>
                  <a:lnTo>
                    <a:pt x="10685" y="1954"/>
                  </a:lnTo>
                  <a:lnTo>
                    <a:pt x="9536" y="2571"/>
                  </a:lnTo>
                  <a:lnTo>
                    <a:pt x="8847" y="2880"/>
                  </a:lnTo>
                  <a:lnTo>
                    <a:pt x="7813" y="3497"/>
                  </a:lnTo>
                  <a:lnTo>
                    <a:pt x="7123" y="3806"/>
                  </a:lnTo>
                  <a:lnTo>
                    <a:pt x="6779" y="4423"/>
                  </a:lnTo>
                  <a:lnTo>
                    <a:pt x="6779" y="5143"/>
                  </a:lnTo>
                  <a:lnTo>
                    <a:pt x="6779" y="5760"/>
                  </a:lnTo>
                  <a:lnTo>
                    <a:pt x="6779" y="6377"/>
                  </a:lnTo>
                  <a:lnTo>
                    <a:pt x="6434" y="6994"/>
                  </a:lnTo>
                  <a:lnTo>
                    <a:pt x="6434" y="7611"/>
                  </a:lnTo>
                  <a:lnTo>
                    <a:pt x="6434" y="8229"/>
                  </a:lnTo>
                  <a:lnTo>
                    <a:pt x="6089" y="8846"/>
                  </a:lnTo>
                  <a:lnTo>
                    <a:pt x="5630" y="9257"/>
                  </a:lnTo>
                  <a:lnTo>
                    <a:pt x="5285" y="9257"/>
                  </a:lnTo>
                  <a:lnTo>
                    <a:pt x="5285" y="9566"/>
                  </a:lnTo>
                  <a:lnTo>
                    <a:pt x="4940" y="9566"/>
                  </a:lnTo>
                  <a:lnTo>
                    <a:pt x="4596" y="5143"/>
                  </a:lnTo>
                  <a:lnTo>
                    <a:pt x="4251" y="5451"/>
                  </a:lnTo>
                  <a:lnTo>
                    <a:pt x="3906" y="5760"/>
                  </a:lnTo>
                  <a:lnTo>
                    <a:pt x="3562" y="6069"/>
                  </a:lnTo>
                  <a:lnTo>
                    <a:pt x="3217" y="6377"/>
                  </a:lnTo>
                  <a:lnTo>
                    <a:pt x="2872" y="6686"/>
                  </a:lnTo>
                  <a:lnTo>
                    <a:pt x="2872" y="6994"/>
                  </a:lnTo>
                  <a:lnTo>
                    <a:pt x="2528" y="7303"/>
                  </a:lnTo>
                  <a:lnTo>
                    <a:pt x="2183" y="7611"/>
                  </a:lnTo>
                  <a:lnTo>
                    <a:pt x="2183" y="8229"/>
                  </a:lnTo>
                  <a:lnTo>
                    <a:pt x="2183" y="8537"/>
                  </a:lnTo>
                  <a:lnTo>
                    <a:pt x="1838" y="8846"/>
                  </a:lnTo>
                  <a:lnTo>
                    <a:pt x="1838" y="9566"/>
                  </a:lnTo>
                  <a:lnTo>
                    <a:pt x="1838" y="9874"/>
                  </a:lnTo>
                  <a:lnTo>
                    <a:pt x="2183" y="10183"/>
                  </a:lnTo>
                  <a:lnTo>
                    <a:pt x="2183" y="10491"/>
                  </a:lnTo>
                  <a:lnTo>
                    <a:pt x="2183" y="11109"/>
                  </a:lnTo>
                  <a:lnTo>
                    <a:pt x="1838" y="11109"/>
                  </a:lnTo>
                  <a:lnTo>
                    <a:pt x="1494" y="11417"/>
                  </a:lnTo>
                  <a:lnTo>
                    <a:pt x="1034" y="11417"/>
                  </a:lnTo>
                  <a:lnTo>
                    <a:pt x="1034" y="11726"/>
                  </a:lnTo>
                  <a:lnTo>
                    <a:pt x="689" y="11726"/>
                  </a:lnTo>
                  <a:lnTo>
                    <a:pt x="345" y="12034"/>
                  </a:lnTo>
                  <a:lnTo>
                    <a:pt x="689" y="12960"/>
                  </a:lnTo>
                  <a:lnTo>
                    <a:pt x="345" y="14297"/>
                  </a:lnTo>
                  <a:lnTo>
                    <a:pt x="0" y="15531"/>
                  </a:lnTo>
                  <a:lnTo>
                    <a:pt x="0" y="16766"/>
                  </a:lnTo>
                  <a:lnTo>
                    <a:pt x="0" y="18103"/>
                  </a:lnTo>
                  <a:lnTo>
                    <a:pt x="345" y="19337"/>
                  </a:lnTo>
                  <a:lnTo>
                    <a:pt x="1494" y="20571"/>
                  </a:lnTo>
                  <a:lnTo>
                    <a:pt x="2872" y="21600"/>
                  </a:lnTo>
                  <a:lnTo>
                    <a:pt x="3906" y="21600"/>
                  </a:lnTo>
                  <a:lnTo>
                    <a:pt x="4940" y="21600"/>
                  </a:lnTo>
                  <a:lnTo>
                    <a:pt x="6089" y="21600"/>
                  </a:lnTo>
                  <a:lnTo>
                    <a:pt x="6779" y="21189"/>
                  </a:lnTo>
                  <a:lnTo>
                    <a:pt x="7813" y="20571"/>
                  </a:lnTo>
                  <a:lnTo>
                    <a:pt x="8502" y="19954"/>
                  </a:lnTo>
                  <a:lnTo>
                    <a:pt x="8847" y="19337"/>
                  </a:lnTo>
                  <a:lnTo>
                    <a:pt x="9536" y="18411"/>
                  </a:lnTo>
                  <a:lnTo>
                    <a:pt x="9881" y="18103"/>
                  </a:lnTo>
                  <a:lnTo>
                    <a:pt x="10685" y="17794"/>
                  </a:lnTo>
                  <a:lnTo>
                    <a:pt x="11374" y="17486"/>
                  </a:lnTo>
                  <a:lnTo>
                    <a:pt x="12064" y="16766"/>
                  </a:lnTo>
                  <a:lnTo>
                    <a:pt x="12753" y="16457"/>
                  </a:lnTo>
                  <a:lnTo>
                    <a:pt x="13098" y="16149"/>
                  </a:lnTo>
                  <a:lnTo>
                    <a:pt x="13787" y="15840"/>
                  </a:lnTo>
                  <a:lnTo>
                    <a:pt x="14477" y="15531"/>
                  </a:lnTo>
                  <a:lnTo>
                    <a:pt x="17349" y="12034"/>
                  </a:lnTo>
                  <a:lnTo>
                    <a:pt x="17694" y="11726"/>
                  </a:lnTo>
                  <a:lnTo>
                    <a:pt x="17694" y="11417"/>
                  </a:lnTo>
                  <a:lnTo>
                    <a:pt x="17694" y="11109"/>
                  </a:lnTo>
                  <a:lnTo>
                    <a:pt x="17694" y="10800"/>
                  </a:lnTo>
                  <a:lnTo>
                    <a:pt x="18038" y="10491"/>
                  </a:lnTo>
                  <a:lnTo>
                    <a:pt x="18038" y="10183"/>
                  </a:lnTo>
                  <a:lnTo>
                    <a:pt x="18038" y="9874"/>
                  </a:lnTo>
                  <a:lnTo>
                    <a:pt x="17694" y="9874"/>
                  </a:lnTo>
                  <a:lnTo>
                    <a:pt x="17694" y="9566"/>
                  </a:lnTo>
                  <a:lnTo>
                    <a:pt x="18038" y="9566"/>
                  </a:lnTo>
                  <a:lnTo>
                    <a:pt x="19072" y="8846"/>
                  </a:lnTo>
                  <a:lnTo>
                    <a:pt x="19877" y="8229"/>
                  </a:lnTo>
                  <a:lnTo>
                    <a:pt x="20566" y="7611"/>
                  </a:lnTo>
                  <a:lnTo>
                    <a:pt x="21255" y="6994"/>
                  </a:lnTo>
                  <a:lnTo>
                    <a:pt x="21600" y="6069"/>
                  </a:lnTo>
                  <a:lnTo>
                    <a:pt x="21600" y="5143"/>
                  </a:lnTo>
                  <a:lnTo>
                    <a:pt x="21600" y="4114"/>
                  </a:lnTo>
                  <a:lnTo>
                    <a:pt x="21255" y="3189"/>
                  </a:lnTo>
                  <a:close/>
                  <a:moveTo>
                    <a:pt x="10226" y="5143"/>
                  </a:moveTo>
                  <a:lnTo>
                    <a:pt x="10226" y="5143"/>
                  </a:lnTo>
                  <a:lnTo>
                    <a:pt x="10226" y="4731"/>
                  </a:lnTo>
                  <a:lnTo>
                    <a:pt x="10226" y="5143"/>
                  </a:lnTo>
                  <a:close/>
                  <a:moveTo>
                    <a:pt x="10226" y="5143"/>
                  </a:moveTo>
                </a:path>
              </a:pathLst>
            </a:custGeom>
            <a:solidFill>
              <a:srgbClr val="7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>
              <a:off x="8136000" y="3200400"/>
              <a:ext cx="52236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06" y="12000"/>
                  </a:moveTo>
                  <a:lnTo>
                    <a:pt x="21403" y="11820"/>
                  </a:lnTo>
                  <a:lnTo>
                    <a:pt x="21600" y="11640"/>
                  </a:lnTo>
                  <a:lnTo>
                    <a:pt x="21600" y="11460"/>
                  </a:lnTo>
                  <a:lnTo>
                    <a:pt x="21600" y="11250"/>
                  </a:lnTo>
                  <a:lnTo>
                    <a:pt x="21600" y="11070"/>
                  </a:lnTo>
                  <a:lnTo>
                    <a:pt x="21600" y="10890"/>
                  </a:lnTo>
                  <a:lnTo>
                    <a:pt x="21403" y="10710"/>
                  </a:lnTo>
                  <a:lnTo>
                    <a:pt x="21206" y="10620"/>
                  </a:lnTo>
                  <a:lnTo>
                    <a:pt x="21009" y="10440"/>
                  </a:lnTo>
                  <a:lnTo>
                    <a:pt x="20812" y="10350"/>
                  </a:lnTo>
                  <a:lnTo>
                    <a:pt x="20615" y="10260"/>
                  </a:lnTo>
                  <a:lnTo>
                    <a:pt x="20418" y="10050"/>
                  </a:lnTo>
                  <a:lnTo>
                    <a:pt x="20221" y="10050"/>
                  </a:lnTo>
                  <a:lnTo>
                    <a:pt x="19827" y="9960"/>
                  </a:lnTo>
                  <a:lnTo>
                    <a:pt x="19630" y="9870"/>
                  </a:lnTo>
                  <a:lnTo>
                    <a:pt x="19368" y="9870"/>
                  </a:lnTo>
                  <a:lnTo>
                    <a:pt x="18974" y="9780"/>
                  </a:lnTo>
                  <a:lnTo>
                    <a:pt x="20418" y="9060"/>
                  </a:lnTo>
                  <a:lnTo>
                    <a:pt x="20615" y="8940"/>
                  </a:lnTo>
                  <a:lnTo>
                    <a:pt x="20812" y="8760"/>
                  </a:lnTo>
                  <a:lnTo>
                    <a:pt x="20812" y="8670"/>
                  </a:lnTo>
                  <a:lnTo>
                    <a:pt x="21009" y="8580"/>
                  </a:lnTo>
                  <a:lnTo>
                    <a:pt x="21009" y="8400"/>
                  </a:lnTo>
                  <a:lnTo>
                    <a:pt x="21206" y="8310"/>
                  </a:lnTo>
                  <a:lnTo>
                    <a:pt x="21206" y="8130"/>
                  </a:lnTo>
                  <a:lnTo>
                    <a:pt x="21206" y="8040"/>
                  </a:lnTo>
                  <a:lnTo>
                    <a:pt x="21009" y="7650"/>
                  </a:lnTo>
                  <a:lnTo>
                    <a:pt x="21009" y="7470"/>
                  </a:lnTo>
                  <a:lnTo>
                    <a:pt x="20812" y="7290"/>
                  </a:lnTo>
                  <a:lnTo>
                    <a:pt x="20615" y="7110"/>
                  </a:lnTo>
                  <a:lnTo>
                    <a:pt x="20221" y="6930"/>
                  </a:lnTo>
                  <a:lnTo>
                    <a:pt x="20024" y="6750"/>
                  </a:lnTo>
                  <a:lnTo>
                    <a:pt x="19630" y="6660"/>
                  </a:lnTo>
                  <a:lnTo>
                    <a:pt x="19171" y="6540"/>
                  </a:lnTo>
                  <a:lnTo>
                    <a:pt x="18777" y="6450"/>
                  </a:lnTo>
                  <a:lnTo>
                    <a:pt x="18974" y="6360"/>
                  </a:lnTo>
                  <a:lnTo>
                    <a:pt x="19171" y="6270"/>
                  </a:lnTo>
                  <a:lnTo>
                    <a:pt x="19171" y="6090"/>
                  </a:lnTo>
                  <a:lnTo>
                    <a:pt x="19368" y="6000"/>
                  </a:lnTo>
                  <a:lnTo>
                    <a:pt x="19630" y="5820"/>
                  </a:lnTo>
                  <a:lnTo>
                    <a:pt x="19630" y="5730"/>
                  </a:lnTo>
                  <a:lnTo>
                    <a:pt x="19630" y="5550"/>
                  </a:lnTo>
                  <a:lnTo>
                    <a:pt x="19630" y="5340"/>
                  </a:lnTo>
                  <a:lnTo>
                    <a:pt x="19630" y="5070"/>
                  </a:lnTo>
                  <a:lnTo>
                    <a:pt x="19368" y="4800"/>
                  </a:lnTo>
                  <a:lnTo>
                    <a:pt x="19171" y="4620"/>
                  </a:lnTo>
                  <a:lnTo>
                    <a:pt x="18974" y="4350"/>
                  </a:lnTo>
                  <a:lnTo>
                    <a:pt x="18580" y="4140"/>
                  </a:lnTo>
                  <a:lnTo>
                    <a:pt x="18186" y="4050"/>
                  </a:lnTo>
                  <a:lnTo>
                    <a:pt x="17595" y="3870"/>
                  </a:lnTo>
                  <a:lnTo>
                    <a:pt x="17201" y="3870"/>
                  </a:lnTo>
                  <a:lnTo>
                    <a:pt x="16545" y="3780"/>
                  </a:lnTo>
                  <a:lnTo>
                    <a:pt x="15757" y="3780"/>
                  </a:lnTo>
                  <a:lnTo>
                    <a:pt x="15560" y="3780"/>
                  </a:lnTo>
                  <a:lnTo>
                    <a:pt x="15363" y="3780"/>
                  </a:lnTo>
                  <a:lnTo>
                    <a:pt x="15166" y="3780"/>
                  </a:lnTo>
                  <a:lnTo>
                    <a:pt x="14969" y="3780"/>
                  </a:lnTo>
                  <a:lnTo>
                    <a:pt x="14772" y="3780"/>
                  </a:lnTo>
                  <a:lnTo>
                    <a:pt x="14969" y="3600"/>
                  </a:lnTo>
                  <a:lnTo>
                    <a:pt x="15166" y="3420"/>
                  </a:lnTo>
                  <a:lnTo>
                    <a:pt x="15363" y="3240"/>
                  </a:lnTo>
                  <a:lnTo>
                    <a:pt x="15363" y="3060"/>
                  </a:lnTo>
                  <a:lnTo>
                    <a:pt x="15560" y="2850"/>
                  </a:lnTo>
                  <a:lnTo>
                    <a:pt x="15560" y="2670"/>
                  </a:lnTo>
                  <a:lnTo>
                    <a:pt x="15363" y="2490"/>
                  </a:lnTo>
                  <a:lnTo>
                    <a:pt x="15363" y="2310"/>
                  </a:lnTo>
                  <a:lnTo>
                    <a:pt x="15166" y="2130"/>
                  </a:lnTo>
                  <a:lnTo>
                    <a:pt x="14969" y="1950"/>
                  </a:lnTo>
                  <a:lnTo>
                    <a:pt x="14772" y="1860"/>
                  </a:lnTo>
                  <a:lnTo>
                    <a:pt x="14378" y="1650"/>
                  </a:lnTo>
                  <a:lnTo>
                    <a:pt x="14116" y="1560"/>
                  </a:lnTo>
                  <a:lnTo>
                    <a:pt x="13722" y="1380"/>
                  </a:lnTo>
                  <a:lnTo>
                    <a:pt x="13328" y="1380"/>
                  </a:lnTo>
                  <a:lnTo>
                    <a:pt x="12934" y="1290"/>
                  </a:lnTo>
                  <a:lnTo>
                    <a:pt x="12540" y="1290"/>
                  </a:lnTo>
                  <a:lnTo>
                    <a:pt x="11752" y="1290"/>
                  </a:lnTo>
                  <a:lnTo>
                    <a:pt x="11489" y="1200"/>
                  </a:lnTo>
                  <a:lnTo>
                    <a:pt x="11095" y="1200"/>
                  </a:lnTo>
                  <a:lnTo>
                    <a:pt x="10898" y="1200"/>
                  </a:lnTo>
                  <a:lnTo>
                    <a:pt x="10505" y="1200"/>
                  </a:lnTo>
                  <a:lnTo>
                    <a:pt x="10111" y="1200"/>
                  </a:lnTo>
                  <a:lnTo>
                    <a:pt x="9914" y="1200"/>
                  </a:lnTo>
                  <a:lnTo>
                    <a:pt x="9520" y="1200"/>
                  </a:lnTo>
                  <a:lnTo>
                    <a:pt x="9323" y="1200"/>
                  </a:lnTo>
                  <a:lnTo>
                    <a:pt x="9126" y="1110"/>
                  </a:lnTo>
                  <a:lnTo>
                    <a:pt x="9126" y="1020"/>
                  </a:lnTo>
                  <a:lnTo>
                    <a:pt x="9126" y="930"/>
                  </a:lnTo>
                  <a:lnTo>
                    <a:pt x="8863" y="840"/>
                  </a:lnTo>
                  <a:lnTo>
                    <a:pt x="8863" y="660"/>
                  </a:lnTo>
                  <a:lnTo>
                    <a:pt x="8666" y="660"/>
                  </a:lnTo>
                  <a:lnTo>
                    <a:pt x="8469" y="540"/>
                  </a:lnTo>
                  <a:lnTo>
                    <a:pt x="8272" y="450"/>
                  </a:lnTo>
                  <a:lnTo>
                    <a:pt x="7878" y="270"/>
                  </a:lnTo>
                  <a:lnTo>
                    <a:pt x="7288" y="90"/>
                  </a:lnTo>
                  <a:lnTo>
                    <a:pt x="6894" y="0"/>
                  </a:lnTo>
                  <a:lnTo>
                    <a:pt x="6237" y="0"/>
                  </a:lnTo>
                  <a:lnTo>
                    <a:pt x="5646" y="0"/>
                  </a:lnTo>
                  <a:lnTo>
                    <a:pt x="5055" y="90"/>
                  </a:lnTo>
                  <a:lnTo>
                    <a:pt x="4464" y="270"/>
                  </a:lnTo>
                  <a:lnTo>
                    <a:pt x="4071" y="450"/>
                  </a:lnTo>
                  <a:lnTo>
                    <a:pt x="3874" y="540"/>
                  </a:lnTo>
                  <a:lnTo>
                    <a:pt x="3414" y="660"/>
                  </a:lnTo>
                  <a:lnTo>
                    <a:pt x="3217" y="750"/>
                  </a:lnTo>
                  <a:lnTo>
                    <a:pt x="3020" y="840"/>
                  </a:lnTo>
                  <a:lnTo>
                    <a:pt x="2626" y="930"/>
                  </a:lnTo>
                  <a:lnTo>
                    <a:pt x="2429" y="1020"/>
                  </a:lnTo>
                  <a:lnTo>
                    <a:pt x="2429" y="1110"/>
                  </a:lnTo>
                  <a:lnTo>
                    <a:pt x="2232" y="1200"/>
                  </a:lnTo>
                  <a:lnTo>
                    <a:pt x="2035" y="1470"/>
                  </a:lnTo>
                  <a:lnTo>
                    <a:pt x="2035" y="1860"/>
                  </a:lnTo>
                  <a:lnTo>
                    <a:pt x="2035" y="2130"/>
                  </a:lnTo>
                  <a:lnTo>
                    <a:pt x="2035" y="2490"/>
                  </a:lnTo>
                  <a:lnTo>
                    <a:pt x="2035" y="2760"/>
                  </a:lnTo>
                  <a:lnTo>
                    <a:pt x="2232" y="3060"/>
                  </a:lnTo>
                  <a:lnTo>
                    <a:pt x="2232" y="3420"/>
                  </a:lnTo>
                  <a:lnTo>
                    <a:pt x="2232" y="3690"/>
                  </a:lnTo>
                  <a:lnTo>
                    <a:pt x="1247" y="1470"/>
                  </a:lnTo>
                  <a:lnTo>
                    <a:pt x="985" y="1560"/>
                  </a:lnTo>
                  <a:lnTo>
                    <a:pt x="788" y="1650"/>
                  </a:lnTo>
                  <a:lnTo>
                    <a:pt x="591" y="1740"/>
                  </a:lnTo>
                  <a:lnTo>
                    <a:pt x="394" y="1860"/>
                  </a:lnTo>
                  <a:lnTo>
                    <a:pt x="394" y="1950"/>
                  </a:lnTo>
                  <a:lnTo>
                    <a:pt x="197" y="2040"/>
                  </a:lnTo>
                  <a:lnTo>
                    <a:pt x="197" y="2220"/>
                  </a:lnTo>
                  <a:lnTo>
                    <a:pt x="0" y="2310"/>
                  </a:lnTo>
                  <a:lnTo>
                    <a:pt x="0" y="2580"/>
                  </a:lnTo>
                  <a:lnTo>
                    <a:pt x="0" y="2850"/>
                  </a:lnTo>
                  <a:lnTo>
                    <a:pt x="197" y="3150"/>
                  </a:lnTo>
                  <a:lnTo>
                    <a:pt x="394" y="3330"/>
                  </a:lnTo>
                  <a:lnTo>
                    <a:pt x="788" y="3600"/>
                  </a:lnTo>
                  <a:lnTo>
                    <a:pt x="1247" y="3780"/>
                  </a:lnTo>
                  <a:lnTo>
                    <a:pt x="1838" y="3870"/>
                  </a:lnTo>
                  <a:lnTo>
                    <a:pt x="2429" y="3960"/>
                  </a:lnTo>
                  <a:lnTo>
                    <a:pt x="3414" y="4050"/>
                  </a:lnTo>
                  <a:lnTo>
                    <a:pt x="3874" y="4050"/>
                  </a:lnTo>
                  <a:lnTo>
                    <a:pt x="4071" y="4050"/>
                  </a:lnTo>
                  <a:lnTo>
                    <a:pt x="4267" y="4050"/>
                  </a:lnTo>
                  <a:lnTo>
                    <a:pt x="4464" y="4050"/>
                  </a:lnTo>
                  <a:lnTo>
                    <a:pt x="4858" y="4050"/>
                  </a:lnTo>
                  <a:lnTo>
                    <a:pt x="5055" y="4050"/>
                  </a:lnTo>
                  <a:lnTo>
                    <a:pt x="5252" y="4050"/>
                  </a:lnTo>
                  <a:lnTo>
                    <a:pt x="5449" y="4050"/>
                  </a:lnTo>
                  <a:lnTo>
                    <a:pt x="5252" y="4140"/>
                  </a:lnTo>
                  <a:lnTo>
                    <a:pt x="5055" y="4260"/>
                  </a:lnTo>
                  <a:lnTo>
                    <a:pt x="4858" y="4350"/>
                  </a:lnTo>
                  <a:lnTo>
                    <a:pt x="4661" y="4440"/>
                  </a:lnTo>
                  <a:lnTo>
                    <a:pt x="4661" y="4620"/>
                  </a:lnTo>
                  <a:lnTo>
                    <a:pt x="4464" y="4710"/>
                  </a:lnTo>
                  <a:lnTo>
                    <a:pt x="4464" y="4800"/>
                  </a:lnTo>
                  <a:lnTo>
                    <a:pt x="4464" y="4890"/>
                  </a:lnTo>
                  <a:lnTo>
                    <a:pt x="4464" y="5250"/>
                  </a:lnTo>
                  <a:lnTo>
                    <a:pt x="4464" y="5460"/>
                  </a:lnTo>
                  <a:lnTo>
                    <a:pt x="4661" y="5730"/>
                  </a:lnTo>
                  <a:lnTo>
                    <a:pt x="5055" y="6000"/>
                  </a:lnTo>
                  <a:lnTo>
                    <a:pt x="5449" y="6180"/>
                  </a:lnTo>
                  <a:lnTo>
                    <a:pt x="5843" y="6360"/>
                  </a:lnTo>
                  <a:lnTo>
                    <a:pt x="6500" y="6450"/>
                  </a:lnTo>
                  <a:lnTo>
                    <a:pt x="7091" y="6540"/>
                  </a:lnTo>
                  <a:lnTo>
                    <a:pt x="8272" y="6540"/>
                  </a:lnTo>
                  <a:lnTo>
                    <a:pt x="8469" y="6540"/>
                  </a:lnTo>
                  <a:lnTo>
                    <a:pt x="8666" y="6540"/>
                  </a:lnTo>
                  <a:lnTo>
                    <a:pt x="8863" y="6540"/>
                  </a:lnTo>
                  <a:lnTo>
                    <a:pt x="8469" y="6930"/>
                  </a:lnTo>
                  <a:lnTo>
                    <a:pt x="8272" y="7020"/>
                  </a:lnTo>
                  <a:lnTo>
                    <a:pt x="8075" y="7110"/>
                  </a:lnTo>
                  <a:lnTo>
                    <a:pt x="8075" y="7200"/>
                  </a:lnTo>
                  <a:lnTo>
                    <a:pt x="7878" y="7290"/>
                  </a:lnTo>
                  <a:lnTo>
                    <a:pt x="7878" y="7470"/>
                  </a:lnTo>
                  <a:lnTo>
                    <a:pt x="7878" y="7560"/>
                  </a:lnTo>
                  <a:lnTo>
                    <a:pt x="7878" y="7650"/>
                  </a:lnTo>
                  <a:lnTo>
                    <a:pt x="7878" y="7860"/>
                  </a:lnTo>
                  <a:lnTo>
                    <a:pt x="7878" y="8130"/>
                  </a:lnTo>
                  <a:lnTo>
                    <a:pt x="8075" y="8400"/>
                  </a:lnTo>
                  <a:lnTo>
                    <a:pt x="8272" y="8580"/>
                  </a:lnTo>
                  <a:lnTo>
                    <a:pt x="8666" y="8760"/>
                  </a:lnTo>
                  <a:lnTo>
                    <a:pt x="9323" y="8940"/>
                  </a:lnTo>
                  <a:lnTo>
                    <a:pt x="9717" y="9150"/>
                  </a:lnTo>
                  <a:lnTo>
                    <a:pt x="10308" y="9150"/>
                  </a:lnTo>
                  <a:lnTo>
                    <a:pt x="10898" y="9240"/>
                  </a:lnTo>
                  <a:lnTo>
                    <a:pt x="11095" y="9240"/>
                  </a:lnTo>
                  <a:lnTo>
                    <a:pt x="10898" y="9240"/>
                  </a:lnTo>
                  <a:lnTo>
                    <a:pt x="10702" y="9330"/>
                  </a:lnTo>
                  <a:lnTo>
                    <a:pt x="10702" y="9420"/>
                  </a:lnTo>
                  <a:lnTo>
                    <a:pt x="10505" y="9510"/>
                  </a:lnTo>
                  <a:lnTo>
                    <a:pt x="10308" y="9510"/>
                  </a:lnTo>
                  <a:lnTo>
                    <a:pt x="10111" y="9600"/>
                  </a:lnTo>
                  <a:lnTo>
                    <a:pt x="9914" y="9690"/>
                  </a:lnTo>
                  <a:lnTo>
                    <a:pt x="9914" y="9780"/>
                  </a:lnTo>
                  <a:lnTo>
                    <a:pt x="9520" y="9960"/>
                  </a:lnTo>
                  <a:lnTo>
                    <a:pt x="9323" y="10050"/>
                  </a:lnTo>
                  <a:lnTo>
                    <a:pt x="9126" y="10140"/>
                  </a:lnTo>
                  <a:lnTo>
                    <a:pt x="9126" y="10260"/>
                  </a:lnTo>
                  <a:lnTo>
                    <a:pt x="8863" y="10350"/>
                  </a:lnTo>
                  <a:lnTo>
                    <a:pt x="8863" y="10440"/>
                  </a:lnTo>
                  <a:lnTo>
                    <a:pt x="8863" y="10530"/>
                  </a:lnTo>
                  <a:lnTo>
                    <a:pt x="8666" y="10800"/>
                  </a:lnTo>
                  <a:lnTo>
                    <a:pt x="8666" y="11070"/>
                  </a:lnTo>
                  <a:lnTo>
                    <a:pt x="8666" y="11340"/>
                  </a:lnTo>
                  <a:lnTo>
                    <a:pt x="9126" y="11550"/>
                  </a:lnTo>
                  <a:lnTo>
                    <a:pt x="9323" y="11820"/>
                  </a:lnTo>
                  <a:lnTo>
                    <a:pt x="9717" y="12000"/>
                  </a:lnTo>
                  <a:lnTo>
                    <a:pt x="10308" y="12180"/>
                  </a:lnTo>
                  <a:lnTo>
                    <a:pt x="10702" y="12270"/>
                  </a:lnTo>
                  <a:lnTo>
                    <a:pt x="11949" y="12450"/>
                  </a:lnTo>
                  <a:lnTo>
                    <a:pt x="11752" y="12450"/>
                  </a:lnTo>
                  <a:lnTo>
                    <a:pt x="11752" y="12540"/>
                  </a:lnTo>
                  <a:lnTo>
                    <a:pt x="11489" y="12660"/>
                  </a:lnTo>
                  <a:lnTo>
                    <a:pt x="11292" y="12750"/>
                  </a:lnTo>
                  <a:lnTo>
                    <a:pt x="10898" y="12930"/>
                  </a:lnTo>
                  <a:lnTo>
                    <a:pt x="10898" y="13020"/>
                  </a:lnTo>
                  <a:lnTo>
                    <a:pt x="10702" y="13110"/>
                  </a:lnTo>
                  <a:lnTo>
                    <a:pt x="10702" y="13200"/>
                  </a:lnTo>
                  <a:lnTo>
                    <a:pt x="10505" y="13200"/>
                  </a:lnTo>
                  <a:lnTo>
                    <a:pt x="10308" y="13470"/>
                  </a:lnTo>
                  <a:lnTo>
                    <a:pt x="10308" y="13740"/>
                  </a:lnTo>
                  <a:lnTo>
                    <a:pt x="10308" y="14040"/>
                  </a:lnTo>
                  <a:lnTo>
                    <a:pt x="10505" y="14310"/>
                  </a:lnTo>
                  <a:lnTo>
                    <a:pt x="10702" y="14490"/>
                  </a:lnTo>
                  <a:lnTo>
                    <a:pt x="11095" y="14760"/>
                  </a:lnTo>
                  <a:lnTo>
                    <a:pt x="11489" y="14940"/>
                  </a:lnTo>
                  <a:lnTo>
                    <a:pt x="12146" y="15060"/>
                  </a:lnTo>
                  <a:lnTo>
                    <a:pt x="12540" y="15150"/>
                  </a:lnTo>
                  <a:lnTo>
                    <a:pt x="12146" y="15330"/>
                  </a:lnTo>
                  <a:lnTo>
                    <a:pt x="11752" y="15510"/>
                  </a:lnTo>
                  <a:lnTo>
                    <a:pt x="11292" y="15600"/>
                  </a:lnTo>
                  <a:lnTo>
                    <a:pt x="10898" y="15780"/>
                  </a:lnTo>
                  <a:lnTo>
                    <a:pt x="10505" y="15960"/>
                  </a:lnTo>
                  <a:lnTo>
                    <a:pt x="10308" y="16140"/>
                  </a:lnTo>
                  <a:lnTo>
                    <a:pt x="9914" y="16350"/>
                  </a:lnTo>
                  <a:lnTo>
                    <a:pt x="9520" y="16530"/>
                  </a:lnTo>
                  <a:lnTo>
                    <a:pt x="9520" y="16620"/>
                  </a:lnTo>
                  <a:lnTo>
                    <a:pt x="9323" y="16710"/>
                  </a:lnTo>
                  <a:lnTo>
                    <a:pt x="9126" y="16800"/>
                  </a:lnTo>
                  <a:lnTo>
                    <a:pt x="9126" y="16890"/>
                  </a:lnTo>
                  <a:lnTo>
                    <a:pt x="8863" y="16980"/>
                  </a:lnTo>
                  <a:lnTo>
                    <a:pt x="8666" y="17070"/>
                  </a:lnTo>
                  <a:lnTo>
                    <a:pt x="8469" y="17160"/>
                  </a:lnTo>
                  <a:lnTo>
                    <a:pt x="8075" y="17910"/>
                  </a:lnTo>
                  <a:lnTo>
                    <a:pt x="7878" y="18090"/>
                  </a:lnTo>
                  <a:lnTo>
                    <a:pt x="7878" y="18270"/>
                  </a:lnTo>
                  <a:lnTo>
                    <a:pt x="8075" y="18450"/>
                  </a:lnTo>
                  <a:lnTo>
                    <a:pt x="8075" y="18660"/>
                  </a:lnTo>
                  <a:lnTo>
                    <a:pt x="8272" y="18750"/>
                  </a:lnTo>
                  <a:lnTo>
                    <a:pt x="8272" y="18930"/>
                  </a:lnTo>
                  <a:lnTo>
                    <a:pt x="8666" y="19110"/>
                  </a:lnTo>
                  <a:lnTo>
                    <a:pt x="8863" y="19200"/>
                  </a:lnTo>
                  <a:lnTo>
                    <a:pt x="8469" y="19380"/>
                  </a:lnTo>
                  <a:lnTo>
                    <a:pt x="8272" y="19560"/>
                  </a:lnTo>
                  <a:lnTo>
                    <a:pt x="8075" y="19740"/>
                  </a:lnTo>
                  <a:lnTo>
                    <a:pt x="8075" y="19950"/>
                  </a:lnTo>
                  <a:lnTo>
                    <a:pt x="7878" y="20220"/>
                  </a:lnTo>
                  <a:lnTo>
                    <a:pt x="8075" y="20400"/>
                  </a:lnTo>
                  <a:lnTo>
                    <a:pt x="8075" y="20670"/>
                  </a:lnTo>
                  <a:lnTo>
                    <a:pt x="8272" y="20850"/>
                  </a:lnTo>
                  <a:lnTo>
                    <a:pt x="8666" y="21060"/>
                  </a:lnTo>
                  <a:lnTo>
                    <a:pt x="9126" y="21240"/>
                  </a:lnTo>
                  <a:lnTo>
                    <a:pt x="9717" y="21420"/>
                  </a:lnTo>
                  <a:lnTo>
                    <a:pt x="10111" y="21510"/>
                  </a:lnTo>
                  <a:lnTo>
                    <a:pt x="10702" y="21600"/>
                  </a:lnTo>
                  <a:lnTo>
                    <a:pt x="11292" y="21600"/>
                  </a:lnTo>
                  <a:lnTo>
                    <a:pt x="11949" y="21510"/>
                  </a:lnTo>
                  <a:lnTo>
                    <a:pt x="12540" y="21420"/>
                  </a:lnTo>
                  <a:lnTo>
                    <a:pt x="12737" y="21330"/>
                  </a:lnTo>
                  <a:lnTo>
                    <a:pt x="13131" y="21240"/>
                  </a:lnTo>
                  <a:lnTo>
                    <a:pt x="13525" y="21150"/>
                  </a:lnTo>
                  <a:lnTo>
                    <a:pt x="13722" y="21150"/>
                  </a:lnTo>
                  <a:lnTo>
                    <a:pt x="14116" y="21060"/>
                  </a:lnTo>
                  <a:lnTo>
                    <a:pt x="14378" y="20940"/>
                  </a:lnTo>
                  <a:lnTo>
                    <a:pt x="14772" y="20850"/>
                  </a:lnTo>
                  <a:lnTo>
                    <a:pt x="14969" y="20760"/>
                  </a:lnTo>
                  <a:lnTo>
                    <a:pt x="17989" y="20220"/>
                  </a:lnTo>
                  <a:lnTo>
                    <a:pt x="18186" y="20130"/>
                  </a:lnTo>
                  <a:lnTo>
                    <a:pt x="18383" y="20040"/>
                  </a:lnTo>
                  <a:lnTo>
                    <a:pt x="18580" y="19950"/>
                  </a:lnTo>
                  <a:lnTo>
                    <a:pt x="18777" y="19860"/>
                  </a:lnTo>
                  <a:lnTo>
                    <a:pt x="18777" y="19740"/>
                  </a:lnTo>
                  <a:lnTo>
                    <a:pt x="18974" y="19650"/>
                  </a:lnTo>
                  <a:lnTo>
                    <a:pt x="19171" y="19560"/>
                  </a:lnTo>
                  <a:lnTo>
                    <a:pt x="19171" y="19470"/>
                  </a:lnTo>
                  <a:lnTo>
                    <a:pt x="19368" y="19200"/>
                  </a:lnTo>
                  <a:lnTo>
                    <a:pt x="19630" y="19110"/>
                  </a:lnTo>
                  <a:lnTo>
                    <a:pt x="19630" y="19020"/>
                  </a:lnTo>
                  <a:lnTo>
                    <a:pt x="19630" y="18930"/>
                  </a:lnTo>
                  <a:lnTo>
                    <a:pt x="19630" y="18840"/>
                  </a:lnTo>
                  <a:lnTo>
                    <a:pt x="19630" y="18750"/>
                  </a:lnTo>
                  <a:lnTo>
                    <a:pt x="19630" y="18450"/>
                  </a:lnTo>
                  <a:lnTo>
                    <a:pt x="19630" y="18180"/>
                  </a:lnTo>
                  <a:lnTo>
                    <a:pt x="19171" y="17910"/>
                  </a:lnTo>
                  <a:lnTo>
                    <a:pt x="18777" y="17730"/>
                  </a:lnTo>
                  <a:lnTo>
                    <a:pt x="18383" y="17550"/>
                  </a:lnTo>
                  <a:lnTo>
                    <a:pt x="17989" y="17460"/>
                  </a:lnTo>
                  <a:lnTo>
                    <a:pt x="17398" y="17340"/>
                  </a:lnTo>
                  <a:lnTo>
                    <a:pt x="16742" y="17250"/>
                  </a:lnTo>
                  <a:lnTo>
                    <a:pt x="16545" y="17250"/>
                  </a:lnTo>
                  <a:lnTo>
                    <a:pt x="17004" y="17070"/>
                  </a:lnTo>
                  <a:lnTo>
                    <a:pt x="17398" y="16890"/>
                  </a:lnTo>
                  <a:lnTo>
                    <a:pt x="17792" y="16710"/>
                  </a:lnTo>
                  <a:lnTo>
                    <a:pt x="18186" y="16530"/>
                  </a:lnTo>
                  <a:lnTo>
                    <a:pt x="18580" y="16260"/>
                  </a:lnTo>
                  <a:lnTo>
                    <a:pt x="18974" y="16050"/>
                  </a:lnTo>
                  <a:lnTo>
                    <a:pt x="19171" y="15870"/>
                  </a:lnTo>
                  <a:lnTo>
                    <a:pt x="19630" y="15600"/>
                  </a:lnTo>
                  <a:lnTo>
                    <a:pt x="20024" y="15420"/>
                  </a:lnTo>
                  <a:lnTo>
                    <a:pt x="20024" y="15330"/>
                  </a:lnTo>
                  <a:lnTo>
                    <a:pt x="20221" y="15330"/>
                  </a:lnTo>
                  <a:lnTo>
                    <a:pt x="20221" y="15240"/>
                  </a:lnTo>
                  <a:lnTo>
                    <a:pt x="20418" y="15240"/>
                  </a:lnTo>
                  <a:lnTo>
                    <a:pt x="20418" y="15150"/>
                  </a:lnTo>
                  <a:lnTo>
                    <a:pt x="20615" y="15060"/>
                  </a:lnTo>
                  <a:lnTo>
                    <a:pt x="20812" y="14850"/>
                  </a:lnTo>
                  <a:lnTo>
                    <a:pt x="21009" y="14580"/>
                  </a:lnTo>
                  <a:lnTo>
                    <a:pt x="21009" y="14310"/>
                  </a:lnTo>
                  <a:lnTo>
                    <a:pt x="20812" y="14040"/>
                  </a:lnTo>
                  <a:lnTo>
                    <a:pt x="20615" y="13740"/>
                  </a:lnTo>
                  <a:lnTo>
                    <a:pt x="20418" y="13560"/>
                  </a:lnTo>
                  <a:lnTo>
                    <a:pt x="20024" y="13290"/>
                  </a:lnTo>
                  <a:lnTo>
                    <a:pt x="19630" y="13110"/>
                  </a:lnTo>
                  <a:lnTo>
                    <a:pt x="19368" y="13110"/>
                  </a:lnTo>
                  <a:lnTo>
                    <a:pt x="19630" y="13020"/>
                  </a:lnTo>
                  <a:lnTo>
                    <a:pt x="21206" y="12000"/>
                  </a:lnTo>
                  <a:close/>
                  <a:moveTo>
                    <a:pt x="17989" y="12540"/>
                  </a:moveTo>
                  <a:lnTo>
                    <a:pt x="17792" y="12540"/>
                  </a:lnTo>
                  <a:lnTo>
                    <a:pt x="17595" y="12540"/>
                  </a:lnTo>
                  <a:lnTo>
                    <a:pt x="17792" y="12540"/>
                  </a:lnTo>
                  <a:lnTo>
                    <a:pt x="17989" y="12540"/>
                  </a:lnTo>
                  <a:close/>
                  <a:moveTo>
                    <a:pt x="4858" y="1290"/>
                  </a:moveTo>
                  <a:lnTo>
                    <a:pt x="4858" y="1290"/>
                  </a:lnTo>
                  <a:lnTo>
                    <a:pt x="4858" y="1200"/>
                  </a:lnTo>
                  <a:lnTo>
                    <a:pt x="4858" y="1290"/>
                  </a:lnTo>
                  <a:close/>
                  <a:moveTo>
                    <a:pt x="4858" y="1290"/>
                  </a:moveTo>
                </a:path>
              </a:pathLst>
            </a:custGeom>
            <a:solidFill>
              <a:srgbClr val="7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2" name="AutoShape 89"/>
            <p:cNvSpPr/>
            <p:nvPr/>
          </p:nvSpPr>
          <p:spPr>
            <a:xfrm>
              <a:off x="5550120" y="1920960"/>
              <a:ext cx="517320" cy="38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01" y="6578"/>
                  </a:moveTo>
                  <a:lnTo>
                    <a:pt x="21004" y="6044"/>
                  </a:lnTo>
                  <a:lnTo>
                    <a:pt x="20805" y="5422"/>
                  </a:lnTo>
                  <a:lnTo>
                    <a:pt x="20606" y="5156"/>
                  </a:lnTo>
                  <a:lnTo>
                    <a:pt x="20209" y="4622"/>
                  </a:lnTo>
                  <a:lnTo>
                    <a:pt x="19745" y="4356"/>
                  </a:lnTo>
                  <a:lnTo>
                    <a:pt x="19347" y="4356"/>
                  </a:lnTo>
                  <a:lnTo>
                    <a:pt x="18950" y="4089"/>
                  </a:lnTo>
                  <a:lnTo>
                    <a:pt x="18552" y="4089"/>
                  </a:lnTo>
                  <a:lnTo>
                    <a:pt x="18552" y="3822"/>
                  </a:lnTo>
                  <a:lnTo>
                    <a:pt x="18552" y="3556"/>
                  </a:lnTo>
                  <a:lnTo>
                    <a:pt x="18552" y="3289"/>
                  </a:lnTo>
                  <a:lnTo>
                    <a:pt x="18353" y="3022"/>
                  </a:lnTo>
                  <a:lnTo>
                    <a:pt x="18353" y="2756"/>
                  </a:lnTo>
                  <a:lnTo>
                    <a:pt x="18353" y="2489"/>
                  </a:lnTo>
                  <a:lnTo>
                    <a:pt x="17956" y="1600"/>
                  </a:lnTo>
                  <a:lnTo>
                    <a:pt x="17558" y="1067"/>
                  </a:lnTo>
                  <a:lnTo>
                    <a:pt x="17094" y="533"/>
                  </a:lnTo>
                  <a:lnTo>
                    <a:pt x="16498" y="267"/>
                  </a:lnTo>
                  <a:lnTo>
                    <a:pt x="16101" y="0"/>
                  </a:lnTo>
                  <a:lnTo>
                    <a:pt x="15504" y="0"/>
                  </a:lnTo>
                  <a:lnTo>
                    <a:pt x="14908" y="0"/>
                  </a:lnTo>
                  <a:lnTo>
                    <a:pt x="14245" y="267"/>
                  </a:lnTo>
                  <a:lnTo>
                    <a:pt x="13450" y="533"/>
                  </a:lnTo>
                  <a:lnTo>
                    <a:pt x="13252" y="800"/>
                  </a:lnTo>
                  <a:lnTo>
                    <a:pt x="12854" y="1067"/>
                  </a:lnTo>
                  <a:lnTo>
                    <a:pt x="12456" y="1333"/>
                  </a:lnTo>
                  <a:lnTo>
                    <a:pt x="12059" y="1333"/>
                  </a:lnTo>
                  <a:lnTo>
                    <a:pt x="11794" y="1600"/>
                  </a:lnTo>
                  <a:lnTo>
                    <a:pt x="11396" y="1867"/>
                  </a:lnTo>
                  <a:lnTo>
                    <a:pt x="10999" y="2133"/>
                  </a:lnTo>
                  <a:lnTo>
                    <a:pt x="10601" y="2133"/>
                  </a:lnTo>
                  <a:lnTo>
                    <a:pt x="10204" y="1600"/>
                  </a:lnTo>
                  <a:lnTo>
                    <a:pt x="9806" y="1067"/>
                  </a:lnTo>
                  <a:lnTo>
                    <a:pt x="9409" y="533"/>
                  </a:lnTo>
                  <a:lnTo>
                    <a:pt x="8746" y="533"/>
                  </a:lnTo>
                  <a:lnTo>
                    <a:pt x="8150" y="267"/>
                  </a:lnTo>
                  <a:lnTo>
                    <a:pt x="7553" y="267"/>
                  </a:lnTo>
                  <a:lnTo>
                    <a:pt x="6957" y="533"/>
                  </a:lnTo>
                  <a:lnTo>
                    <a:pt x="6294" y="1067"/>
                  </a:lnTo>
                  <a:lnTo>
                    <a:pt x="5897" y="1333"/>
                  </a:lnTo>
                  <a:lnTo>
                    <a:pt x="5301" y="1867"/>
                  </a:lnTo>
                  <a:lnTo>
                    <a:pt x="4903" y="2133"/>
                  </a:lnTo>
                  <a:lnTo>
                    <a:pt x="4506" y="2756"/>
                  </a:lnTo>
                  <a:lnTo>
                    <a:pt x="3843" y="3289"/>
                  </a:lnTo>
                  <a:lnTo>
                    <a:pt x="3445" y="3556"/>
                  </a:lnTo>
                  <a:lnTo>
                    <a:pt x="3048" y="4089"/>
                  </a:lnTo>
                  <a:lnTo>
                    <a:pt x="2650" y="4622"/>
                  </a:lnTo>
                  <a:lnTo>
                    <a:pt x="2849" y="5689"/>
                  </a:lnTo>
                  <a:lnTo>
                    <a:pt x="2849" y="6578"/>
                  </a:lnTo>
                  <a:lnTo>
                    <a:pt x="2849" y="7378"/>
                  </a:lnTo>
                  <a:lnTo>
                    <a:pt x="3048" y="8444"/>
                  </a:lnTo>
                  <a:lnTo>
                    <a:pt x="3048" y="9244"/>
                  </a:lnTo>
                  <a:lnTo>
                    <a:pt x="3048" y="10400"/>
                  </a:lnTo>
                  <a:lnTo>
                    <a:pt x="3247" y="11200"/>
                  </a:lnTo>
                  <a:lnTo>
                    <a:pt x="3247" y="12000"/>
                  </a:lnTo>
                  <a:lnTo>
                    <a:pt x="3247" y="12267"/>
                  </a:lnTo>
                  <a:lnTo>
                    <a:pt x="3048" y="12267"/>
                  </a:lnTo>
                  <a:lnTo>
                    <a:pt x="994" y="6844"/>
                  </a:lnTo>
                  <a:lnTo>
                    <a:pt x="795" y="7111"/>
                  </a:lnTo>
                  <a:lnTo>
                    <a:pt x="596" y="7644"/>
                  </a:lnTo>
                  <a:lnTo>
                    <a:pt x="398" y="7911"/>
                  </a:lnTo>
                  <a:lnTo>
                    <a:pt x="398" y="8444"/>
                  </a:lnTo>
                  <a:lnTo>
                    <a:pt x="398" y="8711"/>
                  </a:lnTo>
                  <a:lnTo>
                    <a:pt x="199" y="9244"/>
                  </a:lnTo>
                  <a:lnTo>
                    <a:pt x="199" y="9867"/>
                  </a:lnTo>
                  <a:lnTo>
                    <a:pt x="398" y="10133"/>
                  </a:lnTo>
                  <a:lnTo>
                    <a:pt x="398" y="10667"/>
                  </a:lnTo>
                  <a:lnTo>
                    <a:pt x="596" y="11200"/>
                  </a:lnTo>
                  <a:lnTo>
                    <a:pt x="795" y="11733"/>
                  </a:lnTo>
                  <a:lnTo>
                    <a:pt x="994" y="12000"/>
                  </a:lnTo>
                  <a:lnTo>
                    <a:pt x="1193" y="12533"/>
                  </a:lnTo>
                  <a:lnTo>
                    <a:pt x="1391" y="12800"/>
                  </a:lnTo>
                  <a:lnTo>
                    <a:pt x="1855" y="13156"/>
                  </a:lnTo>
                  <a:lnTo>
                    <a:pt x="2253" y="13422"/>
                  </a:lnTo>
                  <a:lnTo>
                    <a:pt x="1391" y="13956"/>
                  </a:lnTo>
                  <a:lnTo>
                    <a:pt x="994" y="14489"/>
                  </a:lnTo>
                  <a:lnTo>
                    <a:pt x="596" y="15022"/>
                  </a:lnTo>
                  <a:lnTo>
                    <a:pt x="398" y="15822"/>
                  </a:lnTo>
                  <a:lnTo>
                    <a:pt x="199" y="16356"/>
                  </a:lnTo>
                  <a:lnTo>
                    <a:pt x="0" y="17244"/>
                  </a:lnTo>
                  <a:lnTo>
                    <a:pt x="0" y="18044"/>
                  </a:lnTo>
                  <a:lnTo>
                    <a:pt x="199" y="18844"/>
                  </a:lnTo>
                  <a:lnTo>
                    <a:pt x="398" y="19378"/>
                  </a:lnTo>
                  <a:lnTo>
                    <a:pt x="795" y="20267"/>
                  </a:lnTo>
                  <a:lnTo>
                    <a:pt x="1193" y="20800"/>
                  </a:lnTo>
                  <a:lnTo>
                    <a:pt x="1855" y="21067"/>
                  </a:lnTo>
                  <a:lnTo>
                    <a:pt x="2253" y="21333"/>
                  </a:lnTo>
                  <a:lnTo>
                    <a:pt x="2849" y="21600"/>
                  </a:lnTo>
                  <a:lnTo>
                    <a:pt x="3445" y="21600"/>
                  </a:lnTo>
                  <a:lnTo>
                    <a:pt x="4108" y="21333"/>
                  </a:lnTo>
                  <a:lnTo>
                    <a:pt x="4704" y="21067"/>
                  </a:lnTo>
                  <a:lnTo>
                    <a:pt x="5102" y="20800"/>
                  </a:lnTo>
                  <a:lnTo>
                    <a:pt x="6294" y="20267"/>
                  </a:lnTo>
                  <a:lnTo>
                    <a:pt x="7355" y="19378"/>
                  </a:lnTo>
                  <a:lnTo>
                    <a:pt x="8348" y="18844"/>
                  </a:lnTo>
                  <a:lnTo>
                    <a:pt x="9409" y="18311"/>
                  </a:lnTo>
                  <a:lnTo>
                    <a:pt x="10402" y="17778"/>
                  </a:lnTo>
                  <a:lnTo>
                    <a:pt x="11396" y="16978"/>
                  </a:lnTo>
                  <a:lnTo>
                    <a:pt x="12655" y="16356"/>
                  </a:lnTo>
                  <a:lnTo>
                    <a:pt x="13649" y="15822"/>
                  </a:lnTo>
                  <a:lnTo>
                    <a:pt x="14047" y="16089"/>
                  </a:lnTo>
                  <a:lnTo>
                    <a:pt x="14245" y="16089"/>
                  </a:lnTo>
                  <a:lnTo>
                    <a:pt x="14709" y="16089"/>
                  </a:lnTo>
                  <a:lnTo>
                    <a:pt x="15107" y="16089"/>
                  </a:lnTo>
                  <a:lnTo>
                    <a:pt x="15504" y="16089"/>
                  </a:lnTo>
                  <a:lnTo>
                    <a:pt x="15902" y="15822"/>
                  </a:lnTo>
                  <a:lnTo>
                    <a:pt x="16299" y="15822"/>
                  </a:lnTo>
                  <a:lnTo>
                    <a:pt x="16697" y="15556"/>
                  </a:lnTo>
                  <a:lnTo>
                    <a:pt x="16896" y="15022"/>
                  </a:lnTo>
                  <a:lnTo>
                    <a:pt x="17360" y="14756"/>
                  </a:lnTo>
                  <a:lnTo>
                    <a:pt x="17558" y="14489"/>
                  </a:lnTo>
                  <a:lnTo>
                    <a:pt x="17956" y="14222"/>
                  </a:lnTo>
                  <a:lnTo>
                    <a:pt x="18353" y="13956"/>
                  </a:lnTo>
                  <a:lnTo>
                    <a:pt x="18552" y="13689"/>
                  </a:lnTo>
                  <a:lnTo>
                    <a:pt x="18751" y="13422"/>
                  </a:lnTo>
                  <a:lnTo>
                    <a:pt x="19148" y="13156"/>
                  </a:lnTo>
                  <a:lnTo>
                    <a:pt x="21202" y="10667"/>
                  </a:lnTo>
                  <a:lnTo>
                    <a:pt x="21401" y="10133"/>
                  </a:lnTo>
                  <a:lnTo>
                    <a:pt x="21401" y="9600"/>
                  </a:lnTo>
                  <a:lnTo>
                    <a:pt x="21600" y="8978"/>
                  </a:lnTo>
                  <a:lnTo>
                    <a:pt x="21600" y="8444"/>
                  </a:lnTo>
                  <a:lnTo>
                    <a:pt x="21600" y="7911"/>
                  </a:lnTo>
                  <a:lnTo>
                    <a:pt x="21600" y="7378"/>
                  </a:lnTo>
                  <a:lnTo>
                    <a:pt x="21401" y="7111"/>
                  </a:lnTo>
                  <a:lnTo>
                    <a:pt x="21401" y="6578"/>
                  </a:lnTo>
                  <a:close/>
                  <a:moveTo>
                    <a:pt x="4108" y="5156"/>
                  </a:moveTo>
                  <a:lnTo>
                    <a:pt x="4108" y="5156"/>
                  </a:lnTo>
                  <a:lnTo>
                    <a:pt x="4108" y="4889"/>
                  </a:lnTo>
                  <a:lnTo>
                    <a:pt x="3843" y="4889"/>
                  </a:lnTo>
                  <a:lnTo>
                    <a:pt x="4108" y="4889"/>
                  </a:lnTo>
                  <a:lnTo>
                    <a:pt x="4108" y="5156"/>
                  </a:lnTo>
                  <a:close/>
                  <a:moveTo>
                    <a:pt x="4108" y="5156"/>
                  </a:moveTo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3" name="AutoShape 90"/>
            <p:cNvSpPr/>
            <p:nvPr/>
          </p:nvSpPr>
          <p:spPr>
            <a:xfrm>
              <a:off x="6913800" y="2160360"/>
              <a:ext cx="468360" cy="58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80" y="6905"/>
                  </a:moveTo>
                  <a:lnTo>
                    <a:pt x="21161" y="6315"/>
                  </a:lnTo>
                  <a:lnTo>
                    <a:pt x="20721" y="5784"/>
                  </a:lnTo>
                  <a:lnTo>
                    <a:pt x="20282" y="5430"/>
                  </a:lnTo>
                  <a:lnTo>
                    <a:pt x="19769" y="5252"/>
                  </a:lnTo>
                  <a:lnTo>
                    <a:pt x="19111" y="5075"/>
                  </a:lnTo>
                  <a:lnTo>
                    <a:pt x="18452" y="4898"/>
                  </a:lnTo>
                  <a:lnTo>
                    <a:pt x="17793" y="4898"/>
                  </a:lnTo>
                  <a:lnTo>
                    <a:pt x="17134" y="5075"/>
                  </a:lnTo>
                  <a:lnTo>
                    <a:pt x="16841" y="5075"/>
                  </a:lnTo>
                  <a:lnTo>
                    <a:pt x="17134" y="4544"/>
                  </a:lnTo>
                  <a:lnTo>
                    <a:pt x="17353" y="4131"/>
                  </a:lnTo>
                  <a:lnTo>
                    <a:pt x="17353" y="3600"/>
                  </a:lnTo>
                  <a:lnTo>
                    <a:pt x="17134" y="3069"/>
                  </a:lnTo>
                  <a:lnTo>
                    <a:pt x="16841" y="2715"/>
                  </a:lnTo>
                  <a:lnTo>
                    <a:pt x="16621" y="2361"/>
                  </a:lnTo>
                  <a:lnTo>
                    <a:pt x="16182" y="1948"/>
                  </a:lnTo>
                  <a:lnTo>
                    <a:pt x="15742" y="1593"/>
                  </a:lnTo>
                  <a:lnTo>
                    <a:pt x="15303" y="1416"/>
                  </a:lnTo>
                  <a:lnTo>
                    <a:pt x="14864" y="1239"/>
                  </a:lnTo>
                  <a:lnTo>
                    <a:pt x="14644" y="1239"/>
                  </a:lnTo>
                  <a:lnTo>
                    <a:pt x="14424" y="1062"/>
                  </a:lnTo>
                  <a:lnTo>
                    <a:pt x="14205" y="1062"/>
                  </a:lnTo>
                  <a:lnTo>
                    <a:pt x="13692" y="1062"/>
                  </a:lnTo>
                  <a:lnTo>
                    <a:pt x="13473" y="1062"/>
                  </a:lnTo>
                  <a:lnTo>
                    <a:pt x="13253" y="1062"/>
                  </a:lnTo>
                  <a:lnTo>
                    <a:pt x="13033" y="1062"/>
                  </a:lnTo>
                  <a:lnTo>
                    <a:pt x="12814" y="1062"/>
                  </a:lnTo>
                  <a:lnTo>
                    <a:pt x="11276" y="1239"/>
                  </a:lnTo>
                  <a:lnTo>
                    <a:pt x="10983" y="1416"/>
                  </a:lnTo>
                  <a:lnTo>
                    <a:pt x="10763" y="1416"/>
                  </a:lnTo>
                  <a:lnTo>
                    <a:pt x="10544" y="1416"/>
                  </a:lnTo>
                  <a:lnTo>
                    <a:pt x="10544" y="1239"/>
                  </a:lnTo>
                  <a:lnTo>
                    <a:pt x="10544" y="1062"/>
                  </a:lnTo>
                  <a:lnTo>
                    <a:pt x="10324" y="1062"/>
                  </a:lnTo>
                  <a:lnTo>
                    <a:pt x="9885" y="531"/>
                  </a:lnTo>
                  <a:lnTo>
                    <a:pt x="9226" y="354"/>
                  </a:lnTo>
                  <a:lnTo>
                    <a:pt x="8567" y="177"/>
                  </a:lnTo>
                  <a:lnTo>
                    <a:pt x="7835" y="0"/>
                  </a:lnTo>
                  <a:lnTo>
                    <a:pt x="7176" y="177"/>
                  </a:lnTo>
                  <a:lnTo>
                    <a:pt x="6736" y="177"/>
                  </a:lnTo>
                  <a:lnTo>
                    <a:pt x="6077" y="531"/>
                  </a:lnTo>
                  <a:lnTo>
                    <a:pt x="5345" y="708"/>
                  </a:lnTo>
                  <a:lnTo>
                    <a:pt x="4906" y="1062"/>
                  </a:lnTo>
                  <a:lnTo>
                    <a:pt x="4466" y="1416"/>
                  </a:lnTo>
                  <a:lnTo>
                    <a:pt x="4027" y="1770"/>
                  </a:lnTo>
                  <a:lnTo>
                    <a:pt x="3588" y="2184"/>
                  </a:lnTo>
                  <a:lnTo>
                    <a:pt x="3148" y="2538"/>
                  </a:lnTo>
                  <a:lnTo>
                    <a:pt x="2416" y="2715"/>
                  </a:lnTo>
                  <a:lnTo>
                    <a:pt x="1977" y="3069"/>
                  </a:lnTo>
                  <a:lnTo>
                    <a:pt x="1538" y="3423"/>
                  </a:lnTo>
                  <a:lnTo>
                    <a:pt x="1977" y="3954"/>
                  </a:lnTo>
                  <a:lnTo>
                    <a:pt x="2197" y="4544"/>
                  </a:lnTo>
                  <a:lnTo>
                    <a:pt x="2709" y="5075"/>
                  </a:lnTo>
                  <a:lnTo>
                    <a:pt x="2929" y="5607"/>
                  </a:lnTo>
                  <a:lnTo>
                    <a:pt x="3368" y="6138"/>
                  </a:lnTo>
                  <a:lnTo>
                    <a:pt x="3588" y="6669"/>
                  </a:lnTo>
                  <a:lnTo>
                    <a:pt x="3807" y="7259"/>
                  </a:lnTo>
                  <a:lnTo>
                    <a:pt x="4247" y="7790"/>
                  </a:lnTo>
                  <a:lnTo>
                    <a:pt x="879" y="3954"/>
                  </a:lnTo>
                  <a:lnTo>
                    <a:pt x="659" y="4308"/>
                  </a:lnTo>
                  <a:lnTo>
                    <a:pt x="439" y="4721"/>
                  </a:lnTo>
                  <a:lnTo>
                    <a:pt x="220" y="4898"/>
                  </a:lnTo>
                  <a:lnTo>
                    <a:pt x="0" y="5252"/>
                  </a:lnTo>
                  <a:lnTo>
                    <a:pt x="0" y="5607"/>
                  </a:lnTo>
                  <a:lnTo>
                    <a:pt x="0" y="5961"/>
                  </a:lnTo>
                  <a:lnTo>
                    <a:pt x="0" y="6315"/>
                  </a:lnTo>
                  <a:lnTo>
                    <a:pt x="220" y="6669"/>
                  </a:lnTo>
                  <a:lnTo>
                    <a:pt x="439" y="7259"/>
                  </a:lnTo>
                  <a:lnTo>
                    <a:pt x="659" y="7613"/>
                  </a:lnTo>
                  <a:lnTo>
                    <a:pt x="879" y="7790"/>
                  </a:lnTo>
                  <a:lnTo>
                    <a:pt x="1318" y="8144"/>
                  </a:lnTo>
                  <a:lnTo>
                    <a:pt x="1757" y="8321"/>
                  </a:lnTo>
                  <a:lnTo>
                    <a:pt x="2197" y="8498"/>
                  </a:lnTo>
                  <a:lnTo>
                    <a:pt x="2709" y="8675"/>
                  </a:lnTo>
                  <a:lnTo>
                    <a:pt x="3148" y="8675"/>
                  </a:lnTo>
                  <a:lnTo>
                    <a:pt x="2416" y="9266"/>
                  </a:lnTo>
                  <a:lnTo>
                    <a:pt x="1977" y="9620"/>
                  </a:lnTo>
                  <a:lnTo>
                    <a:pt x="1757" y="9974"/>
                  </a:lnTo>
                  <a:lnTo>
                    <a:pt x="1538" y="10328"/>
                  </a:lnTo>
                  <a:lnTo>
                    <a:pt x="1538" y="10682"/>
                  </a:lnTo>
                  <a:lnTo>
                    <a:pt x="1538" y="11036"/>
                  </a:lnTo>
                  <a:lnTo>
                    <a:pt x="1538" y="11390"/>
                  </a:lnTo>
                  <a:lnTo>
                    <a:pt x="1538" y="11803"/>
                  </a:lnTo>
                  <a:lnTo>
                    <a:pt x="1757" y="12157"/>
                  </a:lnTo>
                  <a:lnTo>
                    <a:pt x="1977" y="12511"/>
                  </a:lnTo>
                  <a:lnTo>
                    <a:pt x="2197" y="12866"/>
                  </a:lnTo>
                  <a:lnTo>
                    <a:pt x="2416" y="13220"/>
                  </a:lnTo>
                  <a:lnTo>
                    <a:pt x="2929" y="13397"/>
                  </a:lnTo>
                  <a:lnTo>
                    <a:pt x="3148" y="13574"/>
                  </a:lnTo>
                  <a:lnTo>
                    <a:pt x="3588" y="13751"/>
                  </a:lnTo>
                  <a:lnTo>
                    <a:pt x="4027" y="13987"/>
                  </a:lnTo>
                  <a:lnTo>
                    <a:pt x="4466" y="13987"/>
                  </a:lnTo>
                  <a:lnTo>
                    <a:pt x="4247" y="14341"/>
                  </a:lnTo>
                  <a:lnTo>
                    <a:pt x="4027" y="14695"/>
                  </a:lnTo>
                  <a:lnTo>
                    <a:pt x="4027" y="15049"/>
                  </a:lnTo>
                  <a:lnTo>
                    <a:pt x="3807" y="15403"/>
                  </a:lnTo>
                  <a:lnTo>
                    <a:pt x="3807" y="15934"/>
                  </a:lnTo>
                  <a:lnTo>
                    <a:pt x="4027" y="16348"/>
                  </a:lnTo>
                  <a:lnTo>
                    <a:pt x="4247" y="16702"/>
                  </a:lnTo>
                  <a:lnTo>
                    <a:pt x="4466" y="17056"/>
                  </a:lnTo>
                  <a:lnTo>
                    <a:pt x="4466" y="17233"/>
                  </a:lnTo>
                  <a:lnTo>
                    <a:pt x="4686" y="17410"/>
                  </a:lnTo>
                  <a:lnTo>
                    <a:pt x="4906" y="17587"/>
                  </a:lnTo>
                  <a:lnTo>
                    <a:pt x="5125" y="17587"/>
                  </a:lnTo>
                  <a:lnTo>
                    <a:pt x="5125" y="17764"/>
                  </a:lnTo>
                  <a:lnTo>
                    <a:pt x="5125" y="17941"/>
                  </a:lnTo>
                  <a:lnTo>
                    <a:pt x="4906" y="18295"/>
                  </a:lnTo>
                  <a:lnTo>
                    <a:pt x="4906" y="18472"/>
                  </a:lnTo>
                  <a:lnTo>
                    <a:pt x="4906" y="18885"/>
                  </a:lnTo>
                  <a:lnTo>
                    <a:pt x="4906" y="19062"/>
                  </a:lnTo>
                  <a:lnTo>
                    <a:pt x="4906" y="19416"/>
                  </a:lnTo>
                  <a:lnTo>
                    <a:pt x="5125" y="19593"/>
                  </a:lnTo>
                  <a:lnTo>
                    <a:pt x="5125" y="19948"/>
                  </a:lnTo>
                  <a:lnTo>
                    <a:pt x="5638" y="20479"/>
                  </a:lnTo>
                  <a:lnTo>
                    <a:pt x="5858" y="20833"/>
                  </a:lnTo>
                  <a:lnTo>
                    <a:pt x="6517" y="21246"/>
                  </a:lnTo>
                  <a:lnTo>
                    <a:pt x="6956" y="21423"/>
                  </a:lnTo>
                  <a:lnTo>
                    <a:pt x="7615" y="21600"/>
                  </a:lnTo>
                  <a:lnTo>
                    <a:pt x="8274" y="21600"/>
                  </a:lnTo>
                  <a:lnTo>
                    <a:pt x="9006" y="21600"/>
                  </a:lnTo>
                  <a:lnTo>
                    <a:pt x="9665" y="21423"/>
                  </a:lnTo>
                  <a:lnTo>
                    <a:pt x="10324" y="21246"/>
                  </a:lnTo>
                  <a:lnTo>
                    <a:pt x="10983" y="20833"/>
                  </a:lnTo>
                  <a:lnTo>
                    <a:pt x="12155" y="20656"/>
                  </a:lnTo>
                  <a:lnTo>
                    <a:pt x="13033" y="20479"/>
                  </a:lnTo>
                  <a:lnTo>
                    <a:pt x="13912" y="20125"/>
                  </a:lnTo>
                  <a:lnTo>
                    <a:pt x="14864" y="19948"/>
                  </a:lnTo>
                  <a:lnTo>
                    <a:pt x="15742" y="19770"/>
                  </a:lnTo>
                  <a:lnTo>
                    <a:pt x="16621" y="19593"/>
                  </a:lnTo>
                  <a:lnTo>
                    <a:pt x="17573" y="19239"/>
                  </a:lnTo>
                  <a:lnTo>
                    <a:pt x="18232" y="19062"/>
                  </a:lnTo>
                  <a:lnTo>
                    <a:pt x="18671" y="18708"/>
                  </a:lnTo>
                  <a:lnTo>
                    <a:pt x="19111" y="18295"/>
                  </a:lnTo>
                  <a:lnTo>
                    <a:pt x="19550" y="17941"/>
                  </a:lnTo>
                  <a:lnTo>
                    <a:pt x="19769" y="17410"/>
                  </a:lnTo>
                  <a:lnTo>
                    <a:pt x="19769" y="16879"/>
                  </a:lnTo>
                  <a:lnTo>
                    <a:pt x="19769" y="16348"/>
                  </a:lnTo>
                  <a:lnTo>
                    <a:pt x="19550" y="15757"/>
                  </a:lnTo>
                  <a:lnTo>
                    <a:pt x="19550" y="15580"/>
                  </a:lnTo>
                  <a:lnTo>
                    <a:pt x="19330" y="15226"/>
                  </a:lnTo>
                  <a:lnTo>
                    <a:pt x="19111" y="15049"/>
                  </a:lnTo>
                  <a:lnTo>
                    <a:pt x="18891" y="14872"/>
                  </a:lnTo>
                  <a:lnTo>
                    <a:pt x="18671" y="14695"/>
                  </a:lnTo>
                  <a:lnTo>
                    <a:pt x="18452" y="14518"/>
                  </a:lnTo>
                  <a:lnTo>
                    <a:pt x="18232" y="14341"/>
                  </a:lnTo>
                  <a:lnTo>
                    <a:pt x="18012" y="14164"/>
                  </a:lnTo>
                  <a:lnTo>
                    <a:pt x="18232" y="13987"/>
                  </a:lnTo>
                  <a:lnTo>
                    <a:pt x="18232" y="13574"/>
                  </a:lnTo>
                  <a:lnTo>
                    <a:pt x="18452" y="13220"/>
                  </a:lnTo>
                  <a:lnTo>
                    <a:pt x="18452" y="13043"/>
                  </a:lnTo>
                  <a:lnTo>
                    <a:pt x="18452" y="12689"/>
                  </a:lnTo>
                  <a:lnTo>
                    <a:pt x="18452" y="12334"/>
                  </a:lnTo>
                  <a:lnTo>
                    <a:pt x="18232" y="11980"/>
                  </a:lnTo>
                  <a:lnTo>
                    <a:pt x="18232" y="11803"/>
                  </a:lnTo>
                  <a:lnTo>
                    <a:pt x="18012" y="11803"/>
                  </a:lnTo>
                  <a:lnTo>
                    <a:pt x="18012" y="11626"/>
                  </a:lnTo>
                  <a:lnTo>
                    <a:pt x="20062" y="10328"/>
                  </a:lnTo>
                  <a:lnTo>
                    <a:pt x="20282" y="9974"/>
                  </a:lnTo>
                  <a:lnTo>
                    <a:pt x="20721" y="9797"/>
                  </a:lnTo>
                  <a:lnTo>
                    <a:pt x="20941" y="9620"/>
                  </a:lnTo>
                  <a:lnTo>
                    <a:pt x="21161" y="9443"/>
                  </a:lnTo>
                  <a:lnTo>
                    <a:pt x="21380" y="9030"/>
                  </a:lnTo>
                  <a:lnTo>
                    <a:pt x="21380" y="8852"/>
                  </a:lnTo>
                  <a:lnTo>
                    <a:pt x="21600" y="8498"/>
                  </a:lnTo>
                  <a:lnTo>
                    <a:pt x="21600" y="8144"/>
                  </a:lnTo>
                  <a:lnTo>
                    <a:pt x="21600" y="7967"/>
                  </a:lnTo>
                  <a:lnTo>
                    <a:pt x="21600" y="7790"/>
                  </a:lnTo>
                  <a:lnTo>
                    <a:pt x="21600" y="7613"/>
                  </a:lnTo>
                  <a:lnTo>
                    <a:pt x="21600" y="7436"/>
                  </a:lnTo>
                  <a:lnTo>
                    <a:pt x="21600" y="7259"/>
                  </a:lnTo>
                  <a:lnTo>
                    <a:pt x="21600" y="7082"/>
                  </a:lnTo>
                  <a:lnTo>
                    <a:pt x="21600" y="6905"/>
                  </a:lnTo>
                  <a:lnTo>
                    <a:pt x="21380" y="6905"/>
                  </a:lnTo>
                  <a:close/>
                  <a:moveTo>
                    <a:pt x="3148" y="3069"/>
                  </a:moveTo>
                  <a:lnTo>
                    <a:pt x="3148" y="3069"/>
                  </a:lnTo>
                  <a:lnTo>
                    <a:pt x="3148" y="2892"/>
                  </a:lnTo>
                  <a:lnTo>
                    <a:pt x="3148" y="3069"/>
                  </a:lnTo>
                  <a:close/>
                  <a:moveTo>
                    <a:pt x="3148" y="3069"/>
                  </a:moveTo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7612200" y="2795400"/>
              <a:ext cx="19080" cy="2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6200" y="21600"/>
                  </a:lnTo>
                  <a:lnTo>
                    <a:pt x="10800" y="17280"/>
                  </a:lnTo>
                  <a:lnTo>
                    <a:pt x="5400" y="17280"/>
                  </a:lnTo>
                  <a:lnTo>
                    <a:pt x="5400" y="12960"/>
                  </a:lnTo>
                  <a:lnTo>
                    <a:pt x="0" y="12960"/>
                  </a:lnTo>
                  <a:lnTo>
                    <a:pt x="10800" y="0"/>
                  </a:lnTo>
                  <a:lnTo>
                    <a:pt x="16200" y="4320"/>
                  </a:lnTo>
                  <a:lnTo>
                    <a:pt x="21600" y="8640"/>
                  </a:lnTo>
                  <a:lnTo>
                    <a:pt x="21600" y="12960"/>
                  </a:lnTo>
                  <a:lnTo>
                    <a:pt x="21600" y="1728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5288040" y="3019320"/>
              <a:ext cx="9720" cy="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10800" y="7200"/>
                  </a:lnTo>
                  <a:lnTo>
                    <a:pt x="10800" y="14400"/>
                  </a:lnTo>
                  <a:lnTo>
                    <a:pt x="21600" y="21600"/>
                  </a:lnTo>
                  <a:lnTo>
                    <a:pt x="10800" y="21600"/>
                  </a:lnTo>
                  <a:close/>
                  <a:moveTo>
                    <a:pt x="10800" y="216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6" name="Freeform 93"/>
            <p:cNvSpPr/>
            <p:nvPr/>
          </p:nvSpPr>
          <p:spPr>
            <a:xfrm>
              <a:off x="8326440" y="3068640"/>
              <a:ext cx="3996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184" y="19286"/>
                  </a:moveTo>
                  <a:lnTo>
                    <a:pt x="5184" y="19286"/>
                  </a:lnTo>
                  <a:lnTo>
                    <a:pt x="5184" y="21600"/>
                  </a:lnTo>
                  <a:lnTo>
                    <a:pt x="2592" y="21600"/>
                  </a:lnTo>
                  <a:lnTo>
                    <a:pt x="0" y="21600"/>
                  </a:lnTo>
                  <a:lnTo>
                    <a:pt x="0" y="19286"/>
                  </a:lnTo>
                  <a:lnTo>
                    <a:pt x="2592" y="13886"/>
                  </a:lnTo>
                  <a:lnTo>
                    <a:pt x="5184" y="13886"/>
                  </a:lnTo>
                  <a:lnTo>
                    <a:pt x="7776" y="11571"/>
                  </a:lnTo>
                  <a:lnTo>
                    <a:pt x="12960" y="9257"/>
                  </a:lnTo>
                  <a:lnTo>
                    <a:pt x="16416" y="6943"/>
                  </a:lnTo>
                  <a:lnTo>
                    <a:pt x="21600" y="2314"/>
                  </a:lnTo>
                  <a:lnTo>
                    <a:pt x="21600" y="0"/>
                  </a:lnTo>
                  <a:lnTo>
                    <a:pt x="21600" y="2314"/>
                  </a:lnTo>
                  <a:lnTo>
                    <a:pt x="21600" y="4629"/>
                  </a:lnTo>
                  <a:lnTo>
                    <a:pt x="19008" y="6943"/>
                  </a:lnTo>
                  <a:lnTo>
                    <a:pt x="16416" y="9257"/>
                  </a:lnTo>
                  <a:lnTo>
                    <a:pt x="10368" y="9257"/>
                  </a:lnTo>
                  <a:lnTo>
                    <a:pt x="7776" y="11571"/>
                  </a:lnTo>
                  <a:lnTo>
                    <a:pt x="5184" y="13886"/>
                  </a:lnTo>
                  <a:lnTo>
                    <a:pt x="5184" y="19286"/>
                  </a:lnTo>
                  <a:close/>
                  <a:moveTo>
                    <a:pt x="5184" y="1928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7" name="Freeform 94"/>
            <p:cNvSpPr/>
            <p:nvPr/>
          </p:nvSpPr>
          <p:spPr>
            <a:xfrm>
              <a:off x="6793200" y="3552840"/>
              <a:ext cx="47304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48" y="0"/>
                  </a:moveTo>
                  <a:lnTo>
                    <a:pt x="19860" y="267"/>
                  </a:lnTo>
                  <a:lnTo>
                    <a:pt x="18918" y="533"/>
                  </a:lnTo>
                  <a:lnTo>
                    <a:pt x="18048" y="933"/>
                  </a:lnTo>
                  <a:lnTo>
                    <a:pt x="17179" y="1333"/>
                  </a:lnTo>
                  <a:lnTo>
                    <a:pt x="16236" y="1778"/>
                  </a:lnTo>
                  <a:lnTo>
                    <a:pt x="15584" y="2178"/>
                  </a:lnTo>
                  <a:lnTo>
                    <a:pt x="14714" y="2711"/>
                  </a:lnTo>
                  <a:lnTo>
                    <a:pt x="14062" y="3244"/>
                  </a:lnTo>
                  <a:lnTo>
                    <a:pt x="13119" y="4222"/>
                  </a:lnTo>
                  <a:lnTo>
                    <a:pt x="12685" y="5333"/>
                  </a:lnTo>
                  <a:lnTo>
                    <a:pt x="12467" y="6400"/>
                  </a:lnTo>
                  <a:lnTo>
                    <a:pt x="12685" y="7511"/>
                  </a:lnTo>
                  <a:lnTo>
                    <a:pt x="12902" y="8578"/>
                  </a:lnTo>
                  <a:lnTo>
                    <a:pt x="13337" y="9689"/>
                  </a:lnTo>
                  <a:lnTo>
                    <a:pt x="13772" y="10800"/>
                  </a:lnTo>
                  <a:lnTo>
                    <a:pt x="14279" y="11867"/>
                  </a:lnTo>
                  <a:lnTo>
                    <a:pt x="14497" y="12444"/>
                  </a:lnTo>
                  <a:lnTo>
                    <a:pt x="14497" y="13111"/>
                  </a:lnTo>
                  <a:lnTo>
                    <a:pt x="14279" y="13644"/>
                  </a:lnTo>
                  <a:lnTo>
                    <a:pt x="14062" y="14222"/>
                  </a:lnTo>
                  <a:lnTo>
                    <a:pt x="13772" y="14756"/>
                  </a:lnTo>
                  <a:lnTo>
                    <a:pt x="13554" y="15289"/>
                  </a:lnTo>
                  <a:lnTo>
                    <a:pt x="13119" y="15822"/>
                  </a:lnTo>
                  <a:lnTo>
                    <a:pt x="12902" y="16400"/>
                  </a:lnTo>
                  <a:lnTo>
                    <a:pt x="12032" y="17333"/>
                  </a:lnTo>
                  <a:lnTo>
                    <a:pt x="10872" y="18178"/>
                  </a:lnTo>
                  <a:lnTo>
                    <a:pt x="9568" y="18844"/>
                  </a:lnTo>
                  <a:lnTo>
                    <a:pt x="8263" y="19244"/>
                  </a:lnTo>
                  <a:lnTo>
                    <a:pt x="6451" y="19689"/>
                  </a:lnTo>
                  <a:lnTo>
                    <a:pt x="4856" y="19822"/>
                  </a:lnTo>
                  <a:lnTo>
                    <a:pt x="3117" y="19956"/>
                  </a:lnTo>
                  <a:lnTo>
                    <a:pt x="1305" y="19956"/>
                  </a:lnTo>
                  <a:lnTo>
                    <a:pt x="1087" y="19956"/>
                  </a:lnTo>
                  <a:lnTo>
                    <a:pt x="870" y="19956"/>
                  </a:lnTo>
                  <a:lnTo>
                    <a:pt x="652" y="20089"/>
                  </a:lnTo>
                  <a:lnTo>
                    <a:pt x="435" y="20222"/>
                  </a:lnTo>
                  <a:lnTo>
                    <a:pt x="217" y="20356"/>
                  </a:lnTo>
                  <a:lnTo>
                    <a:pt x="217" y="20489"/>
                  </a:lnTo>
                  <a:lnTo>
                    <a:pt x="0" y="20622"/>
                  </a:lnTo>
                  <a:lnTo>
                    <a:pt x="0" y="20756"/>
                  </a:lnTo>
                  <a:lnTo>
                    <a:pt x="0" y="20889"/>
                  </a:lnTo>
                  <a:lnTo>
                    <a:pt x="217" y="21022"/>
                  </a:lnTo>
                  <a:lnTo>
                    <a:pt x="217" y="21156"/>
                  </a:lnTo>
                  <a:lnTo>
                    <a:pt x="435" y="21333"/>
                  </a:lnTo>
                  <a:lnTo>
                    <a:pt x="652" y="21467"/>
                  </a:lnTo>
                  <a:lnTo>
                    <a:pt x="870" y="21467"/>
                  </a:lnTo>
                  <a:lnTo>
                    <a:pt x="1087" y="21467"/>
                  </a:lnTo>
                  <a:lnTo>
                    <a:pt x="1305" y="21467"/>
                  </a:lnTo>
                  <a:lnTo>
                    <a:pt x="2682" y="21600"/>
                  </a:lnTo>
                  <a:lnTo>
                    <a:pt x="3987" y="21467"/>
                  </a:lnTo>
                  <a:lnTo>
                    <a:pt x="5364" y="21467"/>
                  </a:lnTo>
                  <a:lnTo>
                    <a:pt x="6668" y="21333"/>
                  </a:lnTo>
                  <a:lnTo>
                    <a:pt x="7756" y="21022"/>
                  </a:lnTo>
                  <a:lnTo>
                    <a:pt x="9133" y="20756"/>
                  </a:lnTo>
                  <a:lnTo>
                    <a:pt x="10220" y="20356"/>
                  </a:lnTo>
                  <a:lnTo>
                    <a:pt x="11380" y="19956"/>
                  </a:lnTo>
                  <a:lnTo>
                    <a:pt x="12685" y="19111"/>
                  </a:lnTo>
                  <a:lnTo>
                    <a:pt x="14062" y="18311"/>
                  </a:lnTo>
                  <a:lnTo>
                    <a:pt x="14932" y="17333"/>
                  </a:lnTo>
                  <a:lnTo>
                    <a:pt x="15584" y="16400"/>
                  </a:lnTo>
                  <a:lnTo>
                    <a:pt x="16236" y="15422"/>
                  </a:lnTo>
                  <a:lnTo>
                    <a:pt x="16454" y="14356"/>
                  </a:lnTo>
                  <a:lnTo>
                    <a:pt x="16744" y="13244"/>
                  </a:lnTo>
                  <a:lnTo>
                    <a:pt x="16454" y="12133"/>
                  </a:lnTo>
                  <a:lnTo>
                    <a:pt x="16454" y="11333"/>
                  </a:lnTo>
                  <a:lnTo>
                    <a:pt x="16019" y="10489"/>
                  </a:lnTo>
                  <a:lnTo>
                    <a:pt x="15801" y="9689"/>
                  </a:lnTo>
                  <a:lnTo>
                    <a:pt x="15366" y="8889"/>
                  </a:lnTo>
                  <a:lnTo>
                    <a:pt x="15149" y="8044"/>
                  </a:lnTo>
                  <a:lnTo>
                    <a:pt x="14932" y="7244"/>
                  </a:lnTo>
                  <a:lnTo>
                    <a:pt x="14714" y="6400"/>
                  </a:lnTo>
                  <a:lnTo>
                    <a:pt x="14714" y="5600"/>
                  </a:lnTo>
                  <a:lnTo>
                    <a:pt x="14932" y="4756"/>
                  </a:lnTo>
                  <a:lnTo>
                    <a:pt x="15366" y="4089"/>
                  </a:lnTo>
                  <a:lnTo>
                    <a:pt x="16019" y="3244"/>
                  </a:lnTo>
                  <a:lnTo>
                    <a:pt x="16961" y="2578"/>
                  </a:lnTo>
                  <a:lnTo>
                    <a:pt x="17831" y="2044"/>
                  </a:lnTo>
                  <a:lnTo>
                    <a:pt x="18918" y="1467"/>
                  </a:lnTo>
                  <a:lnTo>
                    <a:pt x="20078" y="933"/>
                  </a:lnTo>
                  <a:lnTo>
                    <a:pt x="21383" y="533"/>
                  </a:lnTo>
                  <a:lnTo>
                    <a:pt x="21600" y="400"/>
                  </a:lnTo>
                  <a:lnTo>
                    <a:pt x="21600" y="267"/>
                  </a:lnTo>
                  <a:lnTo>
                    <a:pt x="21600" y="133"/>
                  </a:lnTo>
                  <a:lnTo>
                    <a:pt x="21383" y="133"/>
                  </a:lnTo>
                  <a:lnTo>
                    <a:pt x="21383" y="0"/>
                  </a:lnTo>
                  <a:lnTo>
                    <a:pt x="21165" y="0"/>
                  </a:lnTo>
                  <a:lnTo>
                    <a:pt x="20948" y="0"/>
                  </a:lnTo>
                  <a:close/>
                  <a:moveTo>
                    <a:pt x="20948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8" name="Freeform 95"/>
            <p:cNvSpPr/>
            <p:nvPr/>
          </p:nvSpPr>
          <p:spPr>
            <a:xfrm>
              <a:off x="5189760" y="2697120"/>
              <a:ext cx="44460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9" y="2763"/>
                  </a:moveTo>
                  <a:lnTo>
                    <a:pt x="14271" y="1507"/>
                  </a:lnTo>
                  <a:lnTo>
                    <a:pt x="13346" y="753"/>
                  </a:lnTo>
                  <a:lnTo>
                    <a:pt x="12111" y="0"/>
                  </a:lnTo>
                  <a:lnTo>
                    <a:pt x="10723" y="0"/>
                  </a:lnTo>
                  <a:lnTo>
                    <a:pt x="9489" y="0"/>
                  </a:lnTo>
                  <a:lnTo>
                    <a:pt x="8331" y="377"/>
                  </a:lnTo>
                  <a:lnTo>
                    <a:pt x="6866" y="377"/>
                  </a:lnTo>
                  <a:lnTo>
                    <a:pt x="5709" y="753"/>
                  </a:lnTo>
                  <a:lnTo>
                    <a:pt x="4783" y="1130"/>
                  </a:lnTo>
                  <a:lnTo>
                    <a:pt x="4089" y="1507"/>
                  </a:lnTo>
                  <a:lnTo>
                    <a:pt x="3317" y="2386"/>
                  </a:lnTo>
                  <a:lnTo>
                    <a:pt x="2623" y="2763"/>
                  </a:lnTo>
                  <a:lnTo>
                    <a:pt x="1929" y="3893"/>
                  </a:lnTo>
                  <a:lnTo>
                    <a:pt x="1466" y="4647"/>
                  </a:lnTo>
                  <a:lnTo>
                    <a:pt x="694" y="5777"/>
                  </a:lnTo>
                  <a:lnTo>
                    <a:pt x="231" y="6907"/>
                  </a:lnTo>
                  <a:lnTo>
                    <a:pt x="0" y="8163"/>
                  </a:lnTo>
                  <a:lnTo>
                    <a:pt x="0" y="9670"/>
                  </a:lnTo>
                  <a:lnTo>
                    <a:pt x="0" y="10800"/>
                  </a:lnTo>
                  <a:lnTo>
                    <a:pt x="231" y="11930"/>
                  </a:lnTo>
                  <a:lnTo>
                    <a:pt x="694" y="13186"/>
                  </a:lnTo>
                  <a:lnTo>
                    <a:pt x="1234" y="14316"/>
                  </a:lnTo>
                  <a:lnTo>
                    <a:pt x="1697" y="15070"/>
                  </a:lnTo>
                  <a:lnTo>
                    <a:pt x="2160" y="16200"/>
                  </a:lnTo>
                  <a:lnTo>
                    <a:pt x="4320" y="18209"/>
                  </a:lnTo>
                  <a:lnTo>
                    <a:pt x="6634" y="20093"/>
                  </a:lnTo>
                  <a:lnTo>
                    <a:pt x="9257" y="21223"/>
                  </a:lnTo>
                  <a:lnTo>
                    <a:pt x="11880" y="21600"/>
                  </a:lnTo>
                  <a:lnTo>
                    <a:pt x="13037" y="21223"/>
                  </a:lnTo>
                  <a:lnTo>
                    <a:pt x="14271" y="21223"/>
                  </a:lnTo>
                  <a:lnTo>
                    <a:pt x="15429" y="20847"/>
                  </a:lnTo>
                  <a:lnTo>
                    <a:pt x="16663" y="20093"/>
                  </a:lnTo>
                  <a:lnTo>
                    <a:pt x="17820" y="19340"/>
                  </a:lnTo>
                  <a:lnTo>
                    <a:pt x="18977" y="18209"/>
                  </a:lnTo>
                  <a:lnTo>
                    <a:pt x="19980" y="16953"/>
                  </a:lnTo>
                  <a:lnTo>
                    <a:pt x="20906" y="15447"/>
                  </a:lnTo>
                  <a:lnTo>
                    <a:pt x="21137" y="14693"/>
                  </a:lnTo>
                  <a:lnTo>
                    <a:pt x="21369" y="13563"/>
                  </a:lnTo>
                  <a:lnTo>
                    <a:pt x="21600" y="12433"/>
                  </a:lnTo>
                  <a:lnTo>
                    <a:pt x="21600" y="11553"/>
                  </a:lnTo>
                  <a:lnTo>
                    <a:pt x="21600" y="10423"/>
                  </a:lnTo>
                  <a:lnTo>
                    <a:pt x="21369" y="9293"/>
                  </a:lnTo>
                  <a:lnTo>
                    <a:pt x="21137" y="8163"/>
                  </a:lnTo>
                  <a:lnTo>
                    <a:pt x="21137" y="7409"/>
                  </a:lnTo>
                  <a:lnTo>
                    <a:pt x="20906" y="6153"/>
                  </a:lnTo>
                  <a:lnTo>
                    <a:pt x="20674" y="6153"/>
                  </a:lnTo>
                  <a:lnTo>
                    <a:pt x="20674" y="5777"/>
                  </a:lnTo>
                  <a:lnTo>
                    <a:pt x="20443" y="5400"/>
                  </a:lnTo>
                  <a:lnTo>
                    <a:pt x="20211" y="5023"/>
                  </a:lnTo>
                  <a:lnTo>
                    <a:pt x="19209" y="4270"/>
                  </a:lnTo>
                  <a:lnTo>
                    <a:pt x="18977" y="4270"/>
                  </a:lnTo>
                  <a:lnTo>
                    <a:pt x="18746" y="3893"/>
                  </a:lnTo>
                  <a:lnTo>
                    <a:pt x="18514" y="3893"/>
                  </a:lnTo>
                  <a:lnTo>
                    <a:pt x="18283" y="3516"/>
                  </a:lnTo>
                  <a:lnTo>
                    <a:pt x="18051" y="3516"/>
                  </a:lnTo>
                  <a:lnTo>
                    <a:pt x="17820" y="3516"/>
                  </a:lnTo>
                  <a:lnTo>
                    <a:pt x="17589" y="3516"/>
                  </a:lnTo>
                  <a:lnTo>
                    <a:pt x="17357" y="3140"/>
                  </a:lnTo>
                  <a:lnTo>
                    <a:pt x="17126" y="3140"/>
                  </a:lnTo>
                  <a:lnTo>
                    <a:pt x="16894" y="3140"/>
                  </a:lnTo>
                  <a:lnTo>
                    <a:pt x="16663" y="3516"/>
                  </a:lnTo>
                  <a:lnTo>
                    <a:pt x="16431" y="3893"/>
                  </a:lnTo>
                  <a:lnTo>
                    <a:pt x="16123" y="4270"/>
                  </a:lnTo>
                  <a:lnTo>
                    <a:pt x="16123" y="4647"/>
                  </a:lnTo>
                  <a:lnTo>
                    <a:pt x="16123" y="5023"/>
                  </a:lnTo>
                  <a:lnTo>
                    <a:pt x="15891" y="5400"/>
                  </a:lnTo>
                  <a:lnTo>
                    <a:pt x="16123" y="5777"/>
                  </a:lnTo>
                  <a:lnTo>
                    <a:pt x="16123" y="6153"/>
                  </a:lnTo>
                  <a:lnTo>
                    <a:pt x="16123" y="6530"/>
                  </a:lnTo>
                  <a:lnTo>
                    <a:pt x="16431" y="6530"/>
                  </a:lnTo>
                  <a:lnTo>
                    <a:pt x="16663" y="6907"/>
                  </a:lnTo>
                  <a:lnTo>
                    <a:pt x="16894" y="6907"/>
                  </a:lnTo>
                  <a:lnTo>
                    <a:pt x="16894" y="7409"/>
                  </a:lnTo>
                  <a:lnTo>
                    <a:pt x="17126" y="7409"/>
                  </a:lnTo>
                  <a:lnTo>
                    <a:pt x="17357" y="7409"/>
                  </a:lnTo>
                  <a:lnTo>
                    <a:pt x="17589" y="7409"/>
                  </a:lnTo>
                  <a:lnTo>
                    <a:pt x="17589" y="7786"/>
                  </a:lnTo>
                  <a:lnTo>
                    <a:pt x="18977" y="8540"/>
                  </a:lnTo>
                  <a:lnTo>
                    <a:pt x="18514" y="7786"/>
                  </a:lnTo>
                  <a:lnTo>
                    <a:pt x="18746" y="8916"/>
                  </a:lnTo>
                  <a:lnTo>
                    <a:pt x="18746" y="8540"/>
                  </a:lnTo>
                  <a:lnTo>
                    <a:pt x="18514" y="8540"/>
                  </a:lnTo>
                  <a:lnTo>
                    <a:pt x="18746" y="8916"/>
                  </a:lnTo>
                  <a:lnTo>
                    <a:pt x="18977" y="9670"/>
                  </a:lnTo>
                  <a:lnTo>
                    <a:pt x="18977" y="10047"/>
                  </a:lnTo>
                  <a:lnTo>
                    <a:pt x="18977" y="10423"/>
                  </a:lnTo>
                  <a:lnTo>
                    <a:pt x="18977" y="10800"/>
                  </a:lnTo>
                  <a:lnTo>
                    <a:pt x="18977" y="11553"/>
                  </a:lnTo>
                  <a:lnTo>
                    <a:pt x="18977" y="11930"/>
                  </a:lnTo>
                  <a:lnTo>
                    <a:pt x="18977" y="12433"/>
                  </a:lnTo>
                  <a:lnTo>
                    <a:pt x="18746" y="13186"/>
                  </a:lnTo>
                  <a:lnTo>
                    <a:pt x="18283" y="13940"/>
                  </a:lnTo>
                  <a:lnTo>
                    <a:pt x="18051" y="14693"/>
                  </a:lnTo>
                  <a:lnTo>
                    <a:pt x="17589" y="15070"/>
                  </a:lnTo>
                  <a:lnTo>
                    <a:pt x="17126" y="15447"/>
                  </a:lnTo>
                  <a:lnTo>
                    <a:pt x="16431" y="15823"/>
                  </a:lnTo>
                  <a:lnTo>
                    <a:pt x="15891" y="16200"/>
                  </a:lnTo>
                  <a:lnTo>
                    <a:pt x="15429" y="16577"/>
                  </a:lnTo>
                  <a:lnTo>
                    <a:pt x="14271" y="16953"/>
                  </a:lnTo>
                  <a:lnTo>
                    <a:pt x="13037" y="16953"/>
                  </a:lnTo>
                  <a:lnTo>
                    <a:pt x="11880" y="17456"/>
                  </a:lnTo>
                  <a:lnTo>
                    <a:pt x="10723" y="17456"/>
                  </a:lnTo>
                  <a:lnTo>
                    <a:pt x="9489" y="16953"/>
                  </a:lnTo>
                  <a:lnTo>
                    <a:pt x="8331" y="16577"/>
                  </a:lnTo>
                  <a:lnTo>
                    <a:pt x="7174" y="16200"/>
                  </a:lnTo>
                  <a:lnTo>
                    <a:pt x="5940" y="15447"/>
                  </a:lnTo>
                  <a:lnTo>
                    <a:pt x="5477" y="14693"/>
                  </a:lnTo>
                  <a:lnTo>
                    <a:pt x="4783" y="14316"/>
                  </a:lnTo>
                  <a:lnTo>
                    <a:pt x="4089" y="13563"/>
                  </a:lnTo>
                  <a:lnTo>
                    <a:pt x="3549" y="13186"/>
                  </a:lnTo>
                  <a:lnTo>
                    <a:pt x="3086" y="11930"/>
                  </a:lnTo>
                  <a:lnTo>
                    <a:pt x="2623" y="11177"/>
                  </a:lnTo>
                  <a:lnTo>
                    <a:pt x="2623" y="10047"/>
                  </a:lnTo>
                  <a:lnTo>
                    <a:pt x="2391" y="8916"/>
                  </a:lnTo>
                  <a:lnTo>
                    <a:pt x="3549" y="6907"/>
                  </a:lnTo>
                  <a:lnTo>
                    <a:pt x="5014" y="5400"/>
                  </a:lnTo>
                  <a:lnTo>
                    <a:pt x="6634" y="4270"/>
                  </a:lnTo>
                  <a:lnTo>
                    <a:pt x="8100" y="3893"/>
                  </a:lnTo>
                  <a:lnTo>
                    <a:pt x="9951" y="3516"/>
                  </a:lnTo>
                  <a:lnTo>
                    <a:pt x="11649" y="3516"/>
                  </a:lnTo>
                  <a:lnTo>
                    <a:pt x="13346" y="3516"/>
                  </a:lnTo>
                  <a:lnTo>
                    <a:pt x="14966" y="3893"/>
                  </a:lnTo>
                  <a:lnTo>
                    <a:pt x="14966" y="4270"/>
                  </a:lnTo>
                  <a:lnTo>
                    <a:pt x="15197" y="4270"/>
                  </a:lnTo>
                  <a:lnTo>
                    <a:pt x="15429" y="4270"/>
                  </a:lnTo>
                  <a:lnTo>
                    <a:pt x="15429" y="3893"/>
                  </a:lnTo>
                  <a:lnTo>
                    <a:pt x="15660" y="3516"/>
                  </a:lnTo>
                  <a:lnTo>
                    <a:pt x="15660" y="3140"/>
                  </a:lnTo>
                  <a:lnTo>
                    <a:pt x="15429" y="2763"/>
                  </a:lnTo>
                  <a:close/>
                  <a:moveTo>
                    <a:pt x="15429" y="276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9" name="Freeform 96"/>
            <p:cNvSpPr/>
            <p:nvPr/>
          </p:nvSpPr>
          <p:spPr>
            <a:xfrm>
              <a:off x="5214960" y="2941560"/>
              <a:ext cx="736560" cy="83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40" y="124"/>
                  </a:moveTo>
                  <a:lnTo>
                    <a:pt x="2560" y="248"/>
                  </a:lnTo>
                  <a:lnTo>
                    <a:pt x="2421" y="372"/>
                  </a:lnTo>
                  <a:lnTo>
                    <a:pt x="2141" y="372"/>
                  </a:lnTo>
                  <a:lnTo>
                    <a:pt x="2002" y="496"/>
                  </a:lnTo>
                  <a:lnTo>
                    <a:pt x="1862" y="743"/>
                  </a:lnTo>
                  <a:lnTo>
                    <a:pt x="1536" y="867"/>
                  </a:lnTo>
                  <a:lnTo>
                    <a:pt x="1397" y="1033"/>
                  </a:lnTo>
                  <a:lnTo>
                    <a:pt x="1257" y="1280"/>
                  </a:lnTo>
                  <a:lnTo>
                    <a:pt x="838" y="2024"/>
                  </a:lnTo>
                  <a:lnTo>
                    <a:pt x="559" y="2932"/>
                  </a:lnTo>
                  <a:lnTo>
                    <a:pt x="279" y="3800"/>
                  </a:lnTo>
                  <a:lnTo>
                    <a:pt x="140" y="4832"/>
                  </a:lnTo>
                  <a:lnTo>
                    <a:pt x="0" y="5699"/>
                  </a:lnTo>
                  <a:lnTo>
                    <a:pt x="0" y="6608"/>
                  </a:lnTo>
                  <a:lnTo>
                    <a:pt x="140" y="7475"/>
                  </a:lnTo>
                  <a:lnTo>
                    <a:pt x="279" y="8384"/>
                  </a:lnTo>
                  <a:lnTo>
                    <a:pt x="838" y="10160"/>
                  </a:lnTo>
                  <a:lnTo>
                    <a:pt x="1536" y="11936"/>
                  </a:lnTo>
                  <a:lnTo>
                    <a:pt x="2560" y="13588"/>
                  </a:lnTo>
                  <a:lnTo>
                    <a:pt x="3864" y="15116"/>
                  </a:lnTo>
                  <a:lnTo>
                    <a:pt x="4562" y="16024"/>
                  </a:lnTo>
                  <a:lnTo>
                    <a:pt x="5447" y="16768"/>
                  </a:lnTo>
                  <a:lnTo>
                    <a:pt x="6284" y="17387"/>
                  </a:lnTo>
                  <a:lnTo>
                    <a:pt x="7309" y="18048"/>
                  </a:lnTo>
                  <a:lnTo>
                    <a:pt x="8286" y="18544"/>
                  </a:lnTo>
                  <a:lnTo>
                    <a:pt x="9450" y="19039"/>
                  </a:lnTo>
                  <a:lnTo>
                    <a:pt x="10428" y="19452"/>
                  </a:lnTo>
                  <a:lnTo>
                    <a:pt x="11591" y="19824"/>
                  </a:lnTo>
                  <a:lnTo>
                    <a:pt x="12755" y="20072"/>
                  </a:lnTo>
                  <a:lnTo>
                    <a:pt x="13872" y="20444"/>
                  </a:lnTo>
                  <a:lnTo>
                    <a:pt x="15036" y="20691"/>
                  </a:lnTo>
                  <a:lnTo>
                    <a:pt x="16153" y="20980"/>
                  </a:lnTo>
                  <a:lnTo>
                    <a:pt x="17317" y="21228"/>
                  </a:lnTo>
                  <a:lnTo>
                    <a:pt x="18481" y="21352"/>
                  </a:lnTo>
                  <a:lnTo>
                    <a:pt x="19598" y="21476"/>
                  </a:lnTo>
                  <a:lnTo>
                    <a:pt x="20762" y="21600"/>
                  </a:lnTo>
                  <a:lnTo>
                    <a:pt x="20902" y="21600"/>
                  </a:lnTo>
                  <a:lnTo>
                    <a:pt x="21041" y="21476"/>
                  </a:lnTo>
                  <a:lnTo>
                    <a:pt x="21181" y="21476"/>
                  </a:lnTo>
                  <a:lnTo>
                    <a:pt x="21321" y="21352"/>
                  </a:lnTo>
                  <a:lnTo>
                    <a:pt x="21460" y="21352"/>
                  </a:lnTo>
                  <a:lnTo>
                    <a:pt x="21460" y="21228"/>
                  </a:lnTo>
                  <a:lnTo>
                    <a:pt x="21460" y="21104"/>
                  </a:lnTo>
                  <a:lnTo>
                    <a:pt x="21600" y="20980"/>
                  </a:lnTo>
                  <a:lnTo>
                    <a:pt x="21600" y="20857"/>
                  </a:lnTo>
                  <a:lnTo>
                    <a:pt x="21460" y="20691"/>
                  </a:lnTo>
                  <a:lnTo>
                    <a:pt x="21460" y="20567"/>
                  </a:lnTo>
                  <a:lnTo>
                    <a:pt x="21321" y="20444"/>
                  </a:lnTo>
                  <a:lnTo>
                    <a:pt x="21181" y="20320"/>
                  </a:lnTo>
                  <a:lnTo>
                    <a:pt x="21041" y="20320"/>
                  </a:lnTo>
                  <a:lnTo>
                    <a:pt x="20902" y="20320"/>
                  </a:lnTo>
                  <a:lnTo>
                    <a:pt x="18481" y="19948"/>
                  </a:lnTo>
                  <a:lnTo>
                    <a:pt x="16153" y="19576"/>
                  </a:lnTo>
                  <a:lnTo>
                    <a:pt x="13733" y="19039"/>
                  </a:lnTo>
                  <a:lnTo>
                    <a:pt x="11452" y="18296"/>
                  </a:lnTo>
                  <a:lnTo>
                    <a:pt x="10428" y="17924"/>
                  </a:lnTo>
                  <a:lnTo>
                    <a:pt x="9310" y="17387"/>
                  </a:lnTo>
                  <a:lnTo>
                    <a:pt x="8286" y="16892"/>
                  </a:lnTo>
                  <a:lnTo>
                    <a:pt x="7309" y="16272"/>
                  </a:lnTo>
                  <a:lnTo>
                    <a:pt x="6424" y="15611"/>
                  </a:lnTo>
                  <a:lnTo>
                    <a:pt x="5586" y="14868"/>
                  </a:lnTo>
                  <a:lnTo>
                    <a:pt x="4841" y="13959"/>
                  </a:lnTo>
                  <a:lnTo>
                    <a:pt x="4143" y="13092"/>
                  </a:lnTo>
                  <a:lnTo>
                    <a:pt x="3119" y="11564"/>
                  </a:lnTo>
                  <a:lnTo>
                    <a:pt x="2421" y="10036"/>
                  </a:lnTo>
                  <a:lnTo>
                    <a:pt x="2002" y="8384"/>
                  </a:lnTo>
                  <a:lnTo>
                    <a:pt x="1536" y="6732"/>
                  </a:lnTo>
                  <a:lnTo>
                    <a:pt x="1536" y="5989"/>
                  </a:lnTo>
                  <a:lnTo>
                    <a:pt x="1536" y="5204"/>
                  </a:lnTo>
                  <a:lnTo>
                    <a:pt x="1536" y="4337"/>
                  </a:lnTo>
                  <a:lnTo>
                    <a:pt x="1862" y="3552"/>
                  </a:lnTo>
                  <a:lnTo>
                    <a:pt x="2002" y="2808"/>
                  </a:lnTo>
                  <a:lnTo>
                    <a:pt x="2281" y="2024"/>
                  </a:lnTo>
                  <a:lnTo>
                    <a:pt x="2700" y="1280"/>
                  </a:lnTo>
                  <a:lnTo>
                    <a:pt x="3259" y="496"/>
                  </a:lnTo>
                  <a:lnTo>
                    <a:pt x="3259" y="372"/>
                  </a:lnTo>
                  <a:lnTo>
                    <a:pt x="3259" y="248"/>
                  </a:lnTo>
                  <a:lnTo>
                    <a:pt x="3259" y="124"/>
                  </a:lnTo>
                  <a:lnTo>
                    <a:pt x="3119" y="124"/>
                  </a:lnTo>
                  <a:lnTo>
                    <a:pt x="3119" y="0"/>
                  </a:lnTo>
                  <a:lnTo>
                    <a:pt x="2979" y="0"/>
                  </a:lnTo>
                  <a:lnTo>
                    <a:pt x="2840" y="124"/>
                  </a:lnTo>
                  <a:close/>
                  <a:moveTo>
                    <a:pt x="2840" y="12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0" name="Freeform 97"/>
            <p:cNvSpPr/>
            <p:nvPr/>
          </p:nvSpPr>
          <p:spPr>
            <a:xfrm>
              <a:off x="5664240" y="2774880"/>
              <a:ext cx="29700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40" y="3265"/>
                  </a:moveTo>
                  <a:lnTo>
                    <a:pt x="3119" y="4772"/>
                  </a:lnTo>
                  <a:lnTo>
                    <a:pt x="5660" y="6279"/>
                  </a:lnTo>
                  <a:lnTo>
                    <a:pt x="8201" y="7786"/>
                  </a:lnTo>
                  <a:lnTo>
                    <a:pt x="10627" y="9293"/>
                  </a:lnTo>
                  <a:lnTo>
                    <a:pt x="12821" y="11553"/>
                  </a:lnTo>
                  <a:lnTo>
                    <a:pt x="15247" y="14065"/>
                  </a:lnTo>
                  <a:lnTo>
                    <a:pt x="17442" y="17079"/>
                  </a:lnTo>
                  <a:lnTo>
                    <a:pt x="19174" y="20847"/>
                  </a:lnTo>
                  <a:lnTo>
                    <a:pt x="19521" y="20847"/>
                  </a:lnTo>
                  <a:lnTo>
                    <a:pt x="19867" y="20847"/>
                  </a:lnTo>
                  <a:lnTo>
                    <a:pt x="19867" y="21600"/>
                  </a:lnTo>
                  <a:lnTo>
                    <a:pt x="20214" y="21600"/>
                  </a:lnTo>
                  <a:lnTo>
                    <a:pt x="20560" y="20847"/>
                  </a:lnTo>
                  <a:lnTo>
                    <a:pt x="20907" y="20847"/>
                  </a:lnTo>
                  <a:lnTo>
                    <a:pt x="21253" y="20093"/>
                  </a:lnTo>
                  <a:lnTo>
                    <a:pt x="21253" y="19340"/>
                  </a:lnTo>
                  <a:lnTo>
                    <a:pt x="21600" y="18586"/>
                  </a:lnTo>
                  <a:lnTo>
                    <a:pt x="21600" y="17833"/>
                  </a:lnTo>
                  <a:lnTo>
                    <a:pt x="21253" y="17079"/>
                  </a:lnTo>
                  <a:lnTo>
                    <a:pt x="21253" y="16326"/>
                  </a:lnTo>
                  <a:lnTo>
                    <a:pt x="20907" y="16326"/>
                  </a:lnTo>
                  <a:lnTo>
                    <a:pt x="19174" y="12558"/>
                  </a:lnTo>
                  <a:lnTo>
                    <a:pt x="16633" y="8540"/>
                  </a:lnTo>
                  <a:lnTo>
                    <a:pt x="14207" y="6279"/>
                  </a:lnTo>
                  <a:lnTo>
                    <a:pt x="11666" y="4019"/>
                  </a:lnTo>
                  <a:lnTo>
                    <a:pt x="9241" y="2512"/>
                  </a:lnTo>
                  <a:lnTo>
                    <a:pt x="6353" y="753"/>
                  </a:lnTo>
                  <a:lnTo>
                    <a:pt x="3581" y="0"/>
                  </a:lnTo>
                  <a:lnTo>
                    <a:pt x="1040" y="0"/>
                  </a:lnTo>
                  <a:lnTo>
                    <a:pt x="693" y="0"/>
                  </a:lnTo>
                  <a:lnTo>
                    <a:pt x="347" y="0"/>
                  </a:lnTo>
                  <a:lnTo>
                    <a:pt x="347" y="753"/>
                  </a:lnTo>
                  <a:lnTo>
                    <a:pt x="0" y="1507"/>
                  </a:lnTo>
                  <a:lnTo>
                    <a:pt x="347" y="2512"/>
                  </a:lnTo>
                  <a:lnTo>
                    <a:pt x="347" y="3265"/>
                  </a:lnTo>
                  <a:lnTo>
                    <a:pt x="693" y="3265"/>
                  </a:lnTo>
                  <a:lnTo>
                    <a:pt x="1040" y="3265"/>
                  </a:lnTo>
                  <a:close/>
                  <a:moveTo>
                    <a:pt x="1040" y="3265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1" name="Freeform 98"/>
            <p:cNvSpPr/>
            <p:nvPr/>
          </p:nvSpPr>
          <p:spPr>
            <a:xfrm>
              <a:off x="5307120" y="3205080"/>
              <a:ext cx="76680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070"/>
                  </a:moveTo>
                  <a:lnTo>
                    <a:pt x="537" y="16200"/>
                  </a:lnTo>
                  <a:lnTo>
                    <a:pt x="1118" y="17456"/>
                  </a:lnTo>
                  <a:lnTo>
                    <a:pt x="1655" y="18209"/>
                  </a:lnTo>
                  <a:lnTo>
                    <a:pt x="2191" y="18963"/>
                  </a:lnTo>
                  <a:lnTo>
                    <a:pt x="2907" y="19716"/>
                  </a:lnTo>
                  <a:lnTo>
                    <a:pt x="3578" y="20093"/>
                  </a:lnTo>
                  <a:lnTo>
                    <a:pt x="4248" y="20470"/>
                  </a:lnTo>
                  <a:lnTo>
                    <a:pt x="4964" y="20847"/>
                  </a:lnTo>
                  <a:lnTo>
                    <a:pt x="5769" y="21223"/>
                  </a:lnTo>
                  <a:lnTo>
                    <a:pt x="6753" y="21600"/>
                  </a:lnTo>
                  <a:lnTo>
                    <a:pt x="7558" y="21600"/>
                  </a:lnTo>
                  <a:lnTo>
                    <a:pt x="8542" y="21600"/>
                  </a:lnTo>
                  <a:lnTo>
                    <a:pt x="9347" y="21600"/>
                  </a:lnTo>
                  <a:lnTo>
                    <a:pt x="10196" y="21223"/>
                  </a:lnTo>
                  <a:lnTo>
                    <a:pt x="11135" y="20847"/>
                  </a:lnTo>
                  <a:lnTo>
                    <a:pt x="11985" y="20470"/>
                  </a:lnTo>
                  <a:lnTo>
                    <a:pt x="13371" y="19716"/>
                  </a:lnTo>
                  <a:lnTo>
                    <a:pt x="14713" y="18586"/>
                  </a:lnTo>
                  <a:lnTo>
                    <a:pt x="16099" y="17456"/>
                  </a:lnTo>
                  <a:lnTo>
                    <a:pt x="17352" y="15447"/>
                  </a:lnTo>
                  <a:lnTo>
                    <a:pt x="18604" y="13563"/>
                  </a:lnTo>
                  <a:lnTo>
                    <a:pt x="19543" y="10800"/>
                  </a:lnTo>
                  <a:lnTo>
                    <a:pt x="20527" y="8163"/>
                  </a:lnTo>
                  <a:lnTo>
                    <a:pt x="21332" y="4647"/>
                  </a:lnTo>
                  <a:lnTo>
                    <a:pt x="21466" y="4270"/>
                  </a:lnTo>
                  <a:lnTo>
                    <a:pt x="21466" y="3893"/>
                  </a:lnTo>
                  <a:lnTo>
                    <a:pt x="21600" y="3516"/>
                  </a:lnTo>
                  <a:lnTo>
                    <a:pt x="21600" y="3140"/>
                  </a:lnTo>
                  <a:lnTo>
                    <a:pt x="21600" y="2386"/>
                  </a:lnTo>
                  <a:lnTo>
                    <a:pt x="21600" y="1884"/>
                  </a:lnTo>
                  <a:lnTo>
                    <a:pt x="21600" y="1507"/>
                  </a:lnTo>
                  <a:lnTo>
                    <a:pt x="21466" y="1130"/>
                  </a:lnTo>
                  <a:lnTo>
                    <a:pt x="21466" y="753"/>
                  </a:lnTo>
                  <a:lnTo>
                    <a:pt x="21332" y="377"/>
                  </a:lnTo>
                  <a:lnTo>
                    <a:pt x="21198" y="0"/>
                  </a:lnTo>
                  <a:lnTo>
                    <a:pt x="21063" y="0"/>
                  </a:lnTo>
                  <a:lnTo>
                    <a:pt x="20929" y="0"/>
                  </a:lnTo>
                  <a:lnTo>
                    <a:pt x="20795" y="0"/>
                  </a:lnTo>
                  <a:lnTo>
                    <a:pt x="20661" y="377"/>
                  </a:lnTo>
                  <a:lnTo>
                    <a:pt x="20527" y="753"/>
                  </a:lnTo>
                  <a:lnTo>
                    <a:pt x="20527" y="1130"/>
                  </a:lnTo>
                  <a:lnTo>
                    <a:pt x="20527" y="1507"/>
                  </a:lnTo>
                  <a:lnTo>
                    <a:pt x="19811" y="5023"/>
                  </a:lnTo>
                  <a:lnTo>
                    <a:pt x="19006" y="7786"/>
                  </a:lnTo>
                  <a:lnTo>
                    <a:pt x="18022" y="10047"/>
                  </a:lnTo>
                  <a:lnTo>
                    <a:pt x="16949" y="11930"/>
                  </a:lnTo>
                  <a:lnTo>
                    <a:pt x="15697" y="13940"/>
                  </a:lnTo>
                  <a:lnTo>
                    <a:pt x="14445" y="15070"/>
                  </a:lnTo>
                  <a:lnTo>
                    <a:pt x="13237" y="16200"/>
                  </a:lnTo>
                  <a:lnTo>
                    <a:pt x="11851" y="16953"/>
                  </a:lnTo>
                  <a:lnTo>
                    <a:pt x="10465" y="17833"/>
                  </a:lnTo>
                  <a:lnTo>
                    <a:pt x="8944" y="18209"/>
                  </a:lnTo>
                  <a:lnTo>
                    <a:pt x="7424" y="18586"/>
                  </a:lnTo>
                  <a:lnTo>
                    <a:pt x="6037" y="18209"/>
                  </a:lnTo>
                  <a:lnTo>
                    <a:pt x="4696" y="17833"/>
                  </a:lnTo>
                  <a:lnTo>
                    <a:pt x="3175" y="16953"/>
                  </a:lnTo>
                  <a:lnTo>
                    <a:pt x="1923" y="15823"/>
                  </a:lnTo>
                  <a:lnTo>
                    <a:pt x="537" y="13940"/>
                  </a:lnTo>
                  <a:lnTo>
                    <a:pt x="402" y="13940"/>
                  </a:lnTo>
                  <a:lnTo>
                    <a:pt x="402" y="13563"/>
                  </a:lnTo>
                  <a:lnTo>
                    <a:pt x="268" y="13563"/>
                  </a:lnTo>
                  <a:lnTo>
                    <a:pt x="134" y="13563"/>
                  </a:lnTo>
                  <a:lnTo>
                    <a:pt x="134" y="13940"/>
                  </a:lnTo>
                  <a:lnTo>
                    <a:pt x="0" y="13940"/>
                  </a:lnTo>
                  <a:lnTo>
                    <a:pt x="0" y="14316"/>
                  </a:lnTo>
                  <a:lnTo>
                    <a:pt x="0" y="14693"/>
                  </a:lnTo>
                  <a:lnTo>
                    <a:pt x="0" y="15070"/>
                  </a:lnTo>
                  <a:close/>
                  <a:moveTo>
                    <a:pt x="0" y="1507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2" name="Freeform 99"/>
            <p:cNvSpPr/>
            <p:nvPr/>
          </p:nvSpPr>
          <p:spPr>
            <a:xfrm>
              <a:off x="6031080" y="3205080"/>
              <a:ext cx="4752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" y="12960"/>
                  </a:moveTo>
                  <a:lnTo>
                    <a:pt x="2160" y="12960"/>
                  </a:lnTo>
                  <a:lnTo>
                    <a:pt x="4320" y="16416"/>
                  </a:lnTo>
                  <a:lnTo>
                    <a:pt x="4320" y="19008"/>
                  </a:lnTo>
                  <a:lnTo>
                    <a:pt x="6480" y="19008"/>
                  </a:lnTo>
                  <a:lnTo>
                    <a:pt x="8640" y="21600"/>
                  </a:lnTo>
                  <a:lnTo>
                    <a:pt x="10800" y="21600"/>
                  </a:lnTo>
                  <a:lnTo>
                    <a:pt x="12960" y="21600"/>
                  </a:lnTo>
                  <a:lnTo>
                    <a:pt x="15120" y="21600"/>
                  </a:lnTo>
                  <a:lnTo>
                    <a:pt x="17280" y="21600"/>
                  </a:lnTo>
                  <a:lnTo>
                    <a:pt x="19440" y="19008"/>
                  </a:lnTo>
                  <a:lnTo>
                    <a:pt x="21600" y="16416"/>
                  </a:lnTo>
                  <a:lnTo>
                    <a:pt x="21600" y="12960"/>
                  </a:lnTo>
                  <a:lnTo>
                    <a:pt x="21600" y="10368"/>
                  </a:lnTo>
                  <a:lnTo>
                    <a:pt x="21600" y="7776"/>
                  </a:lnTo>
                  <a:lnTo>
                    <a:pt x="21600" y="5184"/>
                  </a:lnTo>
                  <a:lnTo>
                    <a:pt x="19440" y="5184"/>
                  </a:lnTo>
                  <a:lnTo>
                    <a:pt x="19440" y="2592"/>
                  </a:lnTo>
                  <a:lnTo>
                    <a:pt x="17280" y="2592"/>
                  </a:lnTo>
                  <a:lnTo>
                    <a:pt x="17280" y="0"/>
                  </a:lnTo>
                  <a:lnTo>
                    <a:pt x="15120" y="0"/>
                  </a:lnTo>
                  <a:lnTo>
                    <a:pt x="12960" y="0"/>
                  </a:lnTo>
                  <a:lnTo>
                    <a:pt x="10800" y="0"/>
                  </a:lnTo>
                  <a:lnTo>
                    <a:pt x="8640" y="0"/>
                  </a:lnTo>
                  <a:lnTo>
                    <a:pt x="6480" y="2592"/>
                  </a:lnTo>
                  <a:lnTo>
                    <a:pt x="4320" y="2592"/>
                  </a:lnTo>
                  <a:lnTo>
                    <a:pt x="2160" y="2592"/>
                  </a:lnTo>
                  <a:lnTo>
                    <a:pt x="0" y="5184"/>
                  </a:lnTo>
                  <a:lnTo>
                    <a:pt x="0" y="7776"/>
                  </a:lnTo>
                  <a:lnTo>
                    <a:pt x="0" y="10368"/>
                  </a:lnTo>
                  <a:lnTo>
                    <a:pt x="2160" y="10368"/>
                  </a:lnTo>
                  <a:lnTo>
                    <a:pt x="2160" y="12960"/>
                  </a:lnTo>
                  <a:close/>
                  <a:moveTo>
                    <a:pt x="2160" y="1296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3" name="Freeform 100"/>
            <p:cNvSpPr/>
            <p:nvPr/>
          </p:nvSpPr>
          <p:spPr>
            <a:xfrm>
              <a:off x="5751720" y="2495520"/>
              <a:ext cx="22068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432" y="1287"/>
                  </a:moveTo>
                  <a:lnTo>
                    <a:pt x="10101" y="2575"/>
                  </a:lnTo>
                  <a:lnTo>
                    <a:pt x="8081" y="4005"/>
                  </a:lnTo>
                  <a:lnTo>
                    <a:pt x="6216" y="5293"/>
                  </a:lnTo>
                  <a:lnTo>
                    <a:pt x="4351" y="7009"/>
                  </a:lnTo>
                  <a:lnTo>
                    <a:pt x="2953" y="9298"/>
                  </a:lnTo>
                  <a:lnTo>
                    <a:pt x="1865" y="11015"/>
                  </a:lnTo>
                  <a:lnTo>
                    <a:pt x="932" y="13589"/>
                  </a:lnTo>
                  <a:lnTo>
                    <a:pt x="466" y="15878"/>
                  </a:lnTo>
                  <a:lnTo>
                    <a:pt x="0" y="16736"/>
                  </a:lnTo>
                  <a:lnTo>
                    <a:pt x="466" y="18024"/>
                  </a:lnTo>
                  <a:lnTo>
                    <a:pt x="932" y="18882"/>
                  </a:lnTo>
                  <a:lnTo>
                    <a:pt x="1399" y="19740"/>
                  </a:lnTo>
                  <a:lnTo>
                    <a:pt x="2486" y="20742"/>
                  </a:lnTo>
                  <a:lnTo>
                    <a:pt x="3419" y="21171"/>
                  </a:lnTo>
                  <a:lnTo>
                    <a:pt x="4351" y="21600"/>
                  </a:lnTo>
                  <a:lnTo>
                    <a:pt x="5283" y="21600"/>
                  </a:lnTo>
                  <a:lnTo>
                    <a:pt x="7614" y="20742"/>
                  </a:lnTo>
                  <a:lnTo>
                    <a:pt x="10101" y="20170"/>
                  </a:lnTo>
                  <a:lnTo>
                    <a:pt x="11965" y="18882"/>
                  </a:lnTo>
                  <a:lnTo>
                    <a:pt x="13830" y="18024"/>
                  </a:lnTo>
                  <a:lnTo>
                    <a:pt x="15850" y="16307"/>
                  </a:lnTo>
                  <a:lnTo>
                    <a:pt x="17249" y="15020"/>
                  </a:lnTo>
                  <a:lnTo>
                    <a:pt x="18647" y="13160"/>
                  </a:lnTo>
                  <a:lnTo>
                    <a:pt x="20046" y="11444"/>
                  </a:lnTo>
                  <a:lnTo>
                    <a:pt x="20512" y="10585"/>
                  </a:lnTo>
                  <a:lnTo>
                    <a:pt x="21134" y="9727"/>
                  </a:lnTo>
                  <a:lnTo>
                    <a:pt x="21134" y="8726"/>
                  </a:lnTo>
                  <a:lnTo>
                    <a:pt x="21600" y="7868"/>
                  </a:lnTo>
                  <a:lnTo>
                    <a:pt x="21600" y="7009"/>
                  </a:lnTo>
                  <a:lnTo>
                    <a:pt x="21600" y="6151"/>
                  </a:lnTo>
                  <a:lnTo>
                    <a:pt x="21600" y="5293"/>
                  </a:lnTo>
                  <a:lnTo>
                    <a:pt x="21134" y="4434"/>
                  </a:lnTo>
                  <a:lnTo>
                    <a:pt x="20512" y="3004"/>
                  </a:lnTo>
                  <a:lnTo>
                    <a:pt x="19580" y="2146"/>
                  </a:lnTo>
                  <a:lnTo>
                    <a:pt x="19114" y="1287"/>
                  </a:lnTo>
                  <a:lnTo>
                    <a:pt x="17715" y="858"/>
                  </a:lnTo>
                  <a:lnTo>
                    <a:pt x="16783" y="429"/>
                  </a:lnTo>
                  <a:lnTo>
                    <a:pt x="15850" y="0"/>
                  </a:lnTo>
                  <a:lnTo>
                    <a:pt x="14296" y="0"/>
                  </a:lnTo>
                  <a:lnTo>
                    <a:pt x="12898" y="429"/>
                  </a:lnTo>
                  <a:lnTo>
                    <a:pt x="12432" y="858"/>
                  </a:lnTo>
                  <a:lnTo>
                    <a:pt x="11965" y="858"/>
                  </a:lnTo>
                  <a:lnTo>
                    <a:pt x="11965" y="1287"/>
                  </a:lnTo>
                  <a:lnTo>
                    <a:pt x="11965" y="1717"/>
                  </a:lnTo>
                  <a:lnTo>
                    <a:pt x="11965" y="2146"/>
                  </a:lnTo>
                  <a:lnTo>
                    <a:pt x="11965" y="2575"/>
                  </a:lnTo>
                  <a:lnTo>
                    <a:pt x="11965" y="3004"/>
                  </a:lnTo>
                  <a:lnTo>
                    <a:pt x="12432" y="3576"/>
                  </a:lnTo>
                  <a:lnTo>
                    <a:pt x="12898" y="3576"/>
                  </a:lnTo>
                  <a:lnTo>
                    <a:pt x="12898" y="4005"/>
                  </a:lnTo>
                  <a:lnTo>
                    <a:pt x="13364" y="4005"/>
                  </a:lnTo>
                  <a:lnTo>
                    <a:pt x="13830" y="4005"/>
                  </a:lnTo>
                  <a:lnTo>
                    <a:pt x="14296" y="4005"/>
                  </a:lnTo>
                  <a:lnTo>
                    <a:pt x="14296" y="3576"/>
                  </a:lnTo>
                  <a:lnTo>
                    <a:pt x="14918" y="3576"/>
                  </a:lnTo>
                  <a:lnTo>
                    <a:pt x="15384" y="3576"/>
                  </a:lnTo>
                  <a:lnTo>
                    <a:pt x="15850" y="3576"/>
                  </a:lnTo>
                  <a:lnTo>
                    <a:pt x="16317" y="4005"/>
                  </a:lnTo>
                  <a:lnTo>
                    <a:pt x="16783" y="4434"/>
                  </a:lnTo>
                  <a:lnTo>
                    <a:pt x="17249" y="4864"/>
                  </a:lnTo>
                  <a:lnTo>
                    <a:pt x="17249" y="5293"/>
                  </a:lnTo>
                  <a:lnTo>
                    <a:pt x="17715" y="6151"/>
                  </a:lnTo>
                  <a:lnTo>
                    <a:pt x="17715" y="6580"/>
                  </a:lnTo>
                  <a:lnTo>
                    <a:pt x="17715" y="7009"/>
                  </a:lnTo>
                  <a:lnTo>
                    <a:pt x="16783" y="8726"/>
                  </a:lnTo>
                  <a:lnTo>
                    <a:pt x="15850" y="11015"/>
                  </a:lnTo>
                  <a:lnTo>
                    <a:pt x="14918" y="12731"/>
                  </a:lnTo>
                  <a:lnTo>
                    <a:pt x="13364" y="14019"/>
                  </a:lnTo>
                  <a:lnTo>
                    <a:pt x="11499" y="15449"/>
                  </a:lnTo>
                  <a:lnTo>
                    <a:pt x="9635" y="16736"/>
                  </a:lnTo>
                  <a:lnTo>
                    <a:pt x="7614" y="17595"/>
                  </a:lnTo>
                  <a:lnTo>
                    <a:pt x="5750" y="18453"/>
                  </a:lnTo>
                  <a:lnTo>
                    <a:pt x="5283" y="18453"/>
                  </a:lnTo>
                  <a:lnTo>
                    <a:pt x="5283" y="18024"/>
                  </a:lnTo>
                  <a:lnTo>
                    <a:pt x="4817" y="18024"/>
                  </a:lnTo>
                  <a:lnTo>
                    <a:pt x="4351" y="17595"/>
                  </a:lnTo>
                  <a:lnTo>
                    <a:pt x="4351" y="17166"/>
                  </a:lnTo>
                  <a:lnTo>
                    <a:pt x="4817" y="15020"/>
                  </a:lnTo>
                  <a:lnTo>
                    <a:pt x="5283" y="12731"/>
                  </a:lnTo>
                  <a:lnTo>
                    <a:pt x="6216" y="11015"/>
                  </a:lnTo>
                  <a:lnTo>
                    <a:pt x="7148" y="9298"/>
                  </a:lnTo>
                  <a:lnTo>
                    <a:pt x="8702" y="7438"/>
                  </a:lnTo>
                  <a:lnTo>
                    <a:pt x="10101" y="5722"/>
                  </a:lnTo>
                  <a:lnTo>
                    <a:pt x="11499" y="4434"/>
                  </a:lnTo>
                  <a:lnTo>
                    <a:pt x="13364" y="3004"/>
                  </a:lnTo>
                  <a:lnTo>
                    <a:pt x="13830" y="3004"/>
                  </a:lnTo>
                  <a:lnTo>
                    <a:pt x="13830" y="2575"/>
                  </a:lnTo>
                  <a:lnTo>
                    <a:pt x="13830" y="2146"/>
                  </a:lnTo>
                  <a:lnTo>
                    <a:pt x="13830" y="1717"/>
                  </a:lnTo>
                  <a:lnTo>
                    <a:pt x="13364" y="1287"/>
                  </a:lnTo>
                  <a:lnTo>
                    <a:pt x="12898" y="1287"/>
                  </a:lnTo>
                  <a:lnTo>
                    <a:pt x="12432" y="1287"/>
                  </a:lnTo>
                  <a:close/>
                  <a:moveTo>
                    <a:pt x="12432" y="128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4" name="Freeform 101"/>
            <p:cNvSpPr/>
            <p:nvPr/>
          </p:nvSpPr>
          <p:spPr>
            <a:xfrm>
              <a:off x="6104160" y="2663640"/>
              <a:ext cx="249120" cy="2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657" y="0"/>
                  </a:moveTo>
                  <a:lnTo>
                    <a:pt x="10594" y="1322"/>
                  </a:lnTo>
                  <a:lnTo>
                    <a:pt x="8392" y="2645"/>
                  </a:lnTo>
                  <a:lnTo>
                    <a:pt x="6329" y="4408"/>
                  </a:lnTo>
                  <a:lnTo>
                    <a:pt x="4678" y="5878"/>
                  </a:lnTo>
                  <a:lnTo>
                    <a:pt x="2889" y="8082"/>
                  </a:lnTo>
                  <a:lnTo>
                    <a:pt x="1651" y="10286"/>
                  </a:lnTo>
                  <a:lnTo>
                    <a:pt x="825" y="12637"/>
                  </a:lnTo>
                  <a:lnTo>
                    <a:pt x="0" y="15282"/>
                  </a:lnTo>
                  <a:lnTo>
                    <a:pt x="0" y="15722"/>
                  </a:lnTo>
                  <a:lnTo>
                    <a:pt x="0" y="16163"/>
                  </a:lnTo>
                  <a:lnTo>
                    <a:pt x="0" y="17045"/>
                  </a:lnTo>
                  <a:lnTo>
                    <a:pt x="0" y="17633"/>
                  </a:lnTo>
                  <a:lnTo>
                    <a:pt x="413" y="18073"/>
                  </a:lnTo>
                  <a:lnTo>
                    <a:pt x="825" y="18955"/>
                  </a:lnTo>
                  <a:lnTo>
                    <a:pt x="825" y="19396"/>
                  </a:lnTo>
                  <a:lnTo>
                    <a:pt x="1238" y="19837"/>
                  </a:lnTo>
                  <a:lnTo>
                    <a:pt x="2064" y="20278"/>
                  </a:lnTo>
                  <a:lnTo>
                    <a:pt x="2889" y="21159"/>
                  </a:lnTo>
                  <a:lnTo>
                    <a:pt x="3715" y="21159"/>
                  </a:lnTo>
                  <a:lnTo>
                    <a:pt x="4265" y="21600"/>
                  </a:lnTo>
                  <a:lnTo>
                    <a:pt x="5090" y="21600"/>
                  </a:lnTo>
                  <a:lnTo>
                    <a:pt x="5916" y="21600"/>
                  </a:lnTo>
                  <a:lnTo>
                    <a:pt x="6741" y="21600"/>
                  </a:lnTo>
                  <a:lnTo>
                    <a:pt x="7567" y="21159"/>
                  </a:lnTo>
                  <a:lnTo>
                    <a:pt x="9768" y="20278"/>
                  </a:lnTo>
                  <a:lnTo>
                    <a:pt x="11419" y="19396"/>
                  </a:lnTo>
                  <a:lnTo>
                    <a:pt x="13070" y="18073"/>
                  </a:lnTo>
                  <a:lnTo>
                    <a:pt x="14721" y="16604"/>
                  </a:lnTo>
                  <a:lnTo>
                    <a:pt x="16510" y="15282"/>
                  </a:lnTo>
                  <a:lnTo>
                    <a:pt x="17748" y="13518"/>
                  </a:lnTo>
                  <a:lnTo>
                    <a:pt x="18986" y="11755"/>
                  </a:lnTo>
                  <a:lnTo>
                    <a:pt x="20224" y="9845"/>
                  </a:lnTo>
                  <a:lnTo>
                    <a:pt x="21187" y="8522"/>
                  </a:lnTo>
                  <a:lnTo>
                    <a:pt x="21600" y="7200"/>
                  </a:lnTo>
                  <a:lnTo>
                    <a:pt x="21600" y="5878"/>
                  </a:lnTo>
                  <a:lnTo>
                    <a:pt x="21600" y="4408"/>
                  </a:lnTo>
                  <a:lnTo>
                    <a:pt x="20775" y="3086"/>
                  </a:lnTo>
                  <a:lnTo>
                    <a:pt x="20224" y="1763"/>
                  </a:lnTo>
                  <a:lnTo>
                    <a:pt x="19399" y="882"/>
                  </a:lnTo>
                  <a:lnTo>
                    <a:pt x="18161" y="0"/>
                  </a:lnTo>
                  <a:lnTo>
                    <a:pt x="17748" y="0"/>
                  </a:lnTo>
                  <a:lnTo>
                    <a:pt x="17335" y="0"/>
                  </a:lnTo>
                  <a:lnTo>
                    <a:pt x="16922" y="0"/>
                  </a:lnTo>
                  <a:lnTo>
                    <a:pt x="16510" y="0"/>
                  </a:lnTo>
                  <a:lnTo>
                    <a:pt x="16097" y="0"/>
                  </a:lnTo>
                  <a:lnTo>
                    <a:pt x="15684" y="441"/>
                  </a:lnTo>
                  <a:lnTo>
                    <a:pt x="15684" y="882"/>
                  </a:lnTo>
                  <a:lnTo>
                    <a:pt x="15271" y="882"/>
                  </a:lnTo>
                  <a:lnTo>
                    <a:pt x="15271" y="1322"/>
                  </a:lnTo>
                  <a:lnTo>
                    <a:pt x="15271" y="1763"/>
                  </a:lnTo>
                  <a:lnTo>
                    <a:pt x="15271" y="2204"/>
                  </a:lnTo>
                  <a:lnTo>
                    <a:pt x="15271" y="2645"/>
                  </a:lnTo>
                  <a:lnTo>
                    <a:pt x="15684" y="3086"/>
                  </a:lnTo>
                  <a:lnTo>
                    <a:pt x="16097" y="3527"/>
                  </a:lnTo>
                  <a:lnTo>
                    <a:pt x="16510" y="3527"/>
                  </a:lnTo>
                  <a:lnTo>
                    <a:pt x="16922" y="3967"/>
                  </a:lnTo>
                  <a:lnTo>
                    <a:pt x="17335" y="4408"/>
                  </a:lnTo>
                  <a:lnTo>
                    <a:pt x="17748" y="4849"/>
                  </a:lnTo>
                  <a:lnTo>
                    <a:pt x="17748" y="5290"/>
                  </a:lnTo>
                  <a:lnTo>
                    <a:pt x="17748" y="6318"/>
                  </a:lnTo>
                  <a:lnTo>
                    <a:pt x="17748" y="6759"/>
                  </a:lnTo>
                  <a:lnTo>
                    <a:pt x="17748" y="7200"/>
                  </a:lnTo>
                  <a:lnTo>
                    <a:pt x="16922" y="8963"/>
                  </a:lnTo>
                  <a:lnTo>
                    <a:pt x="15684" y="10286"/>
                  </a:lnTo>
                  <a:lnTo>
                    <a:pt x="14721" y="11755"/>
                  </a:lnTo>
                  <a:lnTo>
                    <a:pt x="13483" y="13078"/>
                  </a:lnTo>
                  <a:lnTo>
                    <a:pt x="11832" y="14400"/>
                  </a:lnTo>
                  <a:lnTo>
                    <a:pt x="10594" y="15282"/>
                  </a:lnTo>
                  <a:lnTo>
                    <a:pt x="8805" y="16604"/>
                  </a:lnTo>
                  <a:lnTo>
                    <a:pt x="7567" y="17633"/>
                  </a:lnTo>
                  <a:lnTo>
                    <a:pt x="7154" y="18073"/>
                  </a:lnTo>
                  <a:lnTo>
                    <a:pt x="6329" y="18073"/>
                  </a:lnTo>
                  <a:lnTo>
                    <a:pt x="5916" y="18073"/>
                  </a:lnTo>
                  <a:lnTo>
                    <a:pt x="5503" y="18073"/>
                  </a:lnTo>
                  <a:lnTo>
                    <a:pt x="5090" y="18073"/>
                  </a:lnTo>
                  <a:lnTo>
                    <a:pt x="4678" y="18073"/>
                  </a:lnTo>
                  <a:lnTo>
                    <a:pt x="4265" y="17633"/>
                  </a:lnTo>
                  <a:lnTo>
                    <a:pt x="3715" y="17045"/>
                  </a:lnTo>
                  <a:lnTo>
                    <a:pt x="3715" y="14841"/>
                  </a:lnTo>
                  <a:lnTo>
                    <a:pt x="4265" y="12196"/>
                  </a:lnTo>
                  <a:lnTo>
                    <a:pt x="5503" y="10286"/>
                  </a:lnTo>
                  <a:lnTo>
                    <a:pt x="6741" y="8082"/>
                  </a:lnTo>
                  <a:lnTo>
                    <a:pt x="8392" y="6318"/>
                  </a:lnTo>
                  <a:lnTo>
                    <a:pt x="10181" y="4849"/>
                  </a:lnTo>
                  <a:lnTo>
                    <a:pt x="11832" y="3086"/>
                  </a:lnTo>
                  <a:lnTo>
                    <a:pt x="13483" y="1763"/>
                  </a:lnTo>
                  <a:lnTo>
                    <a:pt x="13896" y="1322"/>
                  </a:lnTo>
                  <a:lnTo>
                    <a:pt x="13896" y="882"/>
                  </a:lnTo>
                  <a:lnTo>
                    <a:pt x="13896" y="441"/>
                  </a:lnTo>
                  <a:lnTo>
                    <a:pt x="13483" y="0"/>
                  </a:lnTo>
                  <a:lnTo>
                    <a:pt x="13070" y="0"/>
                  </a:lnTo>
                  <a:lnTo>
                    <a:pt x="12657" y="0"/>
                  </a:lnTo>
                  <a:close/>
                  <a:moveTo>
                    <a:pt x="12657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5" name="Freeform 102"/>
            <p:cNvSpPr/>
            <p:nvPr/>
          </p:nvSpPr>
          <p:spPr>
            <a:xfrm>
              <a:off x="5654880" y="2158920"/>
              <a:ext cx="419040" cy="20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8419"/>
                  </a:moveTo>
                  <a:lnTo>
                    <a:pt x="21355" y="15907"/>
                  </a:lnTo>
                  <a:lnTo>
                    <a:pt x="21109" y="13395"/>
                  </a:lnTo>
                  <a:lnTo>
                    <a:pt x="20618" y="11219"/>
                  </a:lnTo>
                  <a:lnTo>
                    <a:pt x="19882" y="8707"/>
                  </a:lnTo>
                  <a:lnTo>
                    <a:pt x="19064" y="7200"/>
                  </a:lnTo>
                  <a:lnTo>
                    <a:pt x="18327" y="5023"/>
                  </a:lnTo>
                  <a:lnTo>
                    <a:pt x="17345" y="3516"/>
                  </a:lnTo>
                  <a:lnTo>
                    <a:pt x="16118" y="2009"/>
                  </a:lnTo>
                  <a:lnTo>
                    <a:pt x="14564" y="1005"/>
                  </a:lnTo>
                  <a:lnTo>
                    <a:pt x="13091" y="0"/>
                  </a:lnTo>
                  <a:lnTo>
                    <a:pt x="11536" y="0"/>
                  </a:lnTo>
                  <a:lnTo>
                    <a:pt x="10064" y="0"/>
                  </a:lnTo>
                  <a:lnTo>
                    <a:pt x="8509" y="502"/>
                  </a:lnTo>
                  <a:lnTo>
                    <a:pt x="7036" y="1005"/>
                  </a:lnTo>
                  <a:lnTo>
                    <a:pt x="5727" y="2512"/>
                  </a:lnTo>
                  <a:lnTo>
                    <a:pt x="4255" y="4019"/>
                  </a:lnTo>
                  <a:lnTo>
                    <a:pt x="3273" y="5023"/>
                  </a:lnTo>
                  <a:lnTo>
                    <a:pt x="2455" y="6698"/>
                  </a:lnTo>
                  <a:lnTo>
                    <a:pt x="1718" y="8707"/>
                  </a:lnTo>
                  <a:lnTo>
                    <a:pt x="982" y="10716"/>
                  </a:lnTo>
                  <a:lnTo>
                    <a:pt x="491" y="12893"/>
                  </a:lnTo>
                  <a:lnTo>
                    <a:pt x="245" y="14902"/>
                  </a:lnTo>
                  <a:lnTo>
                    <a:pt x="0" y="16912"/>
                  </a:lnTo>
                  <a:lnTo>
                    <a:pt x="0" y="19591"/>
                  </a:lnTo>
                  <a:lnTo>
                    <a:pt x="0" y="20093"/>
                  </a:lnTo>
                  <a:lnTo>
                    <a:pt x="245" y="20595"/>
                  </a:lnTo>
                  <a:lnTo>
                    <a:pt x="245" y="21098"/>
                  </a:lnTo>
                  <a:lnTo>
                    <a:pt x="491" y="21098"/>
                  </a:lnTo>
                  <a:lnTo>
                    <a:pt x="491" y="21600"/>
                  </a:lnTo>
                  <a:lnTo>
                    <a:pt x="736" y="21600"/>
                  </a:lnTo>
                  <a:lnTo>
                    <a:pt x="982" y="21600"/>
                  </a:lnTo>
                  <a:lnTo>
                    <a:pt x="1227" y="21600"/>
                  </a:lnTo>
                  <a:lnTo>
                    <a:pt x="1473" y="21600"/>
                  </a:lnTo>
                  <a:lnTo>
                    <a:pt x="1718" y="21098"/>
                  </a:lnTo>
                  <a:lnTo>
                    <a:pt x="1964" y="21098"/>
                  </a:lnTo>
                  <a:lnTo>
                    <a:pt x="1964" y="20595"/>
                  </a:lnTo>
                  <a:lnTo>
                    <a:pt x="1964" y="20093"/>
                  </a:lnTo>
                  <a:lnTo>
                    <a:pt x="2209" y="20093"/>
                  </a:lnTo>
                  <a:lnTo>
                    <a:pt x="2209" y="17916"/>
                  </a:lnTo>
                  <a:lnTo>
                    <a:pt x="2455" y="16409"/>
                  </a:lnTo>
                  <a:lnTo>
                    <a:pt x="3027" y="14902"/>
                  </a:lnTo>
                  <a:lnTo>
                    <a:pt x="3273" y="13395"/>
                  </a:lnTo>
                  <a:lnTo>
                    <a:pt x="3764" y="11721"/>
                  </a:lnTo>
                  <a:lnTo>
                    <a:pt x="4255" y="10214"/>
                  </a:lnTo>
                  <a:lnTo>
                    <a:pt x="4991" y="9209"/>
                  </a:lnTo>
                  <a:lnTo>
                    <a:pt x="5727" y="8205"/>
                  </a:lnTo>
                  <a:lnTo>
                    <a:pt x="6791" y="7200"/>
                  </a:lnTo>
                  <a:lnTo>
                    <a:pt x="7773" y="6195"/>
                  </a:lnTo>
                  <a:lnTo>
                    <a:pt x="9000" y="5526"/>
                  </a:lnTo>
                  <a:lnTo>
                    <a:pt x="10064" y="5023"/>
                  </a:lnTo>
                  <a:lnTo>
                    <a:pt x="11291" y="5023"/>
                  </a:lnTo>
                  <a:lnTo>
                    <a:pt x="12518" y="5023"/>
                  </a:lnTo>
                  <a:lnTo>
                    <a:pt x="13582" y="5526"/>
                  </a:lnTo>
                  <a:lnTo>
                    <a:pt x="14809" y="6698"/>
                  </a:lnTo>
                  <a:lnTo>
                    <a:pt x="15791" y="7702"/>
                  </a:lnTo>
                  <a:lnTo>
                    <a:pt x="16855" y="8707"/>
                  </a:lnTo>
                  <a:lnTo>
                    <a:pt x="17591" y="10214"/>
                  </a:lnTo>
                  <a:lnTo>
                    <a:pt x="18327" y="11721"/>
                  </a:lnTo>
                  <a:lnTo>
                    <a:pt x="19064" y="13898"/>
                  </a:lnTo>
                  <a:lnTo>
                    <a:pt x="19636" y="15907"/>
                  </a:lnTo>
                  <a:lnTo>
                    <a:pt x="20127" y="17414"/>
                  </a:lnTo>
                  <a:lnTo>
                    <a:pt x="20618" y="19591"/>
                  </a:lnTo>
                  <a:lnTo>
                    <a:pt x="20864" y="20093"/>
                  </a:lnTo>
                  <a:lnTo>
                    <a:pt x="21109" y="20093"/>
                  </a:lnTo>
                  <a:lnTo>
                    <a:pt x="21355" y="20093"/>
                  </a:lnTo>
                  <a:lnTo>
                    <a:pt x="21600" y="20093"/>
                  </a:lnTo>
                  <a:lnTo>
                    <a:pt x="21600" y="19591"/>
                  </a:lnTo>
                  <a:lnTo>
                    <a:pt x="21600" y="18921"/>
                  </a:lnTo>
                  <a:lnTo>
                    <a:pt x="21600" y="18419"/>
                  </a:lnTo>
                  <a:close/>
                  <a:moveTo>
                    <a:pt x="21600" y="18419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6" name="Freeform 103"/>
            <p:cNvSpPr/>
            <p:nvPr/>
          </p:nvSpPr>
          <p:spPr>
            <a:xfrm>
              <a:off x="6357960" y="2378160"/>
              <a:ext cx="371520" cy="331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31" y="4754"/>
                  </a:moveTo>
                  <a:lnTo>
                    <a:pt x="2215" y="3824"/>
                  </a:lnTo>
                  <a:lnTo>
                    <a:pt x="3692" y="3204"/>
                  </a:lnTo>
                  <a:lnTo>
                    <a:pt x="5077" y="2894"/>
                  </a:lnTo>
                  <a:lnTo>
                    <a:pt x="6554" y="2584"/>
                  </a:lnTo>
                  <a:lnTo>
                    <a:pt x="7938" y="2894"/>
                  </a:lnTo>
                  <a:lnTo>
                    <a:pt x="9600" y="2894"/>
                  </a:lnTo>
                  <a:lnTo>
                    <a:pt x="11077" y="3204"/>
                  </a:lnTo>
                  <a:lnTo>
                    <a:pt x="12462" y="3824"/>
                  </a:lnTo>
                  <a:lnTo>
                    <a:pt x="14492" y="4754"/>
                  </a:lnTo>
                  <a:lnTo>
                    <a:pt x="15877" y="6408"/>
                  </a:lnTo>
                  <a:lnTo>
                    <a:pt x="17354" y="8268"/>
                  </a:lnTo>
                  <a:lnTo>
                    <a:pt x="17908" y="10232"/>
                  </a:lnTo>
                  <a:lnTo>
                    <a:pt x="18462" y="12712"/>
                  </a:lnTo>
                  <a:lnTo>
                    <a:pt x="18738" y="14986"/>
                  </a:lnTo>
                  <a:lnTo>
                    <a:pt x="18462" y="17156"/>
                  </a:lnTo>
                  <a:lnTo>
                    <a:pt x="17908" y="19740"/>
                  </a:lnTo>
                  <a:lnTo>
                    <a:pt x="17908" y="20050"/>
                  </a:lnTo>
                  <a:lnTo>
                    <a:pt x="17908" y="20360"/>
                  </a:lnTo>
                  <a:lnTo>
                    <a:pt x="18185" y="20670"/>
                  </a:lnTo>
                  <a:lnTo>
                    <a:pt x="18185" y="20980"/>
                  </a:lnTo>
                  <a:lnTo>
                    <a:pt x="18462" y="21290"/>
                  </a:lnTo>
                  <a:lnTo>
                    <a:pt x="18738" y="21290"/>
                  </a:lnTo>
                  <a:lnTo>
                    <a:pt x="19015" y="21600"/>
                  </a:lnTo>
                  <a:lnTo>
                    <a:pt x="19292" y="21600"/>
                  </a:lnTo>
                  <a:lnTo>
                    <a:pt x="19569" y="21600"/>
                  </a:lnTo>
                  <a:lnTo>
                    <a:pt x="19846" y="21600"/>
                  </a:lnTo>
                  <a:lnTo>
                    <a:pt x="19846" y="21290"/>
                  </a:lnTo>
                  <a:lnTo>
                    <a:pt x="20123" y="21290"/>
                  </a:lnTo>
                  <a:lnTo>
                    <a:pt x="20400" y="20980"/>
                  </a:lnTo>
                  <a:lnTo>
                    <a:pt x="20400" y="20670"/>
                  </a:lnTo>
                  <a:lnTo>
                    <a:pt x="20677" y="20360"/>
                  </a:lnTo>
                  <a:lnTo>
                    <a:pt x="21323" y="17466"/>
                  </a:lnTo>
                  <a:lnTo>
                    <a:pt x="21600" y="14676"/>
                  </a:lnTo>
                  <a:lnTo>
                    <a:pt x="21323" y="11782"/>
                  </a:lnTo>
                  <a:lnTo>
                    <a:pt x="20400" y="8888"/>
                  </a:lnTo>
                  <a:lnTo>
                    <a:pt x="19292" y="6098"/>
                  </a:lnTo>
                  <a:lnTo>
                    <a:pt x="17631" y="3824"/>
                  </a:lnTo>
                  <a:lnTo>
                    <a:pt x="16708" y="2894"/>
                  </a:lnTo>
                  <a:lnTo>
                    <a:pt x="15600" y="2274"/>
                  </a:lnTo>
                  <a:lnTo>
                    <a:pt x="14492" y="1240"/>
                  </a:lnTo>
                  <a:lnTo>
                    <a:pt x="13015" y="930"/>
                  </a:lnTo>
                  <a:lnTo>
                    <a:pt x="11354" y="310"/>
                  </a:lnTo>
                  <a:lnTo>
                    <a:pt x="9600" y="0"/>
                  </a:lnTo>
                  <a:lnTo>
                    <a:pt x="7938" y="0"/>
                  </a:lnTo>
                  <a:lnTo>
                    <a:pt x="5908" y="0"/>
                  </a:lnTo>
                  <a:lnTo>
                    <a:pt x="4246" y="620"/>
                  </a:lnTo>
                  <a:lnTo>
                    <a:pt x="2862" y="1240"/>
                  </a:lnTo>
                  <a:lnTo>
                    <a:pt x="1385" y="2584"/>
                  </a:lnTo>
                  <a:lnTo>
                    <a:pt x="0" y="4134"/>
                  </a:lnTo>
                  <a:lnTo>
                    <a:pt x="0" y="4444"/>
                  </a:lnTo>
                  <a:lnTo>
                    <a:pt x="0" y="4754"/>
                  </a:lnTo>
                  <a:lnTo>
                    <a:pt x="277" y="4754"/>
                  </a:lnTo>
                  <a:lnTo>
                    <a:pt x="277" y="5064"/>
                  </a:lnTo>
                  <a:lnTo>
                    <a:pt x="554" y="5064"/>
                  </a:lnTo>
                  <a:lnTo>
                    <a:pt x="831" y="5064"/>
                  </a:lnTo>
                  <a:lnTo>
                    <a:pt x="831" y="4754"/>
                  </a:lnTo>
                  <a:close/>
                  <a:moveTo>
                    <a:pt x="831" y="475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7" name="Freeform 104"/>
            <p:cNvSpPr/>
            <p:nvPr/>
          </p:nvSpPr>
          <p:spPr>
            <a:xfrm>
              <a:off x="5488200" y="2394000"/>
              <a:ext cx="1411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88" y="0"/>
                  </a:moveTo>
                  <a:lnTo>
                    <a:pt x="14076" y="1931"/>
                  </a:lnTo>
                  <a:lnTo>
                    <a:pt x="10436" y="4103"/>
                  </a:lnTo>
                  <a:lnTo>
                    <a:pt x="6796" y="6396"/>
                  </a:lnTo>
                  <a:lnTo>
                    <a:pt x="3640" y="8930"/>
                  </a:lnTo>
                  <a:lnTo>
                    <a:pt x="1456" y="11584"/>
                  </a:lnTo>
                  <a:lnTo>
                    <a:pt x="0" y="14480"/>
                  </a:lnTo>
                  <a:lnTo>
                    <a:pt x="0" y="17497"/>
                  </a:lnTo>
                  <a:lnTo>
                    <a:pt x="0" y="20031"/>
                  </a:lnTo>
                  <a:lnTo>
                    <a:pt x="0" y="20514"/>
                  </a:lnTo>
                  <a:lnTo>
                    <a:pt x="0" y="20876"/>
                  </a:lnTo>
                  <a:lnTo>
                    <a:pt x="728" y="20876"/>
                  </a:lnTo>
                  <a:lnTo>
                    <a:pt x="728" y="21238"/>
                  </a:lnTo>
                  <a:lnTo>
                    <a:pt x="1456" y="21238"/>
                  </a:lnTo>
                  <a:lnTo>
                    <a:pt x="1456" y="21600"/>
                  </a:lnTo>
                  <a:lnTo>
                    <a:pt x="2184" y="21600"/>
                  </a:lnTo>
                  <a:lnTo>
                    <a:pt x="2912" y="21600"/>
                  </a:lnTo>
                  <a:lnTo>
                    <a:pt x="3640" y="21600"/>
                  </a:lnTo>
                  <a:lnTo>
                    <a:pt x="4369" y="21238"/>
                  </a:lnTo>
                  <a:lnTo>
                    <a:pt x="5097" y="20876"/>
                  </a:lnTo>
                  <a:lnTo>
                    <a:pt x="5097" y="20514"/>
                  </a:lnTo>
                  <a:lnTo>
                    <a:pt x="5097" y="20031"/>
                  </a:lnTo>
                  <a:lnTo>
                    <a:pt x="6067" y="17497"/>
                  </a:lnTo>
                  <a:lnTo>
                    <a:pt x="6796" y="14842"/>
                  </a:lnTo>
                  <a:lnTo>
                    <a:pt x="7524" y="12308"/>
                  </a:lnTo>
                  <a:lnTo>
                    <a:pt x="9708" y="10016"/>
                  </a:lnTo>
                  <a:lnTo>
                    <a:pt x="11892" y="7482"/>
                  </a:lnTo>
                  <a:lnTo>
                    <a:pt x="14076" y="5189"/>
                  </a:lnTo>
                  <a:lnTo>
                    <a:pt x="17231" y="3379"/>
                  </a:lnTo>
                  <a:lnTo>
                    <a:pt x="20872" y="1207"/>
                  </a:lnTo>
                  <a:lnTo>
                    <a:pt x="21600" y="1207"/>
                  </a:lnTo>
                  <a:lnTo>
                    <a:pt x="21600" y="724"/>
                  </a:lnTo>
                  <a:lnTo>
                    <a:pt x="21600" y="362"/>
                  </a:lnTo>
                  <a:lnTo>
                    <a:pt x="20872" y="362"/>
                  </a:lnTo>
                  <a:lnTo>
                    <a:pt x="20872" y="0"/>
                  </a:lnTo>
                  <a:lnTo>
                    <a:pt x="20144" y="0"/>
                  </a:lnTo>
                  <a:lnTo>
                    <a:pt x="19416" y="0"/>
                  </a:lnTo>
                  <a:lnTo>
                    <a:pt x="18688" y="0"/>
                  </a:lnTo>
                  <a:close/>
                  <a:moveTo>
                    <a:pt x="18688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8" name="Freeform 105"/>
            <p:cNvSpPr/>
            <p:nvPr/>
          </p:nvSpPr>
          <p:spPr>
            <a:xfrm>
              <a:off x="6058080" y="2130480"/>
              <a:ext cx="996840" cy="133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0" y="797"/>
                  </a:moveTo>
                  <a:lnTo>
                    <a:pt x="1169" y="720"/>
                  </a:lnTo>
                  <a:lnTo>
                    <a:pt x="2132" y="643"/>
                  </a:lnTo>
                  <a:lnTo>
                    <a:pt x="3061" y="643"/>
                  </a:lnTo>
                  <a:lnTo>
                    <a:pt x="3921" y="720"/>
                  </a:lnTo>
                  <a:lnTo>
                    <a:pt x="4884" y="797"/>
                  </a:lnTo>
                  <a:lnTo>
                    <a:pt x="5710" y="874"/>
                  </a:lnTo>
                  <a:lnTo>
                    <a:pt x="6673" y="1029"/>
                  </a:lnTo>
                  <a:lnTo>
                    <a:pt x="7636" y="1183"/>
                  </a:lnTo>
                  <a:lnTo>
                    <a:pt x="8668" y="1337"/>
                  </a:lnTo>
                  <a:lnTo>
                    <a:pt x="9631" y="1594"/>
                  </a:lnTo>
                  <a:lnTo>
                    <a:pt x="10697" y="1903"/>
                  </a:lnTo>
                  <a:lnTo>
                    <a:pt x="11660" y="2211"/>
                  </a:lnTo>
                  <a:lnTo>
                    <a:pt x="12589" y="2546"/>
                  </a:lnTo>
                  <a:lnTo>
                    <a:pt x="13448" y="3009"/>
                  </a:lnTo>
                  <a:lnTo>
                    <a:pt x="14308" y="3497"/>
                  </a:lnTo>
                  <a:lnTo>
                    <a:pt x="15134" y="3960"/>
                  </a:lnTo>
                  <a:lnTo>
                    <a:pt x="16200" y="4834"/>
                  </a:lnTo>
                  <a:lnTo>
                    <a:pt x="17163" y="5786"/>
                  </a:lnTo>
                  <a:lnTo>
                    <a:pt x="17989" y="6814"/>
                  </a:lnTo>
                  <a:lnTo>
                    <a:pt x="18642" y="7843"/>
                  </a:lnTo>
                  <a:lnTo>
                    <a:pt x="19261" y="8871"/>
                  </a:lnTo>
                  <a:lnTo>
                    <a:pt x="19674" y="10054"/>
                  </a:lnTo>
                  <a:lnTo>
                    <a:pt x="20018" y="11160"/>
                  </a:lnTo>
                  <a:lnTo>
                    <a:pt x="20327" y="12343"/>
                  </a:lnTo>
                  <a:lnTo>
                    <a:pt x="20431" y="13449"/>
                  </a:lnTo>
                  <a:lnTo>
                    <a:pt x="20431" y="14631"/>
                  </a:lnTo>
                  <a:lnTo>
                    <a:pt x="20224" y="15840"/>
                  </a:lnTo>
                  <a:lnTo>
                    <a:pt x="19915" y="16946"/>
                  </a:lnTo>
                  <a:lnTo>
                    <a:pt x="19468" y="18051"/>
                  </a:lnTo>
                  <a:lnTo>
                    <a:pt x="18848" y="19080"/>
                  </a:lnTo>
                  <a:lnTo>
                    <a:pt x="17989" y="20031"/>
                  </a:lnTo>
                  <a:lnTo>
                    <a:pt x="16922" y="20983"/>
                  </a:lnTo>
                  <a:lnTo>
                    <a:pt x="16819" y="21060"/>
                  </a:lnTo>
                  <a:lnTo>
                    <a:pt x="16819" y="21137"/>
                  </a:lnTo>
                  <a:lnTo>
                    <a:pt x="16819" y="21214"/>
                  </a:lnTo>
                  <a:lnTo>
                    <a:pt x="16819" y="21291"/>
                  </a:lnTo>
                  <a:lnTo>
                    <a:pt x="16819" y="21369"/>
                  </a:lnTo>
                  <a:lnTo>
                    <a:pt x="16922" y="21369"/>
                  </a:lnTo>
                  <a:lnTo>
                    <a:pt x="16922" y="21446"/>
                  </a:lnTo>
                  <a:lnTo>
                    <a:pt x="17060" y="21523"/>
                  </a:lnTo>
                  <a:lnTo>
                    <a:pt x="17163" y="21523"/>
                  </a:lnTo>
                  <a:lnTo>
                    <a:pt x="17266" y="21523"/>
                  </a:lnTo>
                  <a:lnTo>
                    <a:pt x="17266" y="21600"/>
                  </a:lnTo>
                  <a:lnTo>
                    <a:pt x="17369" y="21600"/>
                  </a:lnTo>
                  <a:lnTo>
                    <a:pt x="17473" y="21523"/>
                  </a:lnTo>
                  <a:lnTo>
                    <a:pt x="17576" y="21523"/>
                  </a:lnTo>
                  <a:lnTo>
                    <a:pt x="17679" y="21446"/>
                  </a:lnTo>
                  <a:lnTo>
                    <a:pt x="18539" y="20803"/>
                  </a:lnTo>
                  <a:lnTo>
                    <a:pt x="19261" y="20109"/>
                  </a:lnTo>
                  <a:lnTo>
                    <a:pt x="19915" y="19311"/>
                  </a:lnTo>
                  <a:lnTo>
                    <a:pt x="20431" y="18514"/>
                  </a:lnTo>
                  <a:lnTo>
                    <a:pt x="20740" y="17640"/>
                  </a:lnTo>
                  <a:lnTo>
                    <a:pt x="21050" y="16689"/>
                  </a:lnTo>
                  <a:lnTo>
                    <a:pt x="21394" y="15840"/>
                  </a:lnTo>
                  <a:lnTo>
                    <a:pt x="21600" y="14966"/>
                  </a:lnTo>
                  <a:lnTo>
                    <a:pt x="21600" y="13371"/>
                  </a:lnTo>
                  <a:lnTo>
                    <a:pt x="21394" y="11803"/>
                  </a:lnTo>
                  <a:lnTo>
                    <a:pt x="20946" y="10209"/>
                  </a:lnTo>
                  <a:lnTo>
                    <a:pt x="20327" y="8717"/>
                  </a:lnTo>
                  <a:lnTo>
                    <a:pt x="19915" y="7997"/>
                  </a:lnTo>
                  <a:lnTo>
                    <a:pt x="19468" y="7277"/>
                  </a:lnTo>
                  <a:lnTo>
                    <a:pt x="19055" y="6583"/>
                  </a:lnTo>
                  <a:lnTo>
                    <a:pt x="18539" y="5863"/>
                  </a:lnTo>
                  <a:lnTo>
                    <a:pt x="17885" y="5220"/>
                  </a:lnTo>
                  <a:lnTo>
                    <a:pt x="17266" y="4603"/>
                  </a:lnTo>
                  <a:lnTo>
                    <a:pt x="16613" y="3960"/>
                  </a:lnTo>
                  <a:lnTo>
                    <a:pt x="15890" y="3394"/>
                  </a:lnTo>
                  <a:lnTo>
                    <a:pt x="15237" y="2931"/>
                  </a:lnTo>
                  <a:lnTo>
                    <a:pt x="14618" y="2546"/>
                  </a:lnTo>
                  <a:lnTo>
                    <a:pt x="13861" y="2211"/>
                  </a:lnTo>
                  <a:lnTo>
                    <a:pt x="13242" y="1903"/>
                  </a:lnTo>
                  <a:lnTo>
                    <a:pt x="12485" y="1594"/>
                  </a:lnTo>
                  <a:lnTo>
                    <a:pt x="11660" y="1337"/>
                  </a:lnTo>
                  <a:lnTo>
                    <a:pt x="10903" y="1106"/>
                  </a:lnTo>
                  <a:lnTo>
                    <a:pt x="10146" y="874"/>
                  </a:lnTo>
                  <a:lnTo>
                    <a:pt x="8908" y="643"/>
                  </a:lnTo>
                  <a:lnTo>
                    <a:pt x="7636" y="411"/>
                  </a:lnTo>
                  <a:lnTo>
                    <a:pt x="6466" y="154"/>
                  </a:lnTo>
                  <a:lnTo>
                    <a:pt x="5194" y="77"/>
                  </a:lnTo>
                  <a:lnTo>
                    <a:pt x="3921" y="0"/>
                  </a:lnTo>
                  <a:lnTo>
                    <a:pt x="2648" y="77"/>
                  </a:lnTo>
                  <a:lnTo>
                    <a:pt x="1479" y="154"/>
                  </a:lnTo>
                  <a:lnTo>
                    <a:pt x="206" y="489"/>
                  </a:lnTo>
                  <a:lnTo>
                    <a:pt x="103" y="489"/>
                  </a:lnTo>
                  <a:lnTo>
                    <a:pt x="103" y="566"/>
                  </a:lnTo>
                  <a:lnTo>
                    <a:pt x="0" y="566"/>
                  </a:lnTo>
                  <a:lnTo>
                    <a:pt x="0" y="643"/>
                  </a:lnTo>
                  <a:lnTo>
                    <a:pt x="0" y="720"/>
                  </a:lnTo>
                  <a:lnTo>
                    <a:pt x="103" y="720"/>
                  </a:lnTo>
                  <a:lnTo>
                    <a:pt x="103" y="797"/>
                  </a:lnTo>
                  <a:lnTo>
                    <a:pt x="206" y="797"/>
                  </a:lnTo>
                  <a:lnTo>
                    <a:pt x="310" y="797"/>
                  </a:lnTo>
                  <a:close/>
                  <a:moveTo>
                    <a:pt x="310" y="79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9" name="Freeform 106"/>
            <p:cNvSpPr/>
            <p:nvPr/>
          </p:nvSpPr>
          <p:spPr>
            <a:xfrm>
              <a:off x="5241960" y="1563480"/>
              <a:ext cx="1123920" cy="88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27" y="21137"/>
                  </a:moveTo>
                  <a:lnTo>
                    <a:pt x="5156" y="20674"/>
                  </a:lnTo>
                  <a:lnTo>
                    <a:pt x="4607" y="20289"/>
                  </a:lnTo>
                  <a:lnTo>
                    <a:pt x="4027" y="19826"/>
                  </a:lnTo>
                  <a:lnTo>
                    <a:pt x="3478" y="19247"/>
                  </a:lnTo>
                  <a:lnTo>
                    <a:pt x="3020" y="18630"/>
                  </a:lnTo>
                  <a:lnTo>
                    <a:pt x="2532" y="17936"/>
                  </a:lnTo>
                  <a:lnTo>
                    <a:pt x="2166" y="17319"/>
                  </a:lnTo>
                  <a:lnTo>
                    <a:pt x="1800" y="16509"/>
                  </a:lnTo>
                  <a:lnTo>
                    <a:pt x="1495" y="15776"/>
                  </a:lnTo>
                  <a:lnTo>
                    <a:pt x="1220" y="14966"/>
                  </a:lnTo>
                  <a:lnTo>
                    <a:pt x="1129" y="14117"/>
                  </a:lnTo>
                  <a:lnTo>
                    <a:pt x="946" y="13307"/>
                  </a:lnTo>
                  <a:lnTo>
                    <a:pt x="946" y="12459"/>
                  </a:lnTo>
                  <a:lnTo>
                    <a:pt x="946" y="11533"/>
                  </a:lnTo>
                  <a:lnTo>
                    <a:pt x="1037" y="10684"/>
                  </a:lnTo>
                  <a:lnTo>
                    <a:pt x="1220" y="9759"/>
                  </a:lnTo>
                  <a:lnTo>
                    <a:pt x="1678" y="8447"/>
                  </a:lnTo>
                  <a:lnTo>
                    <a:pt x="2258" y="7136"/>
                  </a:lnTo>
                  <a:lnTo>
                    <a:pt x="2898" y="5940"/>
                  </a:lnTo>
                  <a:lnTo>
                    <a:pt x="3753" y="4860"/>
                  </a:lnTo>
                  <a:lnTo>
                    <a:pt x="4607" y="4050"/>
                  </a:lnTo>
                  <a:lnTo>
                    <a:pt x="5553" y="3201"/>
                  </a:lnTo>
                  <a:lnTo>
                    <a:pt x="6559" y="2623"/>
                  </a:lnTo>
                  <a:lnTo>
                    <a:pt x="7597" y="2044"/>
                  </a:lnTo>
                  <a:lnTo>
                    <a:pt x="8725" y="1659"/>
                  </a:lnTo>
                  <a:lnTo>
                    <a:pt x="9854" y="1311"/>
                  </a:lnTo>
                  <a:lnTo>
                    <a:pt x="10983" y="1196"/>
                  </a:lnTo>
                  <a:lnTo>
                    <a:pt x="12203" y="1196"/>
                  </a:lnTo>
                  <a:lnTo>
                    <a:pt x="13332" y="1311"/>
                  </a:lnTo>
                  <a:lnTo>
                    <a:pt x="14461" y="1543"/>
                  </a:lnTo>
                  <a:lnTo>
                    <a:pt x="15590" y="1890"/>
                  </a:lnTo>
                  <a:lnTo>
                    <a:pt x="16627" y="2391"/>
                  </a:lnTo>
                  <a:lnTo>
                    <a:pt x="17176" y="2739"/>
                  </a:lnTo>
                  <a:lnTo>
                    <a:pt x="17756" y="3201"/>
                  </a:lnTo>
                  <a:lnTo>
                    <a:pt x="18305" y="3703"/>
                  </a:lnTo>
                  <a:lnTo>
                    <a:pt x="18793" y="4166"/>
                  </a:lnTo>
                  <a:lnTo>
                    <a:pt x="19251" y="4744"/>
                  </a:lnTo>
                  <a:lnTo>
                    <a:pt x="19708" y="5361"/>
                  </a:lnTo>
                  <a:lnTo>
                    <a:pt x="20014" y="6056"/>
                  </a:lnTo>
                  <a:lnTo>
                    <a:pt x="20288" y="6789"/>
                  </a:lnTo>
                  <a:lnTo>
                    <a:pt x="20471" y="7483"/>
                  </a:lnTo>
                  <a:lnTo>
                    <a:pt x="20563" y="8216"/>
                  </a:lnTo>
                  <a:lnTo>
                    <a:pt x="20563" y="8910"/>
                  </a:lnTo>
                  <a:lnTo>
                    <a:pt x="20563" y="9604"/>
                  </a:lnTo>
                  <a:lnTo>
                    <a:pt x="20471" y="10337"/>
                  </a:lnTo>
                  <a:lnTo>
                    <a:pt x="20288" y="11031"/>
                  </a:lnTo>
                  <a:lnTo>
                    <a:pt x="20014" y="11649"/>
                  </a:lnTo>
                  <a:lnTo>
                    <a:pt x="19708" y="12343"/>
                  </a:lnTo>
                  <a:lnTo>
                    <a:pt x="19708" y="12459"/>
                  </a:lnTo>
                  <a:lnTo>
                    <a:pt x="19617" y="12459"/>
                  </a:lnTo>
                  <a:lnTo>
                    <a:pt x="19617" y="12574"/>
                  </a:lnTo>
                  <a:lnTo>
                    <a:pt x="19617" y="12690"/>
                  </a:lnTo>
                  <a:lnTo>
                    <a:pt x="19708" y="12844"/>
                  </a:lnTo>
                  <a:lnTo>
                    <a:pt x="19708" y="12960"/>
                  </a:lnTo>
                  <a:lnTo>
                    <a:pt x="19800" y="13076"/>
                  </a:lnTo>
                  <a:lnTo>
                    <a:pt x="19922" y="13191"/>
                  </a:lnTo>
                  <a:lnTo>
                    <a:pt x="20014" y="13191"/>
                  </a:lnTo>
                  <a:lnTo>
                    <a:pt x="20105" y="13191"/>
                  </a:lnTo>
                  <a:lnTo>
                    <a:pt x="20197" y="13191"/>
                  </a:lnTo>
                  <a:lnTo>
                    <a:pt x="20288" y="13191"/>
                  </a:lnTo>
                  <a:lnTo>
                    <a:pt x="20288" y="13076"/>
                  </a:lnTo>
                  <a:lnTo>
                    <a:pt x="20380" y="13076"/>
                  </a:lnTo>
                  <a:lnTo>
                    <a:pt x="20471" y="12960"/>
                  </a:lnTo>
                  <a:lnTo>
                    <a:pt x="20837" y="12227"/>
                  </a:lnTo>
                  <a:lnTo>
                    <a:pt x="21234" y="11533"/>
                  </a:lnTo>
                  <a:lnTo>
                    <a:pt x="21417" y="10684"/>
                  </a:lnTo>
                  <a:lnTo>
                    <a:pt x="21600" y="9874"/>
                  </a:lnTo>
                  <a:lnTo>
                    <a:pt x="21600" y="9026"/>
                  </a:lnTo>
                  <a:lnTo>
                    <a:pt x="21600" y="8216"/>
                  </a:lnTo>
                  <a:lnTo>
                    <a:pt x="21508" y="7367"/>
                  </a:lnTo>
                  <a:lnTo>
                    <a:pt x="21325" y="6519"/>
                  </a:lnTo>
                  <a:lnTo>
                    <a:pt x="20929" y="5593"/>
                  </a:lnTo>
                  <a:lnTo>
                    <a:pt x="20471" y="4629"/>
                  </a:lnTo>
                  <a:lnTo>
                    <a:pt x="19922" y="3819"/>
                  </a:lnTo>
                  <a:lnTo>
                    <a:pt x="19342" y="2970"/>
                  </a:lnTo>
                  <a:lnTo>
                    <a:pt x="18702" y="2391"/>
                  </a:lnTo>
                  <a:lnTo>
                    <a:pt x="17939" y="1774"/>
                  </a:lnTo>
                  <a:lnTo>
                    <a:pt x="17176" y="1311"/>
                  </a:lnTo>
                  <a:lnTo>
                    <a:pt x="16444" y="849"/>
                  </a:lnTo>
                  <a:lnTo>
                    <a:pt x="15590" y="617"/>
                  </a:lnTo>
                  <a:lnTo>
                    <a:pt x="14736" y="231"/>
                  </a:lnTo>
                  <a:lnTo>
                    <a:pt x="13790" y="116"/>
                  </a:lnTo>
                  <a:lnTo>
                    <a:pt x="12966" y="0"/>
                  </a:lnTo>
                  <a:lnTo>
                    <a:pt x="12112" y="0"/>
                  </a:lnTo>
                  <a:lnTo>
                    <a:pt x="11166" y="0"/>
                  </a:lnTo>
                  <a:lnTo>
                    <a:pt x="10342" y="0"/>
                  </a:lnTo>
                  <a:lnTo>
                    <a:pt x="9488" y="231"/>
                  </a:lnTo>
                  <a:lnTo>
                    <a:pt x="7902" y="617"/>
                  </a:lnTo>
                  <a:lnTo>
                    <a:pt x="6468" y="1311"/>
                  </a:lnTo>
                  <a:lnTo>
                    <a:pt x="5736" y="1659"/>
                  </a:lnTo>
                  <a:lnTo>
                    <a:pt x="5064" y="2160"/>
                  </a:lnTo>
                  <a:lnTo>
                    <a:pt x="4424" y="2623"/>
                  </a:lnTo>
                  <a:lnTo>
                    <a:pt x="3753" y="3201"/>
                  </a:lnTo>
                  <a:lnTo>
                    <a:pt x="3203" y="3819"/>
                  </a:lnTo>
                  <a:lnTo>
                    <a:pt x="2624" y="4513"/>
                  </a:lnTo>
                  <a:lnTo>
                    <a:pt x="2166" y="5246"/>
                  </a:lnTo>
                  <a:lnTo>
                    <a:pt x="1678" y="5940"/>
                  </a:lnTo>
                  <a:lnTo>
                    <a:pt x="1220" y="6789"/>
                  </a:lnTo>
                  <a:lnTo>
                    <a:pt x="854" y="7714"/>
                  </a:lnTo>
                  <a:lnTo>
                    <a:pt x="580" y="8563"/>
                  </a:lnTo>
                  <a:lnTo>
                    <a:pt x="275" y="9489"/>
                  </a:lnTo>
                  <a:lnTo>
                    <a:pt x="92" y="10453"/>
                  </a:lnTo>
                  <a:lnTo>
                    <a:pt x="0" y="11417"/>
                  </a:lnTo>
                  <a:lnTo>
                    <a:pt x="0" y="12459"/>
                  </a:lnTo>
                  <a:lnTo>
                    <a:pt x="0" y="13423"/>
                  </a:lnTo>
                  <a:lnTo>
                    <a:pt x="183" y="14387"/>
                  </a:lnTo>
                  <a:lnTo>
                    <a:pt x="366" y="15313"/>
                  </a:lnTo>
                  <a:lnTo>
                    <a:pt x="671" y="16161"/>
                  </a:lnTo>
                  <a:lnTo>
                    <a:pt x="946" y="16971"/>
                  </a:lnTo>
                  <a:lnTo>
                    <a:pt x="1403" y="17820"/>
                  </a:lnTo>
                  <a:lnTo>
                    <a:pt x="1892" y="18630"/>
                  </a:lnTo>
                  <a:lnTo>
                    <a:pt x="2349" y="19247"/>
                  </a:lnTo>
                  <a:lnTo>
                    <a:pt x="2898" y="19941"/>
                  </a:lnTo>
                  <a:lnTo>
                    <a:pt x="3569" y="20404"/>
                  </a:lnTo>
                  <a:lnTo>
                    <a:pt x="4241" y="20906"/>
                  </a:lnTo>
                  <a:lnTo>
                    <a:pt x="4973" y="21253"/>
                  </a:lnTo>
                  <a:lnTo>
                    <a:pt x="5736" y="21600"/>
                  </a:lnTo>
                  <a:lnTo>
                    <a:pt x="5827" y="21600"/>
                  </a:lnTo>
                  <a:lnTo>
                    <a:pt x="5827" y="21484"/>
                  </a:lnTo>
                  <a:lnTo>
                    <a:pt x="5919" y="21484"/>
                  </a:lnTo>
                  <a:lnTo>
                    <a:pt x="5919" y="21369"/>
                  </a:lnTo>
                  <a:lnTo>
                    <a:pt x="5919" y="21253"/>
                  </a:lnTo>
                  <a:lnTo>
                    <a:pt x="5919" y="21137"/>
                  </a:lnTo>
                  <a:lnTo>
                    <a:pt x="5827" y="21137"/>
                  </a:lnTo>
                  <a:close/>
                  <a:moveTo>
                    <a:pt x="5827" y="2113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0" name="Freeform 107"/>
            <p:cNvSpPr/>
            <p:nvPr/>
          </p:nvSpPr>
          <p:spPr>
            <a:xfrm>
              <a:off x="6675480" y="1832040"/>
              <a:ext cx="1152720" cy="11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36" y="7548"/>
                  </a:moveTo>
                  <a:lnTo>
                    <a:pt x="714" y="6802"/>
                  </a:lnTo>
                  <a:lnTo>
                    <a:pt x="1012" y="6086"/>
                  </a:lnTo>
                  <a:lnTo>
                    <a:pt x="1369" y="5430"/>
                  </a:lnTo>
                  <a:lnTo>
                    <a:pt x="1815" y="4773"/>
                  </a:lnTo>
                  <a:lnTo>
                    <a:pt x="2291" y="4236"/>
                  </a:lnTo>
                  <a:lnTo>
                    <a:pt x="2916" y="3699"/>
                  </a:lnTo>
                  <a:lnTo>
                    <a:pt x="3481" y="3222"/>
                  </a:lnTo>
                  <a:lnTo>
                    <a:pt x="4106" y="2775"/>
                  </a:lnTo>
                  <a:lnTo>
                    <a:pt x="4850" y="2208"/>
                  </a:lnTo>
                  <a:lnTo>
                    <a:pt x="5593" y="1760"/>
                  </a:lnTo>
                  <a:lnTo>
                    <a:pt x="6397" y="1402"/>
                  </a:lnTo>
                  <a:lnTo>
                    <a:pt x="7230" y="1193"/>
                  </a:lnTo>
                  <a:lnTo>
                    <a:pt x="8152" y="1014"/>
                  </a:lnTo>
                  <a:lnTo>
                    <a:pt x="8955" y="1014"/>
                  </a:lnTo>
                  <a:lnTo>
                    <a:pt x="9878" y="1014"/>
                  </a:lnTo>
                  <a:lnTo>
                    <a:pt x="10800" y="1104"/>
                  </a:lnTo>
                  <a:lnTo>
                    <a:pt x="11990" y="1402"/>
                  </a:lnTo>
                  <a:lnTo>
                    <a:pt x="13269" y="1760"/>
                  </a:lnTo>
                  <a:lnTo>
                    <a:pt x="14460" y="2208"/>
                  </a:lnTo>
                  <a:lnTo>
                    <a:pt x="15650" y="2775"/>
                  </a:lnTo>
                  <a:lnTo>
                    <a:pt x="16661" y="3401"/>
                  </a:lnTo>
                  <a:lnTo>
                    <a:pt x="17673" y="4236"/>
                  </a:lnTo>
                  <a:lnTo>
                    <a:pt x="18595" y="5072"/>
                  </a:lnTo>
                  <a:lnTo>
                    <a:pt x="19398" y="6086"/>
                  </a:lnTo>
                  <a:lnTo>
                    <a:pt x="19964" y="7369"/>
                  </a:lnTo>
                  <a:lnTo>
                    <a:pt x="20321" y="8652"/>
                  </a:lnTo>
                  <a:lnTo>
                    <a:pt x="20588" y="10024"/>
                  </a:lnTo>
                  <a:lnTo>
                    <a:pt x="20588" y="11397"/>
                  </a:lnTo>
                  <a:lnTo>
                    <a:pt x="20588" y="12143"/>
                  </a:lnTo>
                  <a:lnTo>
                    <a:pt x="20499" y="12859"/>
                  </a:lnTo>
                  <a:lnTo>
                    <a:pt x="20321" y="13515"/>
                  </a:lnTo>
                  <a:lnTo>
                    <a:pt x="20142" y="14141"/>
                  </a:lnTo>
                  <a:lnTo>
                    <a:pt x="19964" y="14887"/>
                  </a:lnTo>
                  <a:lnTo>
                    <a:pt x="19696" y="15514"/>
                  </a:lnTo>
                  <a:lnTo>
                    <a:pt x="19309" y="16170"/>
                  </a:lnTo>
                  <a:lnTo>
                    <a:pt x="18952" y="16707"/>
                  </a:lnTo>
                  <a:lnTo>
                    <a:pt x="18684" y="17095"/>
                  </a:lnTo>
                  <a:lnTo>
                    <a:pt x="18387" y="17364"/>
                  </a:lnTo>
                  <a:lnTo>
                    <a:pt x="18208" y="17632"/>
                  </a:lnTo>
                  <a:lnTo>
                    <a:pt x="17940" y="17901"/>
                  </a:lnTo>
                  <a:lnTo>
                    <a:pt x="17673" y="18199"/>
                  </a:lnTo>
                  <a:lnTo>
                    <a:pt x="17405" y="18467"/>
                  </a:lnTo>
                  <a:lnTo>
                    <a:pt x="17107" y="18736"/>
                  </a:lnTo>
                  <a:lnTo>
                    <a:pt x="16750" y="18915"/>
                  </a:lnTo>
                  <a:lnTo>
                    <a:pt x="15828" y="19571"/>
                  </a:lnTo>
                  <a:lnTo>
                    <a:pt x="14727" y="20019"/>
                  </a:lnTo>
                  <a:lnTo>
                    <a:pt x="13716" y="20407"/>
                  </a:lnTo>
                  <a:lnTo>
                    <a:pt x="12645" y="20496"/>
                  </a:lnTo>
                  <a:lnTo>
                    <a:pt x="11544" y="20586"/>
                  </a:lnTo>
                  <a:lnTo>
                    <a:pt x="10443" y="20586"/>
                  </a:lnTo>
                  <a:lnTo>
                    <a:pt x="9342" y="20496"/>
                  </a:lnTo>
                  <a:lnTo>
                    <a:pt x="8241" y="20407"/>
                  </a:lnTo>
                  <a:lnTo>
                    <a:pt x="8063" y="20407"/>
                  </a:lnTo>
                  <a:lnTo>
                    <a:pt x="7974" y="20407"/>
                  </a:lnTo>
                  <a:lnTo>
                    <a:pt x="7855" y="20407"/>
                  </a:lnTo>
                  <a:lnTo>
                    <a:pt x="7855" y="20496"/>
                  </a:lnTo>
                  <a:lnTo>
                    <a:pt x="7765" y="20586"/>
                  </a:lnTo>
                  <a:lnTo>
                    <a:pt x="7676" y="20586"/>
                  </a:lnTo>
                  <a:lnTo>
                    <a:pt x="7676" y="20675"/>
                  </a:lnTo>
                  <a:lnTo>
                    <a:pt x="7676" y="20854"/>
                  </a:lnTo>
                  <a:lnTo>
                    <a:pt x="7676" y="20944"/>
                  </a:lnTo>
                  <a:lnTo>
                    <a:pt x="7676" y="21033"/>
                  </a:lnTo>
                  <a:lnTo>
                    <a:pt x="7676" y="21123"/>
                  </a:lnTo>
                  <a:lnTo>
                    <a:pt x="7765" y="21212"/>
                  </a:lnTo>
                  <a:lnTo>
                    <a:pt x="7855" y="21212"/>
                  </a:lnTo>
                  <a:lnTo>
                    <a:pt x="7974" y="21302"/>
                  </a:lnTo>
                  <a:lnTo>
                    <a:pt x="8063" y="21302"/>
                  </a:lnTo>
                  <a:lnTo>
                    <a:pt x="8152" y="21302"/>
                  </a:lnTo>
                  <a:lnTo>
                    <a:pt x="9342" y="21481"/>
                  </a:lnTo>
                  <a:lnTo>
                    <a:pt x="10532" y="21600"/>
                  </a:lnTo>
                  <a:lnTo>
                    <a:pt x="11722" y="21600"/>
                  </a:lnTo>
                  <a:lnTo>
                    <a:pt x="12912" y="21481"/>
                  </a:lnTo>
                  <a:lnTo>
                    <a:pt x="14102" y="21302"/>
                  </a:lnTo>
                  <a:lnTo>
                    <a:pt x="15293" y="20944"/>
                  </a:lnTo>
                  <a:lnTo>
                    <a:pt x="16393" y="20407"/>
                  </a:lnTo>
                  <a:lnTo>
                    <a:pt x="17494" y="19750"/>
                  </a:lnTo>
                  <a:lnTo>
                    <a:pt x="18298" y="19004"/>
                  </a:lnTo>
                  <a:lnTo>
                    <a:pt x="19041" y="18288"/>
                  </a:lnTo>
                  <a:lnTo>
                    <a:pt x="19696" y="17453"/>
                  </a:lnTo>
                  <a:lnTo>
                    <a:pt x="20231" y="16528"/>
                  </a:lnTo>
                  <a:lnTo>
                    <a:pt x="20678" y="15633"/>
                  </a:lnTo>
                  <a:lnTo>
                    <a:pt x="21064" y="14619"/>
                  </a:lnTo>
                  <a:lnTo>
                    <a:pt x="21332" y="13694"/>
                  </a:lnTo>
                  <a:lnTo>
                    <a:pt x="21511" y="12590"/>
                  </a:lnTo>
                  <a:lnTo>
                    <a:pt x="21600" y="11576"/>
                  </a:lnTo>
                  <a:lnTo>
                    <a:pt x="21600" y="10561"/>
                  </a:lnTo>
                  <a:lnTo>
                    <a:pt x="21511" y="9547"/>
                  </a:lnTo>
                  <a:lnTo>
                    <a:pt x="21332" y="8562"/>
                  </a:lnTo>
                  <a:lnTo>
                    <a:pt x="21064" y="7548"/>
                  </a:lnTo>
                  <a:lnTo>
                    <a:pt x="20678" y="6534"/>
                  </a:lnTo>
                  <a:lnTo>
                    <a:pt x="20231" y="5609"/>
                  </a:lnTo>
                  <a:lnTo>
                    <a:pt x="19696" y="4773"/>
                  </a:lnTo>
                  <a:lnTo>
                    <a:pt x="18684" y="3789"/>
                  </a:lnTo>
                  <a:lnTo>
                    <a:pt x="17583" y="2954"/>
                  </a:lnTo>
                  <a:lnTo>
                    <a:pt x="16304" y="2118"/>
                  </a:lnTo>
                  <a:lnTo>
                    <a:pt x="15114" y="1402"/>
                  </a:lnTo>
                  <a:lnTo>
                    <a:pt x="13716" y="835"/>
                  </a:lnTo>
                  <a:lnTo>
                    <a:pt x="12436" y="477"/>
                  </a:lnTo>
                  <a:lnTo>
                    <a:pt x="10979" y="209"/>
                  </a:lnTo>
                  <a:lnTo>
                    <a:pt x="9610" y="0"/>
                  </a:lnTo>
                  <a:lnTo>
                    <a:pt x="8866" y="0"/>
                  </a:lnTo>
                  <a:lnTo>
                    <a:pt x="8063" y="119"/>
                  </a:lnTo>
                  <a:lnTo>
                    <a:pt x="7319" y="209"/>
                  </a:lnTo>
                  <a:lnTo>
                    <a:pt x="6575" y="388"/>
                  </a:lnTo>
                  <a:lnTo>
                    <a:pt x="5861" y="656"/>
                  </a:lnTo>
                  <a:lnTo>
                    <a:pt x="5207" y="925"/>
                  </a:lnTo>
                  <a:lnTo>
                    <a:pt x="4582" y="1313"/>
                  </a:lnTo>
                  <a:lnTo>
                    <a:pt x="3838" y="1760"/>
                  </a:lnTo>
                  <a:lnTo>
                    <a:pt x="3302" y="2208"/>
                  </a:lnTo>
                  <a:lnTo>
                    <a:pt x="2737" y="2685"/>
                  </a:lnTo>
                  <a:lnTo>
                    <a:pt x="2202" y="3133"/>
                  </a:lnTo>
                  <a:lnTo>
                    <a:pt x="1636" y="3699"/>
                  </a:lnTo>
                  <a:lnTo>
                    <a:pt x="1190" y="4236"/>
                  </a:lnTo>
                  <a:lnTo>
                    <a:pt x="833" y="4893"/>
                  </a:lnTo>
                  <a:lnTo>
                    <a:pt x="446" y="5519"/>
                  </a:lnTo>
                  <a:lnTo>
                    <a:pt x="179" y="6176"/>
                  </a:lnTo>
                  <a:lnTo>
                    <a:pt x="89" y="6355"/>
                  </a:lnTo>
                  <a:lnTo>
                    <a:pt x="89" y="6534"/>
                  </a:lnTo>
                  <a:lnTo>
                    <a:pt x="0" y="6713"/>
                  </a:lnTo>
                  <a:lnTo>
                    <a:pt x="0" y="6892"/>
                  </a:lnTo>
                  <a:lnTo>
                    <a:pt x="0" y="7071"/>
                  </a:lnTo>
                  <a:lnTo>
                    <a:pt x="89" y="7280"/>
                  </a:lnTo>
                  <a:lnTo>
                    <a:pt x="89" y="7459"/>
                  </a:lnTo>
                  <a:lnTo>
                    <a:pt x="179" y="7638"/>
                  </a:lnTo>
                  <a:lnTo>
                    <a:pt x="268" y="7727"/>
                  </a:lnTo>
                  <a:lnTo>
                    <a:pt x="357" y="7727"/>
                  </a:lnTo>
                  <a:lnTo>
                    <a:pt x="446" y="7727"/>
                  </a:lnTo>
                  <a:lnTo>
                    <a:pt x="536" y="7727"/>
                  </a:lnTo>
                  <a:lnTo>
                    <a:pt x="536" y="7638"/>
                  </a:lnTo>
                  <a:lnTo>
                    <a:pt x="536" y="7548"/>
                  </a:lnTo>
                  <a:close/>
                  <a:moveTo>
                    <a:pt x="536" y="754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1" name="Freeform 108"/>
            <p:cNvSpPr/>
            <p:nvPr/>
          </p:nvSpPr>
          <p:spPr>
            <a:xfrm>
              <a:off x="5373720" y="3713040"/>
              <a:ext cx="586080" cy="47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390" y="3323"/>
                  </a:moveTo>
                  <a:lnTo>
                    <a:pt x="15863" y="2456"/>
                  </a:lnTo>
                  <a:lnTo>
                    <a:pt x="15161" y="1589"/>
                  </a:lnTo>
                  <a:lnTo>
                    <a:pt x="14224" y="1084"/>
                  </a:lnTo>
                  <a:lnTo>
                    <a:pt x="13522" y="650"/>
                  </a:lnTo>
                  <a:lnTo>
                    <a:pt x="12644" y="217"/>
                  </a:lnTo>
                  <a:lnTo>
                    <a:pt x="11707" y="0"/>
                  </a:lnTo>
                  <a:lnTo>
                    <a:pt x="10829" y="0"/>
                  </a:lnTo>
                  <a:lnTo>
                    <a:pt x="9717" y="0"/>
                  </a:lnTo>
                  <a:lnTo>
                    <a:pt x="7961" y="217"/>
                  </a:lnTo>
                  <a:lnTo>
                    <a:pt x="5971" y="867"/>
                  </a:lnTo>
                  <a:lnTo>
                    <a:pt x="4156" y="1806"/>
                  </a:lnTo>
                  <a:lnTo>
                    <a:pt x="2517" y="2890"/>
                  </a:lnTo>
                  <a:lnTo>
                    <a:pt x="1815" y="3757"/>
                  </a:lnTo>
                  <a:lnTo>
                    <a:pt x="1112" y="4912"/>
                  </a:lnTo>
                  <a:lnTo>
                    <a:pt x="527" y="5779"/>
                  </a:lnTo>
                  <a:lnTo>
                    <a:pt x="351" y="7152"/>
                  </a:lnTo>
                  <a:lnTo>
                    <a:pt x="176" y="8235"/>
                  </a:lnTo>
                  <a:lnTo>
                    <a:pt x="0" y="9536"/>
                  </a:lnTo>
                  <a:lnTo>
                    <a:pt x="176" y="10908"/>
                  </a:lnTo>
                  <a:lnTo>
                    <a:pt x="176" y="11992"/>
                  </a:lnTo>
                  <a:lnTo>
                    <a:pt x="527" y="13365"/>
                  </a:lnTo>
                  <a:lnTo>
                    <a:pt x="937" y="14231"/>
                  </a:lnTo>
                  <a:lnTo>
                    <a:pt x="1288" y="15315"/>
                  </a:lnTo>
                  <a:lnTo>
                    <a:pt x="1815" y="16254"/>
                  </a:lnTo>
                  <a:lnTo>
                    <a:pt x="2341" y="17121"/>
                  </a:lnTo>
                  <a:lnTo>
                    <a:pt x="2868" y="17771"/>
                  </a:lnTo>
                  <a:lnTo>
                    <a:pt x="3629" y="18710"/>
                  </a:lnTo>
                  <a:lnTo>
                    <a:pt x="4507" y="19361"/>
                  </a:lnTo>
                  <a:lnTo>
                    <a:pt x="5971" y="20011"/>
                  </a:lnTo>
                  <a:lnTo>
                    <a:pt x="7376" y="20878"/>
                  </a:lnTo>
                  <a:lnTo>
                    <a:pt x="8839" y="21311"/>
                  </a:lnTo>
                  <a:lnTo>
                    <a:pt x="10478" y="21600"/>
                  </a:lnTo>
                  <a:lnTo>
                    <a:pt x="11883" y="21600"/>
                  </a:lnTo>
                  <a:lnTo>
                    <a:pt x="13522" y="21311"/>
                  </a:lnTo>
                  <a:lnTo>
                    <a:pt x="14985" y="20661"/>
                  </a:lnTo>
                  <a:lnTo>
                    <a:pt x="16390" y="20011"/>
                  </a:lnTo>
                  <a:lnTo>
                    <a:pt x="17327" y="19144"/>
                  </a:lnTo>
                  <a:lnTo>
                    <a:pt x="18205" y="18205"/>
                  </a:lnTo>
                  <a:lnTo>
                    <a:pt x="19083" y="17338"/>
                  </a:lnTo>
                  <a:lnTo>
                    <a:pt x="19844" y="16254"/>
                  </a:lnTo>
                  <a:lnTo>
                    <a:pt x="20371" y="15098"/>
                  </a:lnTo>
                  <a:lnTo>
                    <a:pt x="20898" y="14015"/>
                  </a:lnTo>
                  <a:lnTo>
                    <a:pt x="21249" y="12642"/>
                  </a:lnTo>
                  <a:lnTo>
                    <a:pt x="21424" y="11125"/>
                  </a:lnTo>
                  <a:lnTo>
                    <a:pt x="21600" y="10041"/>
                  </a:lnTo>
                  <a:lnTo>
                    <a:pt x="21424" y="8886"/>
                  </a:lnTo>
                  <a:lnTo>
                    <a:pt x="21249" y="8019"/>
                  </a:lnTo>
                  <a:lnTo>
                    <a:pt x="21073" y="6863"/>
                  </a:lnTo>
                  <a:lnTo>
                    <a:pt x="20722" y="5996"/>
                  </a:lnTo>
                  <a:lnTo>
                    <a:pt x="20195" y="5129"/>
                  </a:lnTo>
                  <a:lnTo>
                    <a:pt x="19668" y="4262"/>
                  </a:lnTo>
                  <a:lnTo>
                    <a:pt x="18907" y="3540"/>
                  </a:lnTo>
                  <a:lnTo>
                    <a:pt x="18732" y="3540"/>
                  </a:lnTo>
                  <a:lnTo>
                    <a:pt x="18556" y="3323"/>
                  </a:lnTo>
                  <a:lnTo>
                    <a:pt x="18380" y="3323"/>
                  </a:lnTo>
                  <a:lnTo>
                    <a:pt x="18205" y="3323"/>
                  </a:lnTo>
                  <a:lnTo>
                    <a:pt x="18029" y="3323"/>
                  </a:lnTo>
                  <a:lnTo>
                    <a:pt x="17854" y="3540"/>
                  </a:lnTo>
                  <a:lnTo>
                    <a:pt x="17678" y="3540"/>
                  </a:lnTo>
                  <a:lnTo>
                    <a:pt x="17678" y="3757"/>
                  </a:lnTo>
                  <a:lnTo>
                    <a:pt x="17502" y="3973"/>
                  </a:lnTo>
                  <a:lnTo>
                    <a:pt x="17502" y="4262"/>
                  </a:lnTo>
                  <a:lnTo>
                    <a:pt x="17502" y="4479"/>
                  </a:lnTo>
                  <a:lnTo>
                    <a:pt x="17502" y="4696"/>
                  </a:lnTo>
                  <a:lnTo>
                    <a:pt x="17678" y="4912"/>
                  </a:lnTo>
                  <a:lnTo>
                    <a:pt x="17678" y="5129"/>
                  </a:lnTo>
                  <a:lnTo>
                    <a:pt x="18205" y="5563"/>
                  </a:lnTo>
                  <a:lnTo>
                    <a:pt x="18556" y="6213"/>
                  </a:lnTo>
                  <a:lnTo>
                    <a:pt x="18907" y="6863"/>
                  </a:lnTo>
                  <a:lnTo>
                    <a:pt x="19083" y="7585"/>
                  </a:lnTo>
                  <a:lnTo>
                    <a:pt x="19493" y="8452"/>
                  </a:lnTo>
                  <a:lnTo>
                    <a:pt x="19493" y="9102"/>
                  </a:lnTo>
                  <a:lnTo>
                    <a:pt x="19668" y="10041"/>
                  </a:lnTo>
                  <a:lnTo>
                    <a:pt x="19493" y="10908"/>
                  </a:lnTo>
                  <a:lnTo>
                    <a:pt x="19259" y="12209"/>
                  </a:lnTo>
                  <a:lnTo>
                    <a:pt x="18907" y="13581"/>
                  </a:lnTo>
                  <a:lnTo>
                    <a:pt x="18380" y="14882"/>
                  </a:lnTo>
                  <a:lnTo>
                    <a:pt x="17502" y="16037"/>
                  </a:lnTo>
                  <a:lnTo>
                    <a:pt x="16741" y="16904"/>
                  </a:lnTo>
                  <a:lnTo>
                    <a:pt x="15688" y="17771"/>
                  </a:lnTo>
                  <a:lnTo>
                    <a:pt x="14576" y="18421"/>
                  </a:lnTo>
                  <a:lnTo>
                    <a:pt x="13522" y="18927"/>
                  </a:lnTo>
                  <a:lnTo>
                    <a:pt x="11707" y="19144"/>
                  </a:lnTo>
                  <a:lnTo>
                    <a:pt x="9717" y="19144"/>
                  </a:lnTo>
                  <a:lnTo>
                    <a:pt x="7727" y="18710"/>
                  </a:lnTo>
                  <a:lnTo>
                    <a:pt x="5971" y="17771"/>
                  </a:lnTo>
                  <a:lnTo>
                    <a:pt x="5210" y="17121"/>
                  </a:lnTo>
                  <a:lnTo>
                    <a:pt x="4507" y="16471"/>
                  </a:lnTo>
                  <a:lnTo>
                    <a:pt x="3805" y="15821"/>
                  </a:lnTo>
                  <a:lnTo>
                    <a:pt x="3278" y="14882"/>
                  </a:lnTo>
                  <a:lnTo>
                    <a:pt x="2693" y="14015"/>
                  </a:lnTo>
                  <a:lnTo>
                    <a:pt x="2341" y="12931"/>
                  </a:lnTo>
                  <a:lnTo>
                    <a:pt x="1990" y="11775"/>
                  </a:lnTo>
                  <a:lnTo>
                    <a:pt x="1990" y="10475"/>
                  </a:lnTo>
                  <a:lnTo>
                    <a:pt x="1815" y="9753"/>
                  </a:lnTo>
                  <a:lnTo>
                    <a:pt x="1815" y="8886"/>
                  </a:lnTo>
                  <a:lnTo>
                    <a:pt x="1990" y="8019"/>
                  </a:lnTo>
                  <a:lnTo>
                    <a:pt x="2166" y="7369"/>
                  </a:lnTo>
                  <a:lnTo>
                    <a:pt x="2341" y="6646"/>
                  </a:lnTo>
                  <a:lnTo>
                    <a:pt x="2693" y="5779"/>
                  </a:lnTo>
                  <a:lnTo>
                    <a:pt x="3044" y="5346"/>
                  </a:lnTo>
                  <a:lnTo>
                    <a:pt x="3629" y="4696"/>
                  </a:lnTo>
                  <a:lnTo>
                    <a:pt x="5034" y="3540"/>
                  </a:lnTo>
                  <a:lnTo>
                    <a:pt x="6498" y="2890"/>
                  </a:lnTo>
                  <a:lnTo>
                    <a:pt x="8137" y="2239"/>
                  </a:lnTo>
                  <a:lnTo>
                    <a:pt x="9717" y="1806"/>
                  </a:lnTo>
                  <a:lnTo>
                    <a:pt x="11356" y="1806"/>
                  </a:lnTo>
                  <a:lnTo>
                    <a:pt x="12995" y="2023"/>
                  </a:lnTo>
                  <a:lnTo>
                    <a:pt x="14576" y="2890"/>
                  </a:lnTo>
                  <a:lnTo>
                    <a:pt x="15863" y="3973"/>
                  </a:lnTo>
                  <a:lnTo>
                    <a:pt x="16039" y="3973"/>
                  </a:lnTo>
                  <a:lnTo>
                    <a:pt x="16215" y="3973"/>
                  </a:lnTo>
                  <a:lnTo>
                    <a:pt x="16390" y="3973"/>
                  </a:lnTo>
                  <a:lnTo>
                    <a:pt x="16566" y="3757"/>
                  </a:lnTo>
                  <a:lnTo>
                    <a:pt x="16566" y="3540"/>
                  </a:lnTo>
                  <a:lnTo>
                    <a:pt x="16566" y="3323"/>
                  </a:lnTo>
                  <a:lnTo>
                    <a:pt x="16390" y="3323"/>
                  </a:lnTo>
                  <a:close/>
                  <a:moveTo>
                    <a:pt x="16390" y="332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2" name="Freeform 109"/>
            <p:cNvSpPr/>
            <p:nvPr/>
          </p:nvSpPr>
          <p:spPr>
            <a:xfrm>
              <a:off x="5946840" y="4021200"/>
              <a:ext cx="21600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6" y="7624"/>
                  </a:moveTo>
                  <a:lnTo>
                    <a:pt x="2541" y="11435"/>
                  </a:lnTo>
                  <a:lnTo>
                    <a:pt x="4924" y="15882"/>
                  </a:lnTo>
                  <a:lnTo>
                    <a:pt x="7306" y="17788"/>
                  </a:lnTo>
                  <a:lnTo>
                    <a:pt x="9847" y="19694"/>
                  </a:lnTo>
                  <a:lnTo>
                    <a:pt x="12229" y="19694"/>
                  </a:lnTo>
                  <a:lnTo>
                    <a:pt x="14771" y="19694"/>
                  </a:lnTo>
                  <a:lnTo>
                    <a:pt x="17153" y="21600"/>
                  </a:lnTo>
                  <a:lnTo>
                    <a:pt x="19059" y="21600"/>
                  </a:lnTo>
                  <a:lnTo>
                    <a:pt x="19535" y="21600"/>
                  </a:lnTo>
                  <a:lnTo>
                    <a:pt x="20012" y="21600"/>
                  </a:lnTo>
                  <a:lnTo>
                    <a:pt x="20647" y="19694"/>
                  </a:lnTo>
                  <a:lnTo>
                    <a:pt x="21124" y="17788"/>
                  </a:lnTo>
                  <a:lnTo>
                    <a:pt x="21600" y="15882"/>
                  </a:lnTo>
                  <a:lnTo>
                    <a:pt x="21600" y="13341"/>
                  </a:lnTo>
                  <a:lnTo>
                    <a:pt x="21600" y="11435"/>
                  </a:lnTo>
                  <a:lnTo>
                    <a:pt x="21124" y="11435"/>
                  </a:lnTo>
                  <a:lnTo>
                    <a:pt x="21124" y="9529"/>
                  </a:lnTo>
                  <a:lnTo>
                    <a:pt x="21124" y="7624"/>
                  </a:lnTo>
                  <a:lnTo>
                    <a:pt x="20647" y="7624"/>
                  </a:lnTo>
                  <a:lnTo>
                    <a:pt x="20012" y="5718"/>
                  </a:lnTo>
                  <a:lnTo>
                    <a:pt x="19535" y="5718"/>
                  </a:lnTo>
                  <a:lnTo>
                    <a:pt x="17153" y="5718"/>
                  </a:lnTo>
                  <a:lnTo>
                    <a:pt x="15247" y="5718"/>
                  </a:lnTo>
                  <a:lnTo>
                    <a:pt x="12706" y="5718"/>
                  </a:lnTo>
                  <a:lnTo>
                    <a:pt x="10324" y="3812"/>
                  </a:lnTo>
                  <a:lnTo>
                    <a:pt x="8418" y="3812"/>
                  </a:lnTo>
                  <a:lnTo>
                    <a:pt x="5876" y="3812"/>
                  </a:lnTo>
                  <a:lnTo>
                    <a:pt x="3971" y="1906"/>
                  </a:lnTo>
                  <a:lnTo>
                    <a:pt x="1429" y="0"/>
                  </a:lnTo>
                  <a:lnTo>
                    <a:pt x="953" y="0"/>
                  </a:lnTo>
                  <a:lnTo>
                    <a:pt x="476" y="0"/>
                  </a:lnTo>
                  <a:lnTo>
                    <a:pt x="0" y="1906"/>
                  </a:lnTo>
                  <a:lnTo>
                    <a:pt x="0" y="3812"/>
                  </a:lnTo>
                  <a:lnTo>
                    <a:pt x="0" y="5718"/>
                  </a:lnTo>
                  <a:lnTo>
                    <a:pt x="476" y="5718"/>
                  </a:lnTo>
                  <a:lnTo>
                    <a:pt x="476" y="7624"/>
                  </a:lnTo>
                  <a:close/>
                  <a:moveTo>
                    <a:pt x="476" y="762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3" name="Freeform 110"/>
            <p:cNvSpPr/>
            <p:nvPr/>
          </p:nvSpPr>
          <p:spPr>
            <a:xfrm>
              <a:off x="5766120" y="3800520"/>
              <a:ext cx="850680" cy="596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568"/>
                  </a:moveTo>
                  <a:lnTo>
                    <a:pt x="282" y="16315"/>
                  </a:lnTo>
                  <a:lnTo>
                    <a:pt x="645" y="16832"/>
                  </a:lnTo>
                  <a:lnTo>
                    <a:pt x="887" y="17349"/>
                  </a:lnTo>
                  <a:lnTo>
                    <a:pt x="1249" y="17866"/>
                  </a:lnTo>
                  <a:lnTo>
                    <a:pt x="1733" y="18383"/>
                  </a:lnTo>
                  <a:lnTo>
                    <a:pt x="2136" y="18785"/>
                  </a:lnTo>
                  <a:lnTo>
                    <a:pt x="2619" y="19130"/>
                  </a:lnTo>
                  <a:lnTo>
                    <a:pt x="2982" y="19474"/>
                  </a:lnTo>
                  <a:lnTo>
                    <a:pt x="3990" y="20164"/>
                  </a:lnTo>
                  <a:lnTo>
                    <a:pt x="4957" y="20681"/>
                  </a:lnTo>
                  <a:lnTo>
                    <a:pt x="5964" y="21083"/>
                  </a:lnTo>
                  <a:lnTo>
                    <a:pt x="7093" y="21428"/>
                  </a:lnTo>
                  <a:lnTo>
                    <a:pt x="8060" y="21600"/>
                  </a:lnTo>
                  <a:lnTo>
                    <a:pt x="9188" y="21600"/>
                  </a:lnTo>
                  <a:lnTo>
                    <a:pt x="10316" y="21600"/>
                  </a:lnTo>
                  <a:lnTo>
                    <a:pt x="11284" y="21428"/>
                  </a:lnTo>
                  <a:lnTo>
                    <a:pt x="12291" y="21255"/>
                  </a:lnTo>
                  <a:lnTo>
                    <a:pt x="13419" y="20681"/>
                  </a:lnTo>
                  <a:lnTo>
                    <a:pt x="14387" y="20336"/>
                  </a:lnTo>
                  <a:lnTo>
                    <a:pt x="15394" y="19647"/>
                  </a:lnTo>
                  <a:lnTo>
                    <a:pt x="16281" y="18957"/>
                  </a:lnTo>
                  <a:lnTo>
                    <a:pt x="17127" y="18038"/>
                  </a:lnTo>
                  <a:lnTo>
                    <a:pt x="18013" y="17177"/>
                  </a:lnTo>
                  <a:lnTo>
                    <a:pt x="18860" y="16085"/>
                  </a:lnTo>
                  <a:lnTo>
                    <a:pt x="19746" y="14706"/>
                  </a:lnTo>
                  <a:lnTo>
                    <a:pt x="20472" y="12926"/>
                  </a:lnTo>
                  <a:lnTo>
                    <a:pt x="21116" y="10972"/>
                  </a:lnTo>
                  <a:lnTo>
                    <a:pt x="21479" y="9019"/>
                  </a:lnTo>
                  <a:lnTo>
                    <a:pt x="21600" y="8157"/>
                  </a:lnTo>
                  <a:lnTo>
                    <a:pt x="21600" y="7123"/>
                  </a:lnTo>
                  <a:lnTo>
                    <a:pt x="21600" y="6204"/>
                  </a:lnTo>
                  <a:lnTo>
                    <a:pt x="21479" y="5170"/>
                  </a:lnTo>
                  <a:lnTo>
                    <a:pt x="21237" y="4251"/>
                  </a:lnTo>
                  <a:lnTo>
                    <a:pt x="20955" y="3389"/>
                  </a:lnTo>
                  <a:lnTo>
                    <a:pt x="20593" y="2528"/>
                  </a:lnTo>
                  <a:lnTo>
                    <a:pt x="20109" y="1609"/>
                  </a:lnTo>
                  <a:lnTo>
                    <a:pt x="19504" y="1091"/>
                  </a:lnTo>
                  <a:lnTo>
                    <a:pt x="18860" y="574"/>
                  </a:lnTo>
                  <a:lnTo>
                    <a:pt x="18255" y="230"/>
                  </a:lnTo>
                  <a:lnTo>
                    <a:pt x="17490" y="0"/>
                  </a:lnTo>
                  <a:lnTo>
                    <a:pt x="16764" y="0"/>
                  </a:lnTo>
                  <a:lnTo>
                    <a:pt x="15999" y="230"/>
                  </a:lnTo>
                  <a:lnTo>
                    <a:pt x="15273" y="402"/>
                  </a:lnTo>
                  <a:lnTo>
                    <a:pt x="14669" y="747"/>
                  </a:lnTo>
                  <a:lnTo>
                    <a:pt x="14507" y="747"/>
                  </a:lnTo>
                  <a:lnTo>
                    <a:pt x="14387" y="919"/>
                  </a:lnTo>
                  <a:lnTo>
                    <a:pt x="14266" y="1091"/>
                  </a:lnTo>
                  <a:lnTo>
                    <a:pt x="14266" y="1264"/>
                  </a:lnTo>
                  <a:lnTo>
                    <a:pt x="14145" y="1436"/>
                  </a:lnTo>
                  <a:lnTo>
                    <a:pt x="14145" y="1609"/>
                  </a:lnTo>
                  <a:lnTo>
                    <a:pt x="14145" y="1781"/>
                  </a:lnTo>
                  <a:lnTo>
                    <a:pt x="14145" y="1953"/>
                  </a:lnTo>
                  <a:lnTo>
                    <a:pt x="14266" y="2126"/>
                  </a:lnTo>
                  <a:lnTo>
                    <a:pt x="14266" y="2298"/>
                  </a:lnTo>
                  <a:lnTo>
                    <a:pt x="14387" y="2298"/>
                  </a:lnTo>
                  <a:lnTo>
                    <a:pt x="14507" y="2528"/>
                  </a:lnTo>
                  <a:lnTo>
                    <a:pt x="14669" y="2528"/>
                  </a:lnTo>
                  <a:lnTo>
                    <a:pt x="14790" y="2528"/>
                  </a:lnTo>
                  <a:lnTo>
                    <a:pt x="14910" y="2528"/>
                  </a:lnTo>
                  <a:lnTo>
                    <a:pt x="15031" y="2528"/>
                  </a:lnTo>
                  <a:lnTo>
                    <a:pt x="15515" y="2298"/>
                  </a:lnTo>
                  <a:lnTo>
                    <a:pt x="15999" y="2126"/>
                  </a:lnTo>
                  <a:lnTo>
                    <a:pt x="16401" y="1953"/>
                  </a:lnTo>
                  <a:lnTo>
                    <a:pt x="16885" y="1953"/>
                  </a:lnTo>
                  <a:lnTo>
                    <a:pt x="17369" y="1953"/>
                  </a:lnTo>
                  <a:lnTo>
                    <a:pt x="17893" y="2126"/>
                  </a:lnTo>
                  <a:lnTo>
                    <a:pt x="18255" y="2298"/>
                  </a:lnTo>
                  <a:lnTo>
                    <a:pt x="18618" y="2700"/>
                  </a:lnTo>
                  <a:lnTo>
                    <a:pt x="19101" y="3217"/>
                  </a:lnTo>
                  <a:lnTo>
                    <a:pt x="19504" y="3734"/>
                  </a:lnTo>
                  <a:lnTo>
                    <a:pt x="19867" y="4251"/>
                  </a:lnTo>
                  <a:lnTo>
                    <a:pt x="19988" y="4998"/>
                  </a:lnTo>
                  <a:lnTo>
                    <a:pt x="20230" y="6377"/>
                  </a:lnTo>
                  <a:lnTo>
                    <a:pt x="20230" y="7813"/>
                  </a:lnTo>
                  <a:lnTo>
                    <a:pt x="19988" y="9421"/>
                  </a:lnTo>
                  <a:lnTo>
                    <a:pt x="19625" y="10800"/>
                  </a:lnTo>
                  <a:lnTo>
                    <a:pt x="19101" y="12236"/>
                  </a:lnTo>
                  <a:lnTo>
                    <a:pt x="18618" y="13443"/>
                  </a:lnTo>
                  <a:lnTo>
                    <a:pt x="17731" y="14879"/>
                  </a:lnTo>
                  <a:lnTo>
                    <a:pt x="16764" y="16085"/>
                  </a:lnTo>
                  <a:lnTo>
                    <a:pt x="15757" y="17177"/>
                  </a:lnTo>
                  <a:lnTo>
                    <a:pt x="14669" y="18038"/>
                  </a:lnTo>
                  <a:lnTo>
                    <a:pt x="13540" y="18785"/>
                  </a:lnTo>
                  <a:lnTo>
                    <a:pt x="12291" y="19302"/>
                  </a:lnTo>
                  <a:lnTo>
                    <a:pt x="11042" y="19647"/>
                  </a:lnTo>
                  <a:lnTo>
                    <a:pt x="9833" y="19819"/>
                  </a:lnTo>
                  <a:lnTo>
                    <a:pt x="8584" y="19819"/>
                  </a:lnTo>
                  <a:lnTo>
                    <a:pt x="7213" y="19647"/>
                  </a:lnTo>
                  <a:lnTo>
                    <a:pt x="5964" y="19302"/>
                  </a:lnTo>
                  <a:lnTo>
                    <a:pt x="4715" y="18785"/>
                  </a:lnTo>
                  <a:lnTo>
                    <a:pt x="3627" y="18038"/>
                  </a:lnTo>
                  <a:lnTo>
                    <a:pt x="2499" y="17349"/>
                  </a:lnTo>
                  <a:lnTo>
                    <a:pt x="1370" y="16315"/>
                  </a:lnTo>
                  <a:lnTo>
                    <a:pt x="403" y="15223"/>
                  </a:lnTo>
                  <a:lnTo>
                    <a:pt x="403" y="15051"/>
                  </a:lnTo>
                  <a:lnTo>
                    <a:pt x="282" y="15051"/>
                  </a:lnTo>
                  <a:lnTo>
                    <a:pt x="121" y="15051"/>
                  </a:lnTo>
                  <a:lnTo>
                    <a:pt x="0" y="15051"/>
                  </a:lnTo>
                  <a:lnTo>
                    <a:pt x="0" y="15223"/>
                  </a:lnTo>
                  <a:lnTo>
                    <a:pt x="0" y="15396"/>
                  </a:lnTo>
                  <a:lnTo>
                    <a:pt x="0" y="15568"/>
                  </a:lnTo>
                  <a:close/>
                  <a:moveTo>
                    <a:pt x="0" y="1556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4" name="Freeform 111"/>
            <p:cNvSpPr/>
            <p:nvPr/>
          </p:nvSpPr>
          <p:spPr>
            <a:xfrm>
              <a:off x="7863120" y="3031920"/>
              <a:ext cx="28260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30" y="19883"/>
                  </a:moveTo>
                  <a:lnTo>
                    <a:pt x="7038" y="19025"/>
                  </a:lnTo>
                  <a:lnTo>
                    <a:pt x="5946" y="18167"/>
                  </a:lnTo>
                  <a:lnTo>
                    <a:pt x="4854" y="16736"/>
                  </a:lnTo>
                  <a:lnTo>
                    <a:pt x="4126" y="15449"/>
                  </a:lnTo>
                  <a:lnTo>
                    <a:pt x="3276" y="14162"/>
                  </a:lnTo>
                  <a:lnTo>
                    <a:pt x="3276" y="12445"/>
                  </a:lnTo>
                  <a:lnTo>
                    <a:pt x="3276" y="10585"/>
                  </a:lnTo>
                  <a:lnTo>
                    <a:pt x="3640" y="8869"/>
                  </a:lnTo>
                  <a:lnTo>
                    <a:pt x="5218" y="8011"/>
                  </a:lnTo>
                  <a:lnTo>
                    <a:pt x="6674" y="6723"/>
                  </a:lnTo>
                  <a:lnTo>
                    <a:pt x="8494" y="5722"/>
                  </a:lnTo>
                  <a:lnTo>
                    <a:pt x="10436" y="4864"/>
                  </a:lnTo>
                  <a:lnTo>
                    <a:pt x="12256" y="4864"/>
                  </a:lnTo>
                  <a:lnTo>
                    <a:pt x="14198" y="4864"/>
                  </a:lnTo>
                  <a:lnTo>
                    <a:pt x="15654" y="5722"/>
                  </a:lnTo>
                  <a:lnTo>
                    <a:pt x="17110" y="7152"/>
                  </a:lnTo>
                  <a:lnTo>
                    <a:pt x="17838" y="9298"/>
                  </a:lnTo>
                  <a:lnTo>
                    <a:pt x="17474" y="11015"/>
                  </a:lnTo>
                  <a:lnTo>
                    <a:pt x="17110" y="12445"/>
                  </a:lnTo>
                  <a:lnTo>
                    <a:pt x="16382" y="13732"/>
                  </a:lnTo>
                  <a:lnTo>
                    <a:pt x="15654" y="15020"/>
                  </a:lnTo>
                  <a:lnTo>
                    <a:pt x="14562" y="16307"/>
                  </a:lnTo>
                  <a:lnTo>
                    <a:pt x="12984" y="17166"/>
                  </a:lnTo>
                  <a:lnTo>
                    <a:pt x="11528" y="17595"/>
                  </a:lnTo>
                  <a:lnTo>
                    <a:pt x="11164" y="18167"/>
                  </a:lnTo>
                  <a:lnTo>
                    <a:pt x="11164" y="18596"/>
                  </a:lnTo>
                  <a:lnTo>
                    <a:pt x="10800" y="18596"/>
                  </a:lnTo>
                  <a:lnTo>
                    <a:pt x="10800" y="19025"/>
                  </a:lnTo>
                  <a:lnTo>
                    <a:pt x="10436" y="19454"/>
                  </a:lnTo>
                  <a:lnTo>
                    <a:pt x="10436" y="19883"/>
                  </a:lnTo>
                  <a:lnTo>
                    <a:pt x="10800" y="20313"/>
                  </a:lnTo>
                  <a:lnTo>
                    <a:pt x="10800" y="20742"/>
                  </a:lnTo>
                  <a:lnTo>
                    <a:pt x="11164" y="21171"/>
                  </a:lnTo>
                  <a:lnTo>
                    <a:pt x="11528" y="21171"/>
                  </a:lnTo>
                  <a:lnTo>
                    <a:pt x="11528" y="21600"/>
                  </a:lnTo>
                  <a:lnTo>
                    <a:pt x="11892" y="21600"/>
                  </a:lnTo>
                  <a:lnTo>
                    <a:pt x="12256" y="21600"/>
                  </a:lnTo>
                  <a:lnTo>
                    <a:pt x="12620" y="21600"/>
                  </a:lnTo>
                  <a:lnTo>
                    <a:pt x="12984" y="21600"/>
                  </a:lnTo>
                  <a:lnTo>
                    <a:pt x="15290" y="20742"/>
                  </a:lnTo>
                  <a:lnTo>
                    <a:pt x="17474" y="19454"/>
                  </a:lnTo>
                  <a:lnTo>
                    <a:pt x="19416" y="17166"/>
                  </a:lnTo>
                  <a:lnTo>
                    <a:pt x="20508" y="15020"/>
                  </a:lnTo>
                  <a:lnTo>
                    <a:pt x="21236" y="12445"/>
                  </a:lnTo>
                  <a:lnTo>
                    <a:pt x="21600" y="9727"/>
                  </a:lnTo>
                  <a:lnTo>
                    <a:pt x="21236" y="7152"/>
                  </a:lnTo>
                  <a:lnTo>
                    <a:pt x="19780" y="4005"/>
                  </a:lnTo>
                  <a:lnTo>
                    <a:pt x="19052" y="3147"/>
                  </a:lnTo>
                  <a:lnTo>
                    <a:pt x="17838" y="2289"/>
                  </a:lnTo>
                  <a:lnTo>
                    <a:pt x="16746" y="1430"/>
                  </a:lnTo>
                  <a:lnTo>
                    <a:pt x="15654" y="1001"/>
                  </a:lnTo>
                  <a:lnTo>
                    <a:pt x="12984" y="0"/>
                  </a:lnTo>
                  <a:lnTo>
                    <a:pt x="10436" y="429"/>
                  </a:lnTo>
                  <a:lnTo>
                    <a:pt x="8130" y="1001"/>
                  </a:lnTo>
                  <a:lnTo>
                    <a:pt x="5582" y="2289"/>
                  </a:lnTo>
                  <a:lnTo>
                    <a:pt x="3276" y="4005"/>
                  </a:lnTo>
                  <a:lnTo>
                    <a:pt x="1456" y="6151"/>
                  </a:lnTo>
                  <a:lnTo>
                    <a:pt x="728" y="7152"/>
                  </a:lnTo>
                  <a:lnTo>
                    <a:pt x="364" y="8011"/>
                  </a:lnTo>
                  <a:lnTo>
                    <a:pt x="0" y="9298"/>
                  </a:lnTo>
                  <a:lnTo>
                    <a:pt x="0" y="10585"/>
                  </a:lnTo>
                  <a:lnTo>
                    <a:pt x="0" y="11444"/>
                  </a:lnTo>
                  <a:lnTo>
                    <a:pt x="0" y="12874"/>
                  </a:lnTo>
                  <a:lnTo>
                    <a:pt x="364" y="14162"/>
                  </a:lnTo>
                  <a:lnTo>
                    <a:pt x="728" y="15449"/>
                  </a:lnTo>
                  <a:lnTo>
                    <a:pt x="1092" y="16307"/>
                  </a:lnTo>
                  <a:lnTo>
                    <a:pt x="1820" y="17595"/>
                  </a:lnTo>
                  <a:lnTo>
                    <a:pt x="2548" y="18596"/>
                  </a:lnTo>
                  <a:lnTo>
                    <a:pt x="3640" y="19454"/>
                  </a:lnTo>
                  <a:lnTo>
                    <a:pt x="4490" y="20313"/>
                  </a:lnTo>
                  <a:lnTo>
                    <a:pt x="5582" y="20742"/>
                  </a:lnTo>
                  <a:lnTo>
                    <a:pt x="6674" y="21171"/>
                  </a:lnTo>
                  <a:lnTo>
                    <a:pt x="7766" y="21600"/>
                  </a:lnTo>
                  <a:lnTo>
                    <a:pt x="8130" y="21600"/>
                  </a:lnTo>
                  <a:lnTo>
                    <a:pt x="8494" y="21600"/>
                  </a:lnTo>
                  <a:lnTo>
                    <a:pt x="8494" y="21171"/>
                  </a:lnTo>
                  <a:lnTo>
                    <a:pt x="8980" y="20742"/>
                  </a:lnTo>
                  <a:lnTo>
                    <a:pt x="8980" y="20313"/>
                  </a:lnTo>
                  <a:lnTo>
                    <a:pt x="8494" y="20313"/>
                  </a:lnTo>
                  <a:lnTo>
                    <a:pt x="8494" y="19883"/>
                  </a:lnTo>
                  <a:lnTo>
                    <a:pt x="8130" y="19883"/>
                  </a:lnTo>
                  <a:close/>
                  <a:moveTo>
                    <a:pt x="8130" y="1988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5" name="Freeform 112"/>
            <p:cNvSpPr/>
            <p:nvPr/>
          </p:nvSpPr>
          <p:spPr>
            <a:xfrm>
              <a:off x="8107560" y="2946240"/>
              <a:ext cx="141120" cy="11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84" y="21600"/>
                  </a:moveTo>
                  <a:lnTo>
                    <a:pt x="5097" y="20724"/>
                  </a:lnTo>
                  <a:lnTo>
                    <a:pt x="7281" y="19849"/>
                  </a:lnTo>
                  <a:lnTo>
                    <a:pt x="10436" y="18097"/>
                  </a:lnTo>
                  <a:lnTo>
                    <a:pt x="12620" y="16054"/>
                  </a:lnTo>
                  <a:lnTo>
                    <a:pt x="14804" y="13427"/>
                  </a:lnTo>
                  <a:lnTo>
                    <a:pt x="16989" y="10800"/>
                  </a:lnTo>
                  <a:lnTo>
                    <a:pt x="19416" y="8173"/>
                  </a:lnTo>
                  <a:lnTo>
                    <a:pt x="20872" y="5254"/>
                  </a:lnTo>
                  <a:lnTo>
                    <a:pt x="21600" y="4378"/>
                  </a:lnTo>
                  <a:lnTo>
                    <a:pt x="21600" y="3503"/>
                  </a:lnTo>
                  <a:lnTo>
                    <a:pt x="21600" y="2627"/>
                  </a:lnTo>
                  <a:lnTo>
                    <a:pt x="21600" y="1751"/>
                  </a:lnTo>
                  <a:lnTo>
                    <a:pt x="20872" y="1751"/>
                  </a:lnTo>
                  <a:lnTo>
                    <a:pt x="20872" y="876"/>
                  </a:lnTo>
                  <a:lnTo>
                    <a:pt x="20144" y="876"/>
                  </a:lnTo>
                  <a:lnTo>
                    <a:pt x="19416" y="0"/>
                  </a:lnTo>
                  <a:lnTo>
                    <a:pt x="18688" y="876"/>
                  </a:lnTo>
                  <a:lnTo>
                    <a:pt x="17717" y="876"/>
                  </a:lnTo>
                  <a:lnTo>
                    <a:pt x="16989" y="1751"/>
                  </a:lnTo>
                  <a:lnTo>
                    <a:pt x="15533" y="3503"/>
                  </a:lnTo>
                  <a:lnTo>
                    <a:pt x="13348" y="6422"/>
                  </a:lnTo>
                  <a:lnTo>
                    <a:pt x="11892" y="8173"/>
                  </a:lnTo>
                  <a:lnTo>
                    <a:pt x="9708" y="9924"/>
                  </a:lnTo>
                  <a:lnTo>
                    <a:pt x="8009" y="12551"/>
                  </a:lnTo>
                  <a:lnTo>
                    <a:pt x="5825" y="14303"/>
                  </a:lnTo>
                  <a:lnTo>
                    <a:pt x="3640" y="16054"/>
                  </a:lnTo>
                  <a:lnTo>
                    <a:pt x="1456" y="18097"/>
                  </a:lnTo>
                  <a:lnTo>
                    <a:pt x="728" y="18097"/>
                  </a:lnTo>
                  <a:lnTo>
                    <a:pt x="0" y="18097"/>
                  </a:lnTo>
                  <a:lnTo>
                    <a:pt x="0" y="18973"/>
                  </a:lnTo>
                  <a:lnTo>
                    <a:pt x="0" y="19849"/>
                  </a:lnTo>
                  <a:lnTo>
                    <a:pt x="0" y="20724"/>
                  </a:lnTo>
                  <a:lnTo>
                    <a:pt x="728" y="20724"/>
                  </a:lnTo>
                  <a:lnTo>
                    <a:pt x="728" y="21600"/>
                  </a:lnTo>
                  <a:lnTo>
                    <a:pt x="1456" y="21600"/>
                  </a:lnTo>
                  <a:lnTo>
                    <a:pt x="2184" y="21600"/>
                  </a:lnTo>
                  <a:close/>
                  <a:moveTo>
                    <a:pt x="2184" y="216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6" name="Freeform 113"/>
            <p:cNvSpPr/>
            <p:nvPr/>
          </p:nvSpPr>
          <p:spPr>
            <a:xfrm>
              <a:off x="8031240" y="2716200"/>
              <a:ext cx="470160" cy="31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9" y="20942"/>
                  </a:moveTo>
                  <a:lnTo>
                    <a:pt x="1386" y="18311"/>
                  </a:lnTo>
                  <a:lnTo>
                    <a:pt x="2043" y="15570"/>
                  </a:lnTo>
                  <a:lnTo>
                    <a:pt x="2919" y="12828"/>
                  </a:lnTo>
                  <a:lnTo>
                    <a:pt x="4086" y="10855"/>
                  </a:lnTo>
                  <a:lnTo>
                    <a:pt x="5400" y="8772"/>
                  </a:lnTo>
                  <a:lnTo>
                    <a:pt x="7005" y="6798"/>
                  </a:lnTo>
                  <a:lnTo>
                    <a:pt x="8538" y="5482"/>
                  </a:lnTo>
                  <a:lnTo>
                    <a:pt x="10362" y="4386"/>
                  </a:lnTo>
                  <a:lnTo>
                    <a:pt x="11457" y="3728"/>
                  </a:lnTo>
                  <a:lnTo>
                    <a:pt x="12405" y="3399"/>
                  </a:lnTo>
                  <a:lnTo>
                    <a:pt x="13500" y="3399"/>
                  </a:lnTo>
                  <a:lnTo>
                    <a:pt x="14595" y="3399"/>
                  </a:lnTo>
                  <a:lnTo>
                    <a:pt x="15762" y="3070"/>
                  </a:lnTo>
                  <a:lnTo>
                    <a:pt x="16638" y="3399"/>
                  </a:lnTo>
                  <a:lnTo>
                    <a:pt x="17805" y="3399"/>
                  </a:lnTo>
                  <a:lnTo>
                    <a:pt x="18900" y="3070"/>
                  </a:lnTo>
                  <a:lnTo>
                    <a:pt x="19119" y="3070"/>
                  </a:lnTo>
                  <a:lnTo>
                    <a:pt x="19338" y="3070"/>
                  </a:lnTo>
                  <a:lnTo>
                    <a:pt x="19557" y="3070"/>
                  </a:lnTo>
                  <a:lnTo>
                    <a:pt x="19776" y="3070"/>
                  </a:lnTo>
                  <a:lnTo>
                    <a:pt x="19995" y="3070"/>
                  </a:lnTo>
                  <a:lnTo>
                    <a:pt x="20214" y="2741"/>
                  </a:lnTo>
                  <a:lnTo>
                    <a:pt x="20724" y="2741"/>
                  </a:lnTo>
                  <a:lnTo>
                    <a:pt x="20943" y="2412"/>
                  </a:lnTo>
                  <a:lnTo>
                    <a:pt x="21162" y="2412"/>
                  </a:lnTo>
                  <a:lnTo>
                    <a:pt x="21381" y="2083"/>
                  </a:lnTo>
                  <a:lnTo>
                    <a:pt x="21381" y="1754"/>
                  </a:lnTo>
                  <a:lnTo>
                    <a:pt x="21600" y="1425"/>
                  </a:lnTo>
                  <a:lnTo>
                    <a:pt x="21600" y="1096"/>
                  </a:lnTo>
                  <a:lnTo>
                    <a:pt x="21600" y="768"/>
                  </a:lnTo>
                  <a:lnTo>
                    <a:pt x="21381" y="329"/>
                  </a:lnTo>
                  <a:lnTo>
                    <a:pt x="21162" y="0"/>
                  </a:lnTo>
                  <a:lnTo>
                    <a:pt x="20943" y="0"/>
                  </a:lnTo>
                  <a:lnTo>
                    <a:pt x="20724" y="0"/>
                  </a:lnTo>
                  <a:lnTo>
                    <a:pt x="20432" y="0"/>
                  </a:lnTo>
                  <a:lnTo>
                    <a:pt x="19557" y="0"/>
                  </a:lnTo>
                  <a:lnTo>
                    <a:pt x="18462" y="0"/>
                  </a:lnTo>
                  <a:lnTo>
                    <a:pt x="17514" y="0"/>
                  </a:lnTo>
                  <a:lnTo>
                    <a:pt x="16419" y="0"/>
                  </a:lnTo>
                  <a:lnTo>
                    <a:pt x="15543" y="0"/>
                  </a:lnTo>
                  <a:lnTo>
                    <a:pt x="14376" y="0"/>
                  </a:lnTo>
                  <a:lnTo>
                    <a:pt x="13500" y="0"/>
                  </a:lnTo>
                  <a:lnTo>
                    <a:pt x="12405" y="329"/>
                  </a:lnTo>
                  <a:lnTo>
                    <a:pt x="10143" y="1096"/>
                  </a:lnTo>
                  <a:lnTo>
                    <a:pt x="7662" y="2741"/>
                  </a:lnTo>
                  <a:lnTo>
                    <a:pt x="5619" y="4715"/>
                  </a:lnTo>
                  <a:lnTo>
                    <a:pt x="3649" y="7127"/>
                  </a:lnTo>
                  <a:lnTo>
                    <a:pt x="2700" y="8443"/>
                  </a:lnTo>
                  <a:lnTo>
                    <a:pt x="2043" y="10197"/>
                  </a:lnTo>
                  <a:lnTo>
                    <a:pt x="1386" y="11842"/>
                  </a:lnTo>
                  <a:lnTo>
                    <a:pt x="949" y="13486"/>
                  </a:lnTo>
                  <a:lnTo>
                    <a:pt x="511" y="15241"/>
                  </a:lnTo>
                  <a:lnTo>
                    <a:pt x="219" y="16885"/>
                  </a:lnTo>
                  <a:lnTo>
                    <a:pt x="0" y="18969"/>
                  </a:lnTo>
                  <a:lnTo>
                    <a:pt x="0" y="20613"/>
                  </a:lnTo>
                  <a:lnTo>
                    <a:pt x="0" y="20942"/>
                  </a:lnTo>
                  <a:lnTo>
                    <a:pt x="0" y="21271"/>
                  </a:lnTo>
                  <a:lnTo>
                    <a:pt x="219" y="21271"/>
                  </a:lnTo>
                  <a:lnTo>
                    <a:pt x="219" y="21600"/>
                  </a:lnTo>
                  <a:lnTo>
                    <a:pt x="511" y="21600"/>
                  </a:lnTo>
                  <a:lnTo>
                    <a:pt x="730" y="21271"/>
                  </a:lnTo>
                  <a:lnTo>
                    <a:pt x="949" y="21271"/>
                  </a:lnTo>
                  <a:lnTo>
                    <a:pt x="949" y="20942"/>
                  </a:lnTo>
                  <a:close/>
                  <a:moveTo>
                    <a:pt x="949" y="20942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7" name="Freeform 114"/>
            <p:cNvSpPr/>
            <p:nvPr/>
          </p:nvSpPr>
          <p:spPr>
            <a:xfrm>
              <a:off x="8155080" y="2795400"/>
              <a:ext cx="312840" cy="31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84" y="324"/>
                  </a:moveTo>
                  <a:lnTo>
                    <a:pt x="19955" y="648"/>
                  </a:lnTo>
                  <a:lnTo>
                    <a:pt x="19955" y="972"/>
                  </a:lnTo>
                  <a:lnTo>
                    <a:pt x="19626" y="972"/>
                  </a:lnTo>
                  <a:lnTo>
                    <a:pt x="19626" y="1296"/>
                  </a:lnTo>
                  <a:lnTo>
                    <a:pt x="19297" y="1620"/>
                  </a:lnTo>
                  <a:lnTo>
                    <a:pt x="19297" y="1944"/>
                  </a:lnTo>
                  <a:lnTo>
                    <a:pt x="18969" y="2268"/>
                  </a:lnTo>
                  <a:lnTo>
                    <a:pt x="18969" y="2592"/>
                  </a:lnTo>
                  <a:lnTo>
                    <a:pt x="18311" y="5616"/>
                  </a:lnTo>
                  <a:lnTo>
                    <a:pt x="16885" y="8640"/>
                  </a:lnTo>
                  <a:lnTo>
                    <a:pt x="15241" y="11556"/>
                  </a:lnTo>
                  <a:lnTo>
                    <a:pt x="13157" y="13932"/>
                  </a:lnTo>
                  <a:lnTo>
                    <a:pt x="10855" y="16200"/>
                  </a:lnTo>
                  <a:lnTo>
                    <a:pt x="8114" y="17604"/>
                  </a:lnTo>
                  <a:lnTo>
                    <a:pt x="6469" y="18252"/>
                  </a:lnTo>
                  <a:lnTo>
                    <a:pt x="5153" y="18576"/>
                  </a:lnTo>
                  <a:lnTo>
                    <a:pt x="3399" y="18576"/>
                  </a:lnTo>
                  <a:lnTo>
                    <a:pt x="1754" y="18576"/>
                  </a:lnTo>
                  <a:lnTo>
                    <a:pt x="1425" y="18576"/>
                  </a:lnTo>
                  <a:lnTo>
                    <a:pt x="1096" y="18900"/>
                  </a:lnTo>
                  <a:lnTo>
                    <a:pt x="768" y="18900"/>
                  </a:lnTo>
                  <a:lnTo>
                    <a:pt x="768" y="19224"/>
                  </a:lnTo>
                  <a:lnTo>
                    <a:pt x="329" y="19224"/>
                  </a:lnTo>
                  <a:lnTo>
                    <a:pt x="329" y="19548"/>
                  </a:lnTo>
                  <a:lnTo>
                    <a:pt x="329" y="19872"/>
                  </a:lnTo>
                  <a:lnTo>
                    <a:pt x="0" y="20196"/>
                  </a:lnTo>
                  <a:lnTo>
                    <a:pt x="329" y="20520"/>
                  </a:lnTo>
                  <a:lnTo>
                    <a:pt x="329" y="20844"/>
                  </a:lnTo>
                  <a:lnTo>
                    <a:pt x="768" y="21276"/>
                  </a:lnTo>
                  <a:lnTo>
                    <a:pt x="1096" y="21600"/>
                  </a:lnTo>
                  <a:lnTo>
                    <a:pt x="1425" y="21600"/>
                  </a:lnTo>
                  <a:lnTo>
                    <a:pt x="1754" y="21600"/>
                  </a:lnTo>
                  <a:lnTo>
                    <a:pt x="4057" y="21600"/>
                  </a:lnTo>
                  <a:lnTo>
                    <a:pt x="6469" y="20844"/>
                  </a:lnTo>
                  <a:lnTo>
                    <a:pt x="8772" y="20196"/>
                  </a:lnTo>
                  <a:lnTo>
                    <a:pt x="10855" y="19224"/>
                  </a:lnTo>
                  <a:lnTo>
                    <a:pt x="12828" y="17928"/>
                  </a:lnTo>
                  <a:lnTo>
                    <a:pt x="14583" y="16524"/>
                  </a:lnTo>
                  <a:lnTo>
                    <a:pt x="16227" y="14580"/>
                  </a:lnTo>
                  <a:lnTo>
                    <a:pt x="17543" y="12636"/>
                  </a:lnTo>
                  <a:lnTo>
                    <a:pt x="18311" y="11232"/>
                  </a:lnTo>
                  <a:lnTo>
                    <a:pt x="18969" y="9936"/>
                  </a:lnTo>
                  <a:lnTo>
                    <a:pt x="19297" y="8316"/>
                  </a:lnTo>
                  <a:lnTo>
                    <a:pt x="19626" y="6912"/>
                  </a:lnTo>
                  <a:lnTo>
                    <a:pt x="19955" y="5292"/>
                  </a:lnTo>
                  <a:lnTo>
                    <a:pt x="20284" y="3996"/>
                  </a:lnTo>
                  <a:lnTo>
                    <a:pt x="20942" y="2592"/>
                  </a:lnTo>
                  <a:lnTo>
                    <a:pt x="21600" y="972"/>
                  </a:lnTo>
                  <a:lnTo>
                    <a:pt x="21600" y="648"/>
                  </a:lnTo>
                  <a:lnTo>
                    <a:pt x="21600" y="324"/>
                  </a:lnTo>
                  <a:lnTo>
                    <a:pt x="21271" y="324"/>
                  </a:lnTo>
                  <a:lnTo>
                    <a:pt x="21271" y="0"/>
                  </a:lnTo>
                  <a:lnTo>
                    <a:pt x="20942" y="0"/>
                  </a:lnTo>
                  <a:lnTo>
                    <a:pt x="20613" y="0"/>
                  </a:lnTo>
                  <a:lnTo>
                    <a:pt x="20284" y="324"/>
                  </a:lnTo>
                  <a:close/>
                  <a:moveTo>
                    <a:pt x="20284" y="32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8" name="Freeform 115"/>
            <p:cNvSpPr/>
            <p:nvPr/>
          </p:nvSpPr>
          <p:spPr>
            <a:xfrm>
              <a:off x="7675560" y="2784240"/>
              <a:ext cx="331920" cy="2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80" y="20678"/>
                  </a:moveTo>
                  <a:lnTo>
                    <a:pt x="21290" y="18702"/>
                  </a:lnTo>
                  <a:lnTo>
                    <a:pt x="21600" y="17122"/>
                  </a:lnTo>
                  <a:lnTo>
                    <a:pt x="21600" y="15410"/>
                  </a:lnTo>
                  <a:lnTo>
                    <a:pt x="21290" y="13434"/>
                  </a:lnTo>
                  <a:lnTo>
                    <a:pt x="20980" y="11854"/>
                  </a:lnTo>
                  <a:lnTo>
                    <a:pt x="20670" y="10141"/>
                  </a:lnTo>
                  <a:lnTo>
                    <a:pt x="20050" y="8956"/>
                  </a:lnTo>
                  <a:lnTo>
                    <a:pt x="19016" y="7376"/>
                  </a:lnTo>
                  <a:lnTo>
                    <a:pt x="17156" y="5268"/>
                  </a:lnTo>
                  <a:lnTo>
                    <a:pt x="15192" y="3688"/>
                  </a:lnTo>
                  <a:lnTo>
                    <a:pt x="13022" y="2898"/>
                  </a:lnTo>
                  <a:lnTo>
                    <a:pt x="10748" y="2107"/>
                  </a:lnTo>
                  <a:lnTo>
                    <a:pt x="8578" y="1317"/>
                  </a:lnTo>
                  <a:lnTo>
                    <a:pt x="6304" y="922"/>
                  </a:lnTo>
                  <a:lnTo>
                    <a:pt x="3824" y="527"/>
                  </a:lnTo>
                  <a:lnTo>
                    <a:pt x="1550" y="0"/>
                  </a:lnTo>
                  <a:lnTo>
                    <a:pt x="1240" y="0"/>
                  </a:lnTo>
                  <a:lnTo>
                    <a:pt x="930" y="527"/>
                  </a:lnTo>
                  <a:lnTo>
                    <a:pt x="620" y="527"/>
                  </a:lnTo>
                  <a:lnTo>
                    <a:pt x="310" y="922"/>
                  </a:lnTo>
                  <a:lnTo>
                    <a:pt x="310" y="1317"/>
                  </a:lnTo>
                  <a:lnTo>
                    <a:pt x="0" y="1712"/>
                  </a:lnTo>
                  <a:lnTo>
                    <a:pt x="0" y="2107"/>
                  </a:lnTo>
                  <a:lnTo>
                    <a:pt x="0" y="2502"/>
                  </a:lnTo>
                  <a:lnTo>
                    <a:pt x="310" y="2898"/>
                  </a:lnTo>
                  <a:lnTo>
                    <a:pt x="310" y="3293"/>
                  </a:lnTo>
                  <a:lnTo>
                    <a:pt x="620" y="3293"/>
                  </a:lnTo>
                  <a:lnTo>
                    <a:pt x="620" y="3688"/>
                  </a:lnTo>
                  <a:lnTo>
                    <a:pt x="930" y="3688"/>
                  </a:lnTo>
                  <a:lnTo>
                    <a:pt x="1240" y="4083"/>
                  </a:lnTo>
                  <a:lnTo>
                    <a:pt x="4444" y="4083"/>
                  </a:lnTo>
                  <a:lnTo>
                    <a:pt x="7648" y="4873"/>
                  </a:lnTo>
                  <a:lnTo>
                    <a:pt x="10748" y="6190"/>
                  </a:lnTo>
                  <a:lnTo>
                    <a:pt x="13952" y="7376"/>
                  </a:lnTo>
                  <a:lnTo>
                    <a:pt x="15192" y="8561"/>
                  </a:lnTo>
                  <a:lnTo>
                    <a:pt x="16536" y="9351"/>
                  </a:lnTo>
                  <a:lnTo>
                    <a:pt x="17776" y="10537"/>
                  </a:lnTo>
                  <a:lnTo>
                    <a:pt x="18396" y="12249"/>
                  </a:lnTo>
                  <a:lnTo>
                    <a:pt x="19326" y="13829"/>
                  </a:lnTo>
                  <a:lnTo>
                    <a:pt x="19740" y="15805"/>
                  </a:lnTo>
                  <a:lnTo>
                    <a:pt x="19740" y="17912"/>
                  </a:lnTo>
                  <a:lnTo>
                    <a:pt x="19740" y="20283"/>
                  </a:lnTo>
                  <a:lnTo>
                    <a:pt x="19740" y="20678"/>
                  </a:lnTo>
                  <a:lnTo>
                    <a:pt x="19740" y="21073"/>
                  </a:lnTo>
                  <a:lnTo>
                    <a:pt x="20050" y="21073"/>
                  </a:lnTo>
                  <a:lnTo>
                    <a:pt x="20360" y="21073"/>
                  </a:lnTo>
                  <a:lnTo>
                    <a:pt x="20360" y="21600"/>
                  </a:lnTo>
                  <a:lnTo>
                    <a:pt x="20670" y="21073"/>
                  </a:lnTo>
                  <a:lnTo>
                    <a:pt x="20980" y="21073"/>
                  </a:lnTo>
                  <a:lnTo>
                    <a:pt x="20980" y="20678"/>
                  </a:lnTo>
                  <a:close/>
                  <a:moveTo>
                    <a:pt x="20980" y="2067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9" name="Freeform 116"/>
            <p:cNvSpPr/>
            <p:nvPr/>
          </p:nvSpPr>
          <p:spPr>
            <a:xfrm>
              <a:off x="7635960" y="2795400"/>
              <a:ext cx="239760" cy="33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89" y="620"/>
                  </a:moveTo>
                  <a:lnTo>
                    <a:pt x="1717" y="2170"/>
                  </a:lnTo>
                  <a:lnTo>
                    <a:pt x="1287" y="3824"/>
                  </a:lnTo>
                  <a:lnTo>
                    <a:pt x="858" y="5374"/>
                  </a:lnTo>
                  <a:lnTo>
                    <a:pt x="429" y="6924"/>
                  </a:lnTo>
                  <a:lnTo>
                    <a:pt x="429" y="8578"/>
                  </a:lnTo>
                  <a:lnTo>
                    <a:pt x="0" y="10438"/>
                  </a:lnTo>
                  <a:lnTo>
                    <a:pt x="0" y="12092"/>
                  </a:lnTo>
                  <a:lnTo>
                    <a:pt x="429" y="13642"/>
                  </a:lnTo>
                  <a:lnTo>
                    <a:pt x="1287" y="15812"/>
                  </a:lnTo>
                  <a:lnTo>
                    <a:pt x="3147" y="17776"/>
                  </a:lnTo>
                  <a:lnTo>
                    <a:pt x="5293" y="19326"/>
                  </a:lnTo>
                  <a:lnTo>
                    <a:pt x="8011" y="20360"/>
                  </a:lnTo>
                  <a:lnTo>
                    <a:pt x="10585" y="21290"/>
                  </a:lnTo>
                  <a:lnTo>
                    <a:pt x="13732" y="21600"/>
                  </a:lnTo>
                  <a:lnTo>
                    <a:pt x="16736" y="21600"/>
                  </a:lnTo>
                  <a:lnTo>
                    <a:pt x="19883" y="21600"/>
                  </a:lnTo>
                  <a:lnTo>
                    <a:pt x="20313" y="21290"/>
                  </a:lnTo>
                  <a:lnTo>
                    <a:pt x="20742" y="21290"/>
                  </a:lnTo>
                  <a:lnTo>
                    <a:pt x="21171" y="20980"/>
                  </a:lnTo>
                  <a:lnTo>
                    <a:pt x="21171" y="20670"/>
                  </a:lnTo>
                  <a:lnTo>
                    <a:pt x="21600" y="20360"/>
                  </a:lnTo>
                  <a:lnTo>
                    <a:pt x="21171" y="19946"/>
                  </a:lnTo>
                  <a:lnTo>
                    <a:pt x="21171" y="19636"/>
                  </a:lnTo>
                  <a:lnTo>
                    <a:pt x="20742" y="19326"/>
                  </a:lnTo>
                  <a:lnTo>
                    <a:pt x="20313" y="19326"/>
                  </a:lnTo>
                  <a:lnTo>
                    <a:pt x="20313" y="19016"/>
                  </a:lnTo>
                  <a:lnTo>
                    <a:pt x="19883" y="19016"/>
                  </a:lnTo>
                  <a:lnTo>
                    <a:pt x="17166" y="19016"/>
                  </a:lnTo>
                  <a:lnTo>
                    <a:pt x="15020" y="19016"/>
                  </a:lnTo>
                  <a:lnTo>
                    <a:pt x="12302" y="18706"/>
                  </a:lnTo>
                  <a:lnTo>
                    <a:pt x="10156" y="18086"/>
                  </a:lnTo>
                  <a:lnTo>
                    <a:pt x="8011" y="17466"/>
                  </a:lnTo>
                  <a:lnTo>
                    <a:pt x="6151" y="16536"/>
                  </a:lnTo>
                  <a:lnTo>
                    <a:pt x="4434" y="14882"/>
                  </a:lnTo>
                  <a:lnTo>
                    <a:pt x="3576" y="13332"/>
                  </a:lnTo>
                  <a:lnTo>
                    <a:pt x="3147" y="11678"/>
                  </a:lnTo>
                  <a:lnTo>
                    <a:pt x="3147" y="10128"/>
                  </a:lnTo>
                  <a:lnTo>
                    <a:pt x="3147" y="8578"/>
                  </a:lnTo>
                  <a:lnTo>
                    <a:pt x="3576" y="6924"/>
                  </a:lnTo>
                  <a:lnTo>
                    <a:pt x="3576" y="5374"/>
                  </a:lnTo>
                  <a:lnTo>
                    <a:pt x="4005" y="3824"/>
                  </a:lnTo>
                  <a:lnTo>
                    <a:pt x="4005" y="2480"/>
                  </a:lnTo>
                  <a:lnTo>
                    <a:pt x="4005" y="930"/>
                  </a:lnTo>
                  <a:lnTo>
                    <a:pt x="4005" y="620"/>
                  </a:lnTo>
                  <a:lnTo>
                    <a:pt x="4005" y="310"/>
                  </a:lnTo>
                  <a:lnTo>
                    <a:pt x="3576" y="310"/>
                  </a:lnTo>
                  <a:lnTo>
                    <a:pt x="3576" y="0"/>
                  </a:lnTo>
                  <a:lnTo>
                    <a:pt x="3147" y="0"/>
                  </a:lnTo>
                  <a:lnTo>
                    <a:pt x="2718" y="0"/>
                  </a:lnTo>
                  <a:lnTo>
                    <a:pt x="2718" y="310"/>
                  </a:lnTo>
                  <a:lnTo>
                    <a:pt x="2289" y="310"/>
                  </a:lnTo>
                  <a:lnTo>
                    <a:pt x="2289" y="620"/>
                  </a:lnTo>
                  <a:close/>
                  <a:moveTo>
                    <a:pt x="2289" y="62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0" name="Freeform 117"/>
            <p:cNvSpPr/>
            <p:nvPr/>
          </p:nvSpPr>
          <p:spPr>
            <a:xfrm>
              <a:off x="7790040" y="2927160"/>
              <a:ext cx="115920" cy="11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77"/>
                  </a:moveTo>
                  <a:lnTo>
                    <a:pt x="888" y="5554"/>
                  </a:lnTo>
                  <a:lnTo>
                    <a:pt x="2663" y="8331"/>
                  </a:lnTo>
                  <a:lnTo>
                    <a:pt x="4438" y="11417"/>
                  </a:lnTo>
                  <a:lnTo>
                    <a:pt x="6214" y="14194"/>
                  </a:lnTo>
                  <a:lnTo>
                    <a:pt x="8877" y="16046"/>
                  </a:lnTo>
                  <a:lnTo>
                    <a:pt x="11836" y="17897"/>
                  </a:lnTo>
                  <a:lnTo>
                    <a:pt x="14499" y="19749"/>
                  </a:lnTo>
                  <a:lnTo>
                    <a:pt x="17162" y="21600"/>
                  </a:lnTo>
                  <a:lnTo>
                    <a:pt x="18049" y="21600"/>
                  </a:lnTo>
                  <a:lnTo>
                    <a:pt x="18937" y="21600"/>
                  </a:lnTo>
                  <a:lnTo>
                    <a:pt x="19825" y="21600"/>
                  </a:lnTo>
                  <a:lnTo>
                    <a:pt x="20712" y="21600"/>
                  </a:lnTo>
                  <a:lnTo>
                    <a:pt x="20712" y="20674"/>
                  </a:lnTo>
                  <a:lnTo>
                    <a:pt x="21600" y="20674"/>
                  </a:lnTo>
                  <a:lnTo>
                    <a:pt x="21600" y="19749"/>
                  </a:lnTo>
                  <a:lnTo>
                    <a:pt x="21600" y="18823"/>
                  </a:lnTo>
                  <a:lnTo>
                    <a:pt x="21600" y="17897"/>
                  </a:lnTo>
                  <a:lnTo>
                    <a:pt x="21600" y="16971"/>
                  </a:lnTo>
                  <a:lnTo>
                    <a:pt x="20712" y="16971"/>
                  </a:lnTo>
                  <a:lnTo>
                    <a:pt x="20712" y="16046"/>
                  </a:lnTo>
                  <a:lnTo>
                    <a:pt x="19825" y="16046"/>
                  </a:lnTo>
                  <a:lnTo>
                    <a:pt x="18049" y="14194"/>
                  </a:lnTo>
                  <a:lnTo>
                    <a:pt x="15386" y="13269"/>
                  </a:lnTo>
                  <a:lnTo>
                    <a:pt x="12723" y="11417"/>
                  </a:lnTo>
                  <a:lnTo>
                    <a:pt x="10652" y="9257"/>
                  </a:lnTo>
                  <a:lnTo>
                    <a:pt x="7989" y="7406"/>
                  </a:lnTo>
                  <a:lnTo>
                    <a:pt x="6214" y="5554"/>
                  </a:lnTo>
                  <a:lnTo>
                    <a:pt x="4438" y="3703"/>
                  </a:lnTo>
                  <a:lnTo>
                    <a:pt x="3551" y="926"/>
                  </a:lnTo>
                  <a:lnTo>
                    <a:pt x="2663" y="926"/>
                  </a:lnTo>
                  <a:lnTo>
                    <a:pt x="2663" y="0"/>
                  </a:lnTo>
                  <a:lnTo>
                    <a:pt x="1775" y="0"/>
                  </a:lnTo>
                  <a:lnTo>
                    <a:pt x="888" y="0"/>
                  </a:lnTo>
                  <a:lnTo>
                    <a:pt x="0" y="0"/>
                  </a:lnTo>
                  <a:lnTo>
                    <a:pt x="0" y="926"/>
                  </a:lnTo>
                  <a:lnTo>
                    <a:pt x="0" y="1851"/>
                  </a:lnTo>
                  <a:lnTo>
                    <a:pt x="0" y="2777"/>
                  </a:lnTo>
                  <a:close/>
                  <a:moveTo>
                    <a:pt x="0" y="277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1" name="Freeform 118"/>
            <p:cNvSpPr/>
            <p:nvPr/>
          </p:nvSpPr>
          <p:spPr>
            <a:xfrm>
              <a:off x="7310520" y="3171600"/>
              <a:ext cx="1432080" cy="127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78" y="567"/>
                  </a:moveTo>
                  <a:lnTo>
                    <a:pt x="7064" y="972"/>
                  </a:lnTo>
                  <a:lnTo>
                    <a:pt x="6274" y="1404"/>
                  </a:lnTo>
                  <a:lnTo>
                    <a:pt x="5460" y="1971"/>
                  </a:lnTo>
                  <a:lnTo>
                    <a:pt x="4718" y="2646"/>
                  </a:lnTo>
                  <a:lnTo>
                    <a:pt x="4047" y="3321"/>
                  </a:lnTo>
                  <a:lnTo>
                    <a:pt x="3376" y="4050"/>
                  </a:lnTo>
                  <a:lnTo>
                    <a:pt x="2802" y="4806"/>
                  </a:lnTo>
                  <a:lnTo>
                    <a:pt x="2203" y="5643"/>
                  </a:lnTo>
                  <a:lnTo>
                    <a:pt x="1844" y="6129"/>
                  </a:lnTo>
                  <a:lnTo>
                    <a:pt x="1628" y="6642"/>
                  </a:lnTo>
                  <a:lnTo>
                    <a:pt x="1317" y="7128"/>
                  </a:lnTo>
                  <a:lnTo>
                    <a:pt x="1102" y="7641"/>
                  </a:lnTo>
                  <a:lnTo>
                    <a:pt x="958" y="8127"/>
                  </a:lnTo>
                  <a:lnTo>
                    <a:pt x="742" y="8640"/>
                  </a:lnTo>
                  <a:lnTo>
                    <a:pt x="599" y="9207"/>
                  </a:lnTo>
                  <a:lnTo>
                    <a:pt x="359" y="9720"/>
                  </a:lnTo>
                  <a:lnTo>
                    <a:pt x="216" y="10449"/>
                  </a:lnTo>
                  <a:lnTo>
                    <a:pt x="72" y="11286"/>
                  </a:lnTo>
                  <a:lnTo>
                    <a:pt x="0" y="12123"/>
                  </a:lnTo>
                  <a:lnTo>
                    <a:pt x="0" y="12852"/>
                  </a:lnTo>
                  <a:lnTo>
                    <a:pt x="72" y="13689"/>
                  </a:lnTo>
                  <a:lnTo>
                    <a:pt x="216" y="14445"/>
                  </a:lnTo>
                  <a:lnTo>
                    <a:pt x="503" y="15201"/>
                  </a:lnTo>
                  <a:lnTo>
                    <a:pt x="958" y="15849"/>
                  </a:lnTo>
                  <a:lnTo>
                    <a:pt x="1389" y="16524"/>
                  </a:lnTo>
                  <a:lnTo>
                    <a:pt x="1772" y="17280"/>
                  </a:lnTo>
                  <a:lnTo>
                    <a:pt x="2131" y="18009"/>
                  </a:lnTo>
                  <a:lnTo>
                    <a:pt x="2514" y="18765"/>
                  </a:lnTo>
                  <a:lnTo>
                    <a:pt x="2945" y="19440"/>
                  </a:lnTo>
                  <a:lnTo>
                    <a:pt x="3376" y="20088"/>
                  </a:lnTo>
                  <a:lnTo>
                    <a:pt x="3975" y="20601"/>
                  </a:lnTo>
                  <a:lnTo>
                    <a:pt x="4574" y="21087"/>
                  </a:lnTo>
                  <a:lnTo>
                    <a:pt x="4933" y="21249"/>
                  </a:lnTo>
                  <a:lnTo>
                    <a:pt x="5220" y="21330"/>
                  </a:lnTo>
                  <a:lnTo>
                    <a:pt x="5604" y="21492"/>
                  </a:lnTo>
                  <a:lnTo>
                    <a:pt x="5963" y="21492"/>
                  </a:lnTo>
                  <a:lnTo>
                    <a:pt x="6346" y="21600"/>
                  </a:lnTo>
                  <a:lnTo>
                    <a:pt x="6705" y="21600"/>
                  </a:lnTo>
                  <a:lnTo>
                    <a:pt x="6992" y="21600"/>
                  </a:lnTo>
                  <a:lnTo>
                    <a:pt x="7376" y="21600"/>
                  </a:lnTo>
                  <a:lnTo>
                    <a:pt x="8621" y="21492"/>
                  </a:lnTo>
                  <a:lnTo>
                    <a:pt x="9866" y="21492"/>
                  </a:lnTo>
                  <a:lnTo>
                    <a:pt x="11135" y="21492"/>
                  </a:lnTo>
                  <a:lnTo>
                    <a:pt x="12309" y="21492"/>
                  </a:lnTo>
                  <a:lnTo>
                    <a:pt x="13554" y="21492"/>
                  </a:lnTo>
                  <a:lnTo>
                    <a:pt x="14823" y="21492"/>
                  </a:lnTo>
                  <a:lnTo>
                    <a:pt x="16068" y="21330"/>
                  </a:lnTo>
                  <a:lnTo>
                    <a:pt x="17314" y="21087"/>
                  </a:lnTo>
                  <a:lnTo>
                    <a:pt x="17769" y="21006"/>
                  </a:lnTo>
                  <a:lnTo>
                    <a:pt x="18128" y="20844"/>
                  </a:lnTo>
                  <a:lnTo>
                    <a:pt x="18487" y="20601"/>
                  </a:lnTo>
                  <a:lnTo>
                    <a:pt x="18798" y="20331"/>
                  </a:lnTo>
                  <a:lnTo>
                    <a:pt x="19086" y="20088"/>
                  </a:lnTo>
                  <a:lnTo>
                    <a:pt x="19373" y="19764"/>
                  </a:lnTo>
                  <a:lnTo>
                    <a:pt x="19612" y="19440"/>
                  </a:lnTo>
                  <a:lnTo>
                    <a:pt x="19900" y="19008"/>
                  </a:lnTo>
                  <a:lnTo>
                    <a:pt x="20187" y="18360"/>
                  </a:lnTo>
                  <a:lnTo>
                    <a:pt x="20570" y="17685"/>
                  </a:lnTo>
                  <a:lnTo>
                    <a:pt x="20786" y="16929"/>
                  </a:lnTo>
                  <a:lnTo>
                    <a:pt x="21073" y="16200"/>
                  </a:lnTo>
                  <a:lnTo>
                    <a:pt x="21217" y="15525"/>
                  </a:lnTo>
                  <a:lnTo>
                    <a:pt x="21361" y="14769"/>
                  </a:lnTo>
                  <a:lnTo>
                    <a:pt x="21528" y="14040"/>
                  </a:lnTo>
                  <a:lnTo>
                    <a:pt x="21600" y="13203"/>
                  </a:lnTo>
                  <a:lnTo>
                    <a:pt x="21528" y="12852"/>
                  </a:lnTo>
                  <a:lnTo>
                    <a:pt x="21528" y="12609"/>
                  </a:lnTo>
                  <a:lnTo>
                    <a:pt x="21456" y="12285"/>
                  </a:lnTo>
                  <a:lnTo>
                    <a:pt x="21361" y="11961"/>
                  </a:lnTo>
                  <a:lnTo>
                    <a:pt x="21217" y="11691"/>
                  </a:lnTo>
                  <a:lnTo>
                    <a:pt x="21145" y="11367"/>
                  </a:lnTo>
                  <a:lnTo>
                    <a:pt x="21145" y="11043"/>
                  </a:lnTo>
                  <a:lnTo>
                    <a:pt x="21145" y="10692"/>
                  </a:lnTo>
                  <a:lnTo>
                    <a:pt x="21289" y="10206"/>
                  </a:lnTo>
                  <a:lnTo>
                    <a:pt x="21456" y="9612"/>
                  </a:lnTo>
                  <a:lnTo>
                    <a:pt x="21600" y="9045"/>
                  </a:lnTo>
                  <a:lnTo>
                    <a:pt x="21600" y="8451"/>
                  </a:lnTo>
                  <a:lnTo>
                    <a:pt x="21600" y="7884"/>
                  </a:lnTo>
                  <a:lnTo>
                    <a:pt x="21528" y="7290"/>
                  </a:lnTo>
                  <a:lnTo>
                    <a:pt x="21361" y="6723"/>
                  </a:lnTo>
                  <a:lnTo>
                    <a:pt x="21073" y="6210"/>
                  </a:lnTo>
                  <a:lnTo>
                    <a:pt x="20642" y="5481"/>
                  </a:lnTo>
                  <a:lnTo>
                    <a:pt x="20187" y="4725"/>
                  </a:lnTo>
                  <a:lnTo>
                    <a:pt x="19756" y="3969"/>
                  </a:lnTo>
                  <a:lnTo>
                    <a:pt x="19229" y="3321"/>
                  </a:lnTo>
                  <a:lnTo>
                    <a:pt x="18726" y="2727"/>
                  </a:lnTo>
                  <a:lnTo>
                    <a:pt x="18128" y="2160"/>
                  </a:lnTo>
                  <a:lnTo>
                    <a:pt x="17457" y="1566"/>
                  </a:lnTo>
                  <a:lnTo>
                    <a:pt x="16811" y="1161"/>
                  </a:lnTo>
                  <a:lnTo>
                    <a:pt x="16356" y="891"/>
                  </a:lnTo>
                  <a:lnTo>
                    <a:pt x="15925" y="729"/>
                  </a:lnTo>
                  <a:lnTo>
                    <a:pt x="15470" y="567"/>
                  </a:lnTo>
                  <a:lnTo>
                    <a:pt x="14967" y="486"/>
                  </a:lnTo>
                  <a:lnTo>
                    <a:pt x="14512" y="405"/>
                  </a:lnTo>
                  <a:lnTo>
                    <a:pt x="14009" y="324"/>
                  </a:lnTo>
                  <a:lnTo>
                    <a:pt x="13554" y="162"/>
                  </a:lnTo>
                  <a:lnTo>
                    <a:pt x="13123" y="0"/>
                  </a:lnTo>
                  <a:lnTo>
                    <a:pt x="13051" y="0"/>
                  </a:lnTo>
                  <a:lnTo>
                    <a:pt x="12979" y="0"/>
                  </a:lnTo>
                  <a:lnTo>
                    <a:pt x="12907" y="0"/>
                  </a:lnTo>
                  <a:lnTo>
                    <a:pt x="12812" y="0"/>
                  </a:lnTo>
                  <a:lnTo>
                    <a:pt x="12740" y="0"/>
                  </a:lnTo>
                  <a:lnTo>
                    <a:pt x="12668" y="81"/>
                  </a:lnTo>
                  <a:lnTo>
                    <a:pt x="12596" y="162"/>
                  </a:lnTo>
                  <a:lnTo>
                    <a:pt x="12596" y="243"/>
                  </a:lnTo>
                  <a:lnTo>
                    <a:pt x="12596" y="324"/>
                  </a:lnTo>
                  <a:lnTo>
                    <a:pt x="12524" y="405"/>
                  </a:lnTo>
                  <a:lnTo>
                    <a:pt x="12524" y="486"/>
                  </a:lnTo>
                  <a:lnTo>
                    <a:pt x="12596" y="567"/>
                  </a:lnTo>
                  <a:lnTo>
                    <a:pt x="12596" y="648"/>
                  </a:lnTo>
                  <a:lnTo>
                    <a:pt x="12668" y="729"/>
                  </a:lnTo>
                  <a:lnTo>
                    <a:pt x="12740" y="810"/>
                  </a:lnTo>
                  <a:lnTo>
                    <a:pt x="12812" y="810"/>
                  </a:lnTo>
                  <a:lnTo>
                    <a:pt x="13195" y="972"/>
                  </a:lnTo>
                  <a:lnTo>
                    <a:pt x="13554" y="1161"/>
                  </a:lnTo>
                  <a:lnTo>
                    <a:pt x="14009" y="1242"/>
                  </a:lnTo>
                  <a:lnTo>
                    <a:pt x="14440" y="1323"/>
                  </a:lnTo>
                  <a:lnTo>
                    <a:pt x="14823" y="1404"/>
                  </a:lnTo>
                  <a:lnTo>
                    <a:pt x="15254" y="1566"/>
                  </a:lnTo>
                  <a:lnTo>
                    <a:pt x="15613" y="1647"/>
                  </a:lnTo>
                  <a:lnTo>
                    <a:pt x="16068" y="1809"/>
                  </a:lnTo>
                  <a:lnTo>
                    <a:pt x="16739" y="2160"/>
                  </a:lnTo>
                  <a:lnTo>
                    <a:pt x="17314" y="2646"/>
                  </a:lnTo>
                  <a:lnTo>
                    <a:pt x="17912" y="3240"/>
                  </a:lnTo>
                  <a:lnTo>
                    <a:pt x="18487" y="3807"/>
                  </a:lnTo>
                  <a:lnTo>
                    <a:pt x="18942" y="4482"/>
                  </a:lnTo>
                  <a:lnTo>
                    <a:pt x="19445" y="5130"/>
                  </a:lnTo>
                  <a:lnTo>
                    <a:pt x="19900" y="5805"/>
                  </a:lnTo>
                  <a:lnTo>
                    <a:pt x="20259" y="6561"/>
                  </a:lnTo>
                  <a:lnTo>
                    <a:pt x="20403" y="6885"/>
                  </a:lnTo>
                  <a:lnTo>
                    <a:pt x="20570" y="7128"/>
                  </a:lnTo>
                  <a:lnTo>
                    <a:pt x="20642" y="7371"/>
                  </a:lnTo>
                  <a:lnTo>
                    <a:pt x="20714" y="7722"/>
                  </a:lnTo>
                  <a:lnTo>
                    <a:pt x="20786" y="8046"/>
                  </a:lnTo>
                  <a:lnTo>
                    <a:pt x="20786" y="8289"/>
                  </a:lnTo>
                  <a:lnTo>
                    <a:pt x="20786" y="8640"/>
                  </a:lnTo>
                  <a:lnTo>
                    <a:pt x="20786" y="8964"/>
                  </a:lnTo>
                  <a:lnTo>
                    <a:pt x="20714" y="9207"/>
                  </a:lnTo>
                  <a:lnTo>
                    <a:pt x="20642" y="9450"/>
                  </a:lnTo>
                  <a:lnTo>
                    <a:pt x="20570" y="9612"/>
                  </a:lnTo>
                  <a:lnTo>
                    <a:pt x="20498" y="9882"/>
                  </a:lnTo>
                  <a:lnTo>
                    <a:pt x="20403" y="10125"/>
                  </a:lnTo>
                  <a:lnTo>
                    <a:pt x="20331" y="10287"/>
                  </a:lnTo>
                  <a:lnTo>
                    <a:pt x="20259" y="10530"/>
                  </a:lnTo>
                  <a:lnTo>
                    <a:pt x="20259" y="10800"/>
                  </a:lnTo>
                  <a:lnTo>
                    <a:pt x="20259" y="11205"/>
                  </a:lnTo>
                  <a:lnTo>
                    <a:pt x="20331" y="11610"/>
                  </a:lnTo>
                  <a:lnTo>
                    <a:pt x="20498" y="12042"/>
                  </a:lnTo>
                  <a:lnTo>
                    <a:pt x="20570" y="12447"/>
                  </a:lnTo>
                  <a:lnTo>
                    <a:pt x="20642" y="12771"/>
                  </a:lnTo>
                  <a:lnTo>
                    <a:pt x="20714" y="13203"/>
                  </a:lnTo>
                  <a:lnTo>
                    <a:pt x="20714" y="13608"/>
                  </a:lnTo>
                  <a:lnTo>
                    <a:pt x="20714" y="14040"/>
                  </a:lnTo>
                  <a:lnTo>
                    <a:pt x="20498" y="14931"/>
                  </a:lnTo>
                  <a:lnTo>
                    <a:pt x="20259" y="15849"/>
                  </a:lnTo>
                  <a:lnTo>
                    <a:pt x="19972" y="16767"/>
                  </a:lnTo>
                  <a:lnTo>
                    <a:pt x="19684" y="17604"/>
                  </a:lnTo>
                  <a:lnTo>
                    <a:pt x="19229" y="18441"/>
                  </a:lnTo>
                  <a:lnTo>
                    <a:pt x="18798" y="19089"/>
                  </a:lnTo>
                  <a:lnTo>
                    <a:pt x="18487" y="19440"/>
                  </a:lnTo>
                  <a:lnTo>
                    <a:pt x="18128" y="19683"/>
                  </a:lnTo>
                  <a:lnTo>
                    <a:pt x="17769" y="19926"/>
                  </a:lnTo>
                  <a:lnTo>
                    <a:pt x="17385" y="20088"/>
                  </a:lnTo>
                  <a:lnTo>
                    <a:pt x="17170" y="20169"/>
                  </a:lnTo>
                  <a:lnTo>
                    <a:pt x="17026" y="20250"/>
                  </a:lnTo>
                  <a:lnTo>
                    <a:pt x="16811" y="20331"/>
                  </a:lnTo>
                  <a:lnTo>
                    <a:pt x="16571" y="20331"/>
                  </a:lnTo>
                  <a:lnTo>
                    <a:pt x="16356" y="20412"/>
                  </a:lnTo>
                  <a:lnTo>
                    <a:pt x="16140" y="20412"/>
                  </a:lnTo>
                  <a:lnTo>
                    <a:pt x="15925" y="20412"/>
                  </a:lnTo>
                  <a:lnTo>
                    <a:pt x="15685" y="20520"/>
                  </a:lnTo>
                  <a:lnTo>
                    <a:pt x="14512" y="20520"/>
                  </a:lnTo>
                  <a:lnTo>
                    <a:pt x="13338" y="20601"/>
                  </a:lnTo>
                  <a:lnTo>
                    <a:pt x="12093" y="20601"/>
                  </a:lnTo>
                  <a:lnTo>
                    <a:pt x="10896" y="20601"/>
                  </a:lnTo>
                  <a:lnTo>
                    <a:pt x="9722" y="20682"/>
                  </a:lnTo>
                  <a:lnTo>
                    <a:pt x="8477" y="20682"/>
                  </a:lnTo>
                  <a:lnTo>
                    <a:pt x="7304" y="20682"/>
                  </a:lnTo>
                  <a:lnTo>
                    <a:pt x="6106" y="20682"/>
                  </a:lnTo>
                  <a:lnTo>
                    <a:pt x="5963" y="20682"/>
                  </a:lnTo>
                  <a:lnTo>
                    <a:pt x="5819" y="20601"/>
                  </a:lnTo>
                  <a:lnTo>
                    <a:pt x="5675" y="20601"/>
                  </a:lnTo>
                  <a:lnTo>
                    <a:pt x="5532" y="20601"/>
                  </a:lnTo>
                  <a:lnTo>
                    <a:pt x="5388" y="20520"/>
                  </a:lnTo>
                  <a:lnTo>
                    <a:pt x="5220" y="20412"/>
                  </a:lnTo>
                  <a:lnTo>
                    <a:pt x="5077" y="20412"/>
                  </a:lnTo>
                  <a:lnTo>
                    <a:pt x="5005" y="20331"/>
                  </a:lnTo>
                  <a:lnTo>
                    <a:pt x="4789" y="20250"/>
                  </a:lnTo>
                  <a:lnTo>
                    <a:pt x="4646" y="20088"/>
                  </a:lnTo>
                  <a:lnTo>
                    <a:pt x="4502" y="20007"/>
                  </a:lnTo>
                  <a:lnTo>
                    <a:pt x="4334" y="19845"/>
                  </a:lnTo>
                  <a:lnTo>
                    <a:pt x="4119" y="19764"/>
                  </a:lnTo>
                  <a:lnTo>
                    <a:pt x="4047" y="19602"/>
                  </a:lnTo>
                  <a:lnTo>
                    <a:pt x="3903" y="19440"/>
                  </a:lnTo>
                  <a:lnTo>
                    <a:pt x="3760" y="19251"/>
                  </a:lnTo>
                  <a:lnTo>
                    <a:pt x="3472" y="18603"/>
                  </a:lnTo>
                  <a:lnTo>
                    <a:pt x="3089" y="18090"/>
                  </a:lnTo>
                  <a:lnTo>
                    <a:pt x="2730" y="17523"/>
                  </a:lnTo>
                  <a:lnTo>
                    <a:pt x="2419" y="16929"/>
                  </a:lnTo>
                  <a:lnTo>
                    <a:pt x="2059" y="16443"/>
                  </a:lnTo>
                  <a:lnTo>
                    <a:pt x="1772" y="15849"/>
                  </a:lnTo>
                  <a:lnTo>
                    <a:pt x="1461" y="15282"/>
                  </a:lnTo>
                  <a:lnTo>
                    <a:pt x="1173" y="14607"/>
                  </a:lnTo>
                  <a:lnTo>
                    <a:pt x="958" y="14121"/>
                  </a:lnTo>
                  <a:lnTo>
                    <a:pt x="814" y="13527"/>
                  </a:lnTo>
                  <a:lnTo>
                    <a:pt x="742" y="13041"/>
                  </a:lnTo>
                  <a:lnTo>
                    <a:pt x="671" y="12447"/>
                  </a:lnTo>
                  <a:lnTo>
                    <a:pt x="671" y="11961"/>
                  </a:lnTo>
                  <a:lnTo>
                    <a:pt x="742" y="11367"/>
                  </a:lnTo>
                  <a:lnTo>
                    <a:pt x="814" y="10800"/>
                  </a:lnTo>
                  <a:lnTo>
                    <a:pt x="958" y="10287"/>
                  </a:lnTo>
                  <a:lnTo>
                    <a:pt x="1245" y="9207"/>
                  </a:lnTo>
                  <a:lnTo>
                    <a:pt x="1700" y="8127"/>
                  </a:lnTo>
                  <a:lnTo>
                    <a:pt x="2203" y="7128"/>
                  </a:lnTo>
                  <a:lnTo>
                    <a:pt x="2730" y="6129"/>
                  </a:lnTo>
                  <a:lnTo>
                    <a:pt x="3161" y="5400"/>
                  </a:lnTo>
                  <a:lnTo>
                    <a:pt x="3688" y="4725"/>
                  </a:lnTo>
                  <a:lnTo>
                    <a:pt x="4191" y="4050"/>
                  </a:lnTo>
                  <a:lnTo>
                    <a:pt x="4718" y="3483"/>
                  </a:lnTo>
                  <a:lnTo>
                    <a:pt x="5316" y="2889"/>
                  </a:lnTo>
                  <a:lnTo>
                    <a:pt x="5891" y="2403"/>
                  </a:lnTo>
                  <a:lnTo>
                    <a:pt x="6561" y="1809"/>
                  </a:lnTo>
                  <a:lnTo>
                    <a:pt x="7232" y="1323"/>
                  </a:lnTo>
                  <a:lnTo>
                    <a:pt x="7304" y="1242"/>
                  </a:lnTo>
                  <a:lnTo>
                    <a:pt x="7447" y="1161"/>
                  </a:lnTo>
                  <a:lnTo>
                    <a:pt x="7519" y="1161"/>
                  </a:lnTo>
                  <a:lnTo>
                    <a:pt x="7591" y="1080"/>
                  </a:lnTo>
                  <a:lnTo>
                    <a:pt x="7735" y="1080"/>
                  </a:lnTo>
                  <a:lnTo>
                    <a:pt x="7807" y="972"/>
                  </a:lnTo>
                  <a:lnTo>
                    <a:pt x="7950" y="972"/>
                  </a:lnTo>
                  <a:lnTo>
                    <a:pt x="8022" y="891"/>
                  </a:lnTo>
                  <a:lnTo>
                    <a:pt x="8094" y="810"/>
                  </a:lnTo>
                  <a:lnTo>
                    <a:pt x="8094" y="729"/>
                  </a:lnTo>
                  <a:lnTo>
                    <a:pt x="8094" y="648"/>
                  </a:lnTo>
                  <a:lnTo>
                    <a:pt x="8022" y="567"/>
                  </a:lnTo>
                  <a:lnTo>
                    <a:pt x="7950" y="567"/>
                  </a:lnTo>
                  <a:lnTo>
                    <a:pt x="7878" y="567"/>
                  </a:lnTo>
                  <a:close/>
                  <a:moveTo>
                    <a:pt x="7878" y="56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2" name="Freeform 119"/>
            <p:cNvSpPr/>
            <p:nvPr/>
          </p:nvSpPr>
          <p:spPr>
            <a:xfrm>
              <a:off x="7823520" y="3244680"/>
              <a:ext cx="166680" cy="21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926" y="470"/>
                  </a:moveTo>
                  <a:lnTo>
                    <a:pt x="17691" y="3287"/>
                  </a:lnTo>
                  <a:lnTo>
                    <a:pt x="15840" y="5791"/>
                  </a:lnTo>
                  <a:lnTo>
                    <a:pt x="13371" y="8139"/>
                  </a:lnTo>
                  <a:lnTo>
                    <a:pt x="11314" y="10487"/>
                  </a:lnTo>
                  <a:lnTo>
                    <a:pt x="8846" y="12991"/>
                  </a:lnTo>
                  <a:lnTo>
                    <a:pt x="6377" y="14870"/>
                  </a:lnTo>
                  <a:lnTo>
                    <a:pt x="3909" y="17217"/>
                  </a:lnTo>
                  <a:lnTo>
                    <a:pt x="617" y="19252"/>
                  </a:lnTo>
                  <a:lnTo>
                    <a:pt x="617" y="19722"/>
                  </a:lnTo>
                  <a:lnTo>
                    <a:pt x="0" y="20191"/>
                  </a:lnTo>
                  <a:lnTo>
                    <a:pt x="0" y="20661"/>
                  </a:lnTo>
                  <a:lnTo>
                    <a:pt x="617" y="20661"/>
                  </a:lnTo>
                  <a:lnTo>
                    <a:pt x="617" y="21130"/>
                  </a:lnTo>
                  <a:lnTo>
                    <a:pt x="1234" y="21600"/>
                  </a:lnTo>
                  <a:lnTo>
                    <a:pt x="1851" y="21600"/>
                  </a:lnTo>
                  <a:lnTo>
                    <a:pt x="2469" y="21600"/>
                  </a:lnTo>
                  <a:lnTo>
                    <a:pt x="3086" y="21600"/>
                  </a:lnTo>
                  <a:lnTo>
                    <a:pt x="3909" y="21130"/>
                  </a:lnTo>
                  <a:lnTo>
                    <a:pt x="6377" y="19252"/>
                  </a:lnTo>
                  <a:lnTo>
                    <a:pt x="9463" y="17217"/>
                  </a:lnTo>
                  <a:lnTo>
                    <a:pt x="12137" y="14870"/>
                  </a:lnTo>
                  <a:lnTo>
                    <a:pt x="14606" y="12522"/>
                  </a:lnTo>
                  <a:lnTo>
                    <a:pt x="17074" y="10017"/>
                  </a:lnTo>
                  <a:lnTo>
                    <a:pt x="18926" y="7200"/>
                  </a:lnTo>
                  <a:lnTo>
                    <a:pt x="20366" y="4226"/>
                  </a:lnTo>
                  <a:lnTo>
                    <a:pt x="21600" y="1409"/>
                  </a:lnTo>
                  <a:lnTo>
                    <a:pt x="21600" y="939"/>
                  </a:lnTo>
                  <a:lnTo>
                    <a:pt x="21600" y="470"/>
                  </a:lnTo>
                  <a:lnTo>
                    <a:pt x="20983" y="0"/>
                  </a:lnTo>
                  <a:lnTo>
                    <a:pt x="20366" y="0"/>
                  </a:lnTo>
                  <a:lnTo>
                    <a:pt x="19543" y="0"/>
                  </a:lnTo>
                  <a:lnTo>
                    <a:pt x="19543" y="470"/>
                  </a:lnTo>
                  <a:lnTo>
                    <a:pt x="18926" y="470"/>
                  </a:lnTo>
                  <a:close/>
                  <a:moveTo>
                    <a:pt x="18926" y="47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Freeform 120"/>
            <p:cNvSpPr/>
            <p:nvPr/>
          </p:nvSpPr>
          <p:spPr>
            <a:xfrm>
              <a:off x="8072640" y="3240000"/>
              <a:ext cx="103320" cy="20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05"/>
                  </a:moveTo>
                  <a:lnTo>
                    <a:pt x="0" y="4019"/>
                  </a:lnTo>
                  <a:lnTo>
                    <a:pt x="997" y="6698"/>
                  </a:lnTo>
                  <a:lnTo>
                    <a:pt x="1994" y="9209"/>
                  </a:lnTo>
                  <a:lnTo>
                    <a:pt x="3988" y="11721"/>
                  </a:lnTo>
                  <a:lnTo>
                    <a:pt x="5982" y="13898"/>
                  </a:lnTo>
                  <a:lnTo>
                    <a:pt x="9305" y="16409"/>
                  </a:lnTo>
                  <a:lnTo>
                    <a:pt x="12295" y="18419"/>
                  </a:lnTo>
                  <a:lnTo>
                    <a:pt x="15286" y="21098"/>
                  </a:lnTo>
                  <a:lnTo>
                    <a:pt x="16283" y="21600"/>
                  </a:lnTo>
                  <a:lnTo>
                    <a:pt x="17280" y="21600"/>
                  </a:lnTo>
                  <a:lnTo>
                    <a:pt x="18277" y="21600"/>
                  </a:lnTo>
                  <a:lnTo>
                    <a:pt x="19606" y="21600"/>
                  </a:lnTo>
                  <a:lnTo>
                    <a:pt x="20603" y="21098"/>
                  </a:lnTo>
                  <a:lnTo>
                    <a:pt x="21600" y="20595"/>
                  </a:lnTo>
                  <a:lnTo>
                    <a:pt x="21600" y="20093"/>
                  </a:lnTo>
                  <a:lnTo>
                    <a:pt x="21600" y="19591"/>
                  </a:lnTo>
                  <a:lnTo>
                    <a:pt x="20603" y="18921"/>
                  </a:lnTo>
                  <a:lnTo>
                    <a:pt x="17280" y="16912"/>
                  </a:lnTo>
                  <a:lnTo>
                    <a:pt x="15286" y="14902"/>
                  </a:lnTo>
                  <a:lnTo>
                    <a:pt x="12295" y="12893"/>
                  </a:lnTo>
                  <a:lnTo>
                    <a:pt x="10302" y="10214"/>
                  </a:lnTo>
                  <a:lnTo>
                    <a:pt x="8308" y="8205"/>
                  </a:lnTo>
                  <a:lnTo>
                    <a:pt x="5982" y="5526"/>
                  </a:lnTo>
                  <a:lnTo>
                    <a:pt x="4985" y="3516"/>
                  </a:lnTo>
                  <a:lnTo>
                    <a:pt x="3988" y="1005"/>
                  </a:lnTo>
                  <a:lnTo>
                    <a:pt x="3988" y="502"/>
                  </a:lnTo>
                  <a:lnTo>
                    <a:pt x="2991" y="0"/>
                  </a:lnTo>
                  <a:lnTo>
                    <a:pt x="1994" y="0"/>
                  </a:lnTo>
                  <a:lnTo>
                    <a:pt x="997" y="0"/>
                  </a:lnTo>
                  <a:lnTo>
                    <a:pt x="0" y="502"/>
                  </a:lnTo>
                  <a:lnTo>
                    <a:pt x="0" y="1005"/>
                  </a:lnTo>
                  <a:close/>
                  <a:moveTo>
                    <a:pt x="0" y="1005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4" name="Freeform 121"/>
            <p:cNvSpPr/>
            <p:nvPr/>
          </p:nvSpPr>
          <p:spPr>
            <a:xfrm>
              <a:off x="5923080" y="3149640"/>
              <a:ext cx="1860480" cy="6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1" y="21600"/>
                  </a:moveTo>
                  <a:lnTo>
                    <a:pt x="958" y="21114"/>
                  </a:lnTo>
                  <a:lnTo>
                    <a:pt x="1806" y="20304"/>
                  </a:lnTo>
                  <a:lnTo>
                    <a:pt x="2672" y="19440"/>
                  </a:lnTo>
                  <a:lnTo>
                    <a:pt x="3520" y="18630"/>
                  </a:lnTo>
                  <a:lnTo>
                    <a:pt x="4368" y="17766"/>
                  </a:lnTo>
                  <a:lnTo>
                    <a:pt x="5160" y="16956"/>
                  </a:lnTo>
                  <a:lnTo>
                    <a:pt x="6008" y="16146"/>
                  </a:lnTo>
                  <a:lnTo>
                    <a:pt x="6856" y="15282"/>
                  </a:lnTo>
                  <a:lnTo>
                    <a:pt x="7593" y="14634"/>
                  </a:lnTo>
                  <a:lnTo>
                    <a:pt x="8275" y="14148"/>
                  </a:lnTo>
                  <a:lnTo>
                    <a:pt x="8957" y="13446"/>
                  </a:lnTo>
                  <a:lnTo>
                    <a:pt x="9639" y="12960"/>
                  </a:lnTo>
                  <a:lnTo>
                    <a:pt x="10321" y="12474"/>
                  </a:lnTo>
                  <a:lnTo>
                    <a:pt x="11058" y="11826"/>
                  </a:lnTo>
                  <a:lnTo>
                    <a:pt x="11740" y="11286"/>
                  </a:lnTo>
                  <a:lnTo>
                    <a:pt x="12422" y="10638"/>
                  </a:lnTo>
                  <a:lnTo>
                    <a:pt x="13601" y="9666"/>
                  </a:lnTo>
                  <a:lnTo>
                    <a:pt x="14744" y="8640"/>
                  </a:lnTo>
                  <a:lnTo>
                    <a:pt x="15887" y="7506"/>
                  </a:lnTo>
                  <a:lnTo>
                    <a:pt x="17011" y="6318"/>
                  </a:lnTo>
                  <a:lnTo>
                    <a:pt x="18098" y="5184"/>
                  </a:lnTo>
                  <a:lnTo>
                    <a:pt x="19223" y="3834"/>
                  </a:lnTo>
                  <a:lnTo>
                    <a:pt x="20310" y="2646"/>
                  </a:lnTo>
                  <a:lnTo>
                    <a:pt x="21434" y="1350"/>
                  </a:lnTo>
                  <a:lnTo>
                    <a:pt x="21489" y="1350"/>
                  </a:lnTo>
                  <a:lnTo>
                    <a:pt x="21545" y="1188"/>
                  </a:lnTo>
                  <a:lnTo>
                    <a:pt x="21545" y="1026"/>
                  </a:lnTo>
                  <a:lnTo>
                    <a:pt x="21600" y="1026"/>
                  </a:lnTo>
                  <a:lnTo>
                    <a:pt x="21600" y="864"/>
                  </a:lnTo>
                  <a:lnTo>
                    <a:pt x="21600" y="702"/>
                  </a:lnTo>
                  <a:lnTo>
                    <a:pt x="21600" y="486"/>
                  </a:lnTo>
                  <a:lnTo>
                    <a:pt x="21545" y="486"/>
                  </a:lnTo>
                  <a:lnTo>
                    <a:pt x="21545" y="324"/>
                  </a:lnTo>
                  <a:lnTo>
                    <a:pt x="21489" y="162"/>
                  </a:lnTo>
                  <a:lnTo>
                    <a:pt x="21434" y="162"/>
                  </a:lnTo>
                  <a:lnTo>
                    <a:pt x="21379" y="0"/>
                  </a:lnTo>
                  <a:lnTo>
                    <a:pt x="21324" y="0"/>
                  </a:lnTo>
                  <a:lnTo>
                    <a:pt x="20531" y="702"/>
                  </a:lnTo>
                  <a:lnTo>
                    <a:pt x="19794" y="1512"/>
                  </a:lnTo>
                  <a:lnTo>
                    <a:pt x="19057" y="2322"/>
                  </a:lnTo>
                  <a:lnTo>
                    <a:pt x="18319" y="3024"/>
                  </a:lnTo>
                  <a:lnTo>
                    <a:pt x="17582" y="3834"/>
                  </a:lnTo>
                  <a:lnTo>
                    <a:pt x="16845" y="4806"/>
                  </a:lnTo>
                  <a:lnTo>
                    <a:pt x="16108" y="5670"/>
                  </a:lnTo>
                  <a:lnTo>
                    <a:pt x="15371" y="6318"/>
                  </a:lnTo>
                  <a:lnTo>
                    <a:pt x="14910" y="6804"/>
                  </a:lnTo>
                  <a:lnTo>
                    <a:pt x="14412" y="7344"/>
                  </a:lnTo>
                  <a:lnTo>
                    <a:pt x="13952" y="7830"/>
                  </a:lnTo>
                  <a:lnTo>
                    <a:pt x="13435" y="8316"/>
                  </a:lnTo>
                  <a:lnTo>
                    <a:pt x="12993" y="8802"/>
                  </a:lnTo>
                  <a:lnTo>
                    <a:pt x="12477" y="9126"/>
                  </a:lnTo>
                  <a:lnTo>
                    <a:pt x="11961" y="9666"/>
                  </a:lnTo>
                  <a:lnTo>
                    <a:pt x="11463" y="9990"/>
                  </a:lnTo>
                  <a:lnTo>
                    <a:pt x="10892" y="10476"/>
                  </a:lnTo>
                  <a:lnTo>
                    <a:pt x="10266" y="10962"/>
                  </a:lnTo>
                  <a:lnTo>
                    <a:pt x="9694" y="11502"/>
                  </a:lnTo>
                  <a:lnTo>
                    <a:pt x="9068" y="11988"/>
                  </a:lnTo>
                  <a:lnTo>
                    <a:pt x="8515" y="12474"/>
                  </a:lnTo>
                  <a:lnTo>
                    <a:pt x="7888" y="12960"/>
                  </a:lnTo>
                  <a:lnTo>
                    <a:pt x="7317" y="13446"/>
                  </a:lnTo>
                  <a:lnTo>
                    <a:pt x="6745" y="14148"/>
                  </a:lnTo>
                  <a:lnTo>
                    <a:pt x="5898" y="14958"/>
                  </a:lnTo>
                  <a:lnTo>
                    <a:pt x="5050" y="15822"/>
                  </a:lnTo>
                  <a:lnTo>
                    <a:pt x="4202" y="16794"/>
                  </a:lnTo>
                  <a:lnTo>
                    <a:pt x="3410" y="17604"/>
                  </a:lnTo>
                  <a:lnTo>
                    <a:pt x="2543" y="18630"/>
                  </a:lnTo>
                  <a:lnTo>
                    <a:pt x="1751" y="19440"/>
                  </a:lnTo>
                  <a:lnTo>
                    <a:pt x="903" y="20304"/>
                  </a:lnTo>
                  <a:lnTo>
                    <a:pt x="55" y="20952"/>
                  </a:lnTo>
                  <a:lnTo>
                    <a:pt x="0" y="21114"/>
                  </a:lnTo>
                  <a:lnTo>
                    <a:pt x="0" y="21276"/>
                  </a:lnTo>
                  <a:lnTo>
                    <a:pt x="0" y="21438"/>
                  </a:lnTo>
                  <a:lnTo>
                    <a:pt x="0" y="21600"/>
                  </a:lnTo>
                  <a:lnTo>
                    <a:pt x="55" y="21600"/>
                  </a:lnTo>
                  <a:lnTo>
                    <a:pt x="111" y="21600"/>
                  </a:lnTo>
                  <a:close/>
                  <a:moveTo>
                    <a:pt x="111" y="216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5" name="Freeform 122"/>
            <p:cNvSpPr/>
            <p:nvPr/>
          </p:nvSpPr>
          <p:spPr>
            <a:xfrm>
              <a:off x="5951520" y="3367080"/>
              <a:ext cx="1641600" cy="53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" y="21407"/>
                  </a:moveTo>
                  <a:lnTo>
                    <a:pt x="1734" y="20181"/>
                  </a:lnTo>
                  <a:lnTo>
                    <a:pt x="3217" y="18827"/>
                  </a:lnTo>
                  <a:lnTo>
                    <a:pt x="4763" y="17409"/>
                  </a:lnTo>
                  <a:lnTo>
                    <a:pt x="6246" y="16055"/>
                  </a:lnTo>
                  <a:lnTo>
                    <a:pt x="7729" y="14443"/>
                  </a:lnTo>
                  <a:lnTo>
                    <a:pt x="9275" y="13089"/>
                  </a:lnTo>
                  <a:lnTo>
                    <a:pt x="10737" y="11477"/>
                  </a:lnTo>
                  <a:lnTo>
                    <a:pt x="12221" y="9865"/>
                  </a:lnTo>
                  <a:lnTo>
                    <a:pt x="13369" y="8704"/>
                  </a:lnTo>
                  <a:lnTo>
                    <a:pt x="14539" y="7737"/>
                  </a:lnTo>
                  <a:lnTo>
                    <a:pt x="15688" y="6706"/>
                  </a:lnTo>
                  <a:lnTo>
                    <a:pt x="16858" y="5932"/>
                  </a:lnTo>
                  <a:lnTo>
                    <a:pt x="18007" y="4965"/>
                  </a:lnTo>
                  <a:lnTo>
                    <a:pt x="19156" y="3933"/>
                  </a:lnTo>
                  <a:lnTo>
                    <a:pt x="20326" y="2773"/>
                  </a:lnTo>
                  <a:lnTo>
                    <a:pt x="21412" y="1354"/>
                  </a:lnTo>
                  <a:lnTo>
                    <a:pt x="21475" y="1354"/>
                  </a:lnTo>
                  <a:lnTo>
                    <a:pt x="21537" y="1354"/>
                  </a:lnTo>
                  <a:lnTo>
                    <a:pt x="21537" y="1161"/>
                  </a:lnTo>
                  <a:lnTo>
                    <a:pt x="21537" y="967"/>
                  </a:lnTo>
                  <a:lnTo>
                    <a:pt x="21600" y="967"/>
                  </a:lnTo>
                  <a:lnTo>
                    <a:pt x="21600" y="774"/>
                  </a:lnTo>
                  <a:lnTo>
                    <a:pt x="21600" y="580"/>
                  </a:lnTo>
                  <a:lnTo>
                    <a:pt x="21600" y="387"/>
                  </a:lnTo>
                  <a:lnTo>
                    <a:pt x="21537" y="387"/>
                  </a:lnTo>
                  <a:lnTo>
                    <a:pt x="21537" y="193"/>
                  </a:lnTo>
                  <a:lnTo>
                    <a:pt x="21475" y="0"/>
                  </a:lnTo>
                  <a:lnTo>
                    <a:pt x="21412" y="0"/>
                  </a:lnTo>
                  <a:lnTo>
                    <a:pt x="21349" y="0"/>
                  </a:lnTo>
                  <a:lnTo>
                    <a:pt x="21287" y="0"/>
                  </a:lnTo>
                  <a:lnTo>
                    <a:pt x="21224" y="0"/>
                  </a:lnTo>
                  <a:lnTo>
                    <a:pt x="20075" y="1161"/>
                  </a:lnTo>
                  <a:lnTo>
                    <a:pt x="18968" y="2128"/>
                  </a:lnTo>
                  <a:lnTo>
                    <a:pt x="17819" y="3159"/>
                  </a:lnTo>
                  <a:lnTo>
                    <a:pt x="16649" y="3933"/>
                  </a:lnTo>
                  <a:lnTo>
                    <a:pt x="15500" y="4965"/>
                  </a:lnTo>
                  <a:lnTo>
                    <a:pt x="14351" y="5932"/>
                  </a:lnTo>
                  <a:lnTo>
                    <a:pt x="13181" y="7093"/>
                  </a:lnTo>
                  <a:lnTo>
                    <a:pt x="12032" y="8318"/>
                  </a:lnTo>
                  <a:lnTo>
                    <a:pt x="10549" y="9865"/>
                  </a:lnTo>
                  <a:lnTo>
                    <a:pt x="9066" y="11477"/>
                  </a:lnTo>
                  <a:lnTo>
                    <a:pt x="7520" y="12896"/>
                  </a:lnTo>
                  <a:lnTo>
                    <a:pt x="6058" y="14443"/>
                  </a:lnTo>
                  <a:lnTo>
                    <a:pt x="4575" y="16055"/>
                  </a:lnTo>
                  <a:lnTo>
                    <a:pt x="3092" y="17409"/>
                  </a:lnTo>
                  <a:lnTo>
                    <a:pt x="1609" y="19021"/>
                  </a:lnTo>
                  <a:lnTo>
                    <a:pt x="125" y="20826"/>
                  </a:lnTo>
                  <a:lnTo>
                    <a:pt x="63" y="20826"/>
                  </a:lnTo>
                  <a:lnTo>
                    <a:pt x="63" y="21020"/>
                  </a:lnTo>
                  <a:lnTo>
                    <a:pt x="0" y="21020"/>
                  </a:lnTo>
                  <a:lnTo>
                    <a:pt x="0" y="21213"/>
                  </a:lnTo>
                  <a:lnTo>
                    <a:pt x="63" y="21213"/>
                  </a:lnTo>
                  <a:lnTo>
                    <a:pt x="63" y="21407"/>
                  </a:lnTo>
                  <a:lnTo>
                    <a:pt x="125" y="21407"/>
                  </a:lnTo>
                  <a:lnTo>
                    <a:pt x="125" y="21600"/>
                  </a:lnTo>
                  <a:lnTo>
                    <a:pt x="209" y="21600"/>
                  </a:lnTo>
                  <a:lnTo>
                    <a:pt x="209" y="21407"/>
                  </a:lnTo>
                  <a:close/>
                  <a:moveTo>
                    <a:pt x="209" y="2140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Freeform 123"/>
            <p:cNvSpPr/>
            <p:nvPr/>
          </p:nvSpPr>
          <p:spPr>
            <a:xfrm>
              <a:off x="5220000" y="3957480"/>
              <a:ext cx="19980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43" y="0"/>
                  </a:moveTo>
                  <a:lnTo>
                    <a:pt x="13200" y="554"/>
                  </a:lnTo>
                  <a:lnTo>
                    <a:pt x="10971" y="1662"/>
                  </a:lnTo>
                  <a:lnTo>
                    <a:pt x="9429" y="2215"/>
                  </a:lnTo>
                  <a:lnTo>
                    <a:pt x="7886" y="2769"/>
                  </a:lnTo>
                  <a:lnTo>
                    <a:pt x="5829" y="3323"/>
                  </a:lnTo>
                  <a:lnTo>
                    <a:pt x="4114" y="4615"/>
                  </a:lnTo>
                  <a:lnTo>
                    <a:pt x="2571" y="5169"/>
                  </a:lnTo>
                  <a:lnTo>
                    <a:pt x="1029" y="6277"/>
                  </a:lnTo>
                  <a:lnTo>
                    <a:pt x="514" y="7385"/>
                  </a:lnTo>
                  <a:lnTo>
                    <a:pt x="514" y="7938"/>
                  </a:lnTo>
                  <a:lnTo>
                    <a:pt x="0" y="7938"/>
                  </a:lnTo>
                  <a:lnTo>
                    <a:pt x="0" y="8492"/>
                  </a:lnTo>
                  <a:lnTo>
                    <a:pt x="0" y="9046"/>
                  </a:lnTo>
                  <a:lnTo>
                    <a:pt x="514" y="9600"/>
                  </a:lnTo>
                  <a:lnTo>
                    <a:pt x="514" y="10154"/>
                  </a:lnTo>
                  <a:lnTo>
                    <a:pt x="1029" y="10154"/>
                  </a:lnTo>
                  <a:lnTo>
                    <a:pt x="1029" y="10708"/>
                  </a:lnTo>
                  <a:lnTo>
                    <a:pt x="514" y="9600"/>
                  </a:lnTo>
                  <a:lnTo>
                    <a:pt x="1029" y="10154"/>
                  </a:lnTo>
                  <a:lnTo>
                    <a:pt x="1029" y="10708"/>
                  </a:lnTo>
                  <a:lnTo>
                    <a:pt x="1543" y="10708"/>
                  </a:lnTo>
                  <a:lnTo>
                    <a:pt x="2571" y="12000"/>
                  </a:lnTo>
                  <a:lnTo>
                    <a:pt x="3086" y="13108"/>
                  </a:lnTo>
                  <a:lnTo>
                    <a:pt x="3600" y="14769"/>
                  </a:lnTo>
                  <a:lnTo>
                    <a:pt x="4114" y="15877"/>
                  </a:lnTo>
                  <a:lnTo>
                    <a:pt x="5143" y="16985"/>
                  </a:lnTo>
                  <a:lnTo>
                    <a:pt x="5829" y="18092"/>
                  </a:lnTo>
                  <a:lnTo>
                    <a:pt x="6343" y="19385"/>
                  </a:lnTo>
                  <a:lnTo>
                    <a:pt x="7371" y="20492"/>
                  </a:lnTo>
                  <a:lnTo>
                    <a:pt x="8400" y="21046"/>
                  </a:lnTo>
                  <a:lnTo>
                    <a:pt x="8914" y="21600"/>
                  </a:lnTo>
                  <a:lnTo>
                    <a:pt x="9429" y="21600"/>
                  </a:lnTo>
                  <a:lnTo>
                    <a:pt x="9943" y="21600"/>
                  </a:lnTo>
                  <a:lnTo>
                    <a:pt x="10457" y="21600"/>
                  </a:lnTo>
                  <a:lnTo>
                    <a:pt x="10971" y="21600"/>
                  </a:lnTo>
                  <a:lnTo>
                    <a:pt x="12000" y="21046"/>
                  </a:lnTo>
                  <a:lnTo>
                    <a:pt x="13200" y="20492"/>
                  </a:lnTo>
                  <a:lnTo>
                    <a:pt x="14229" y="19938"/>
                  </a:lnTo>
                  <a:lnTo>
                    <a:pt x="15771" y="19385"/>
                  </a:lnTo>
                  <a:lnTo>
                    <a:pt x="16800" y="18646"/>
                  </a:lnTo>
                  <a:lnTo>
                    <a:pt x="17829" y="18092"/>
                  </a:lnTo>
                  <a:lnTo>
                    <a:pt x="18857" y="17538"/>
                  </a:lnTo>
                  <a:lnTo>
                    <a:pt x="20057" y="17538"/>
                  </a:lnTo>
                  <a:lnTo>
                    <a:pt x="20571" y="16985"/>
                  </a:lnTo>
                  <a:lnTo>
                    <a:pt x="21086" y="16985"/>
                  </a:lnTo>
                  <a:lnTo>
                    <a:pt x="21086" y="16431"/>
                  </a:lnTo>
                  <a:lnTo>
                    <a:pt x="21600" y="15877"/>
                  </a:lnTo>
                  <a:lnTo>
                    <a:pt x="21600" y="15323"/>
                  </a:lnTo>
                  <a:lnTo>
                    <a:pt x="21600" y="14769"/>
                  </a:lnTo>
                  <a:lnTo>
                    <a:pt x="21600" y="14215"/>
                  </a:lnTo>
                  <a:lnTo>
                    <a:pt x="21086" y="13662"/>
                  </a:lnTo>
                  <a:lnTo>
                    <a:pt x="20571" y="13108"/>
                  </a:lnTo>
                  <a:lnTo>
                    <a:pt x="20057" y="13108"/>
                  </a:lnTo>
                  <a:lnTo>
                    <a:pt x="19543" y="13108"/>
                  </a:lnTo>
                  <a:lnTo>
                    <a:pt x="18857" y="13108"/>
                  </a:lnTo>
                  <a:lnTo>
                    <a:pt x="17829" y="13108"/>
                  </a:lnTo>
                  <a:lnTo>
                    <a:pt x="16800" y="13662"/>
                  </a:lnTo>
                  <a:lnTo>
                    <a:pt x="15771" y="13662"/>
                  </a:lnTo>
                  <a:lnTo>
                    <a:pt x="14743" y="14215"/>
                  </a:lnTo>
                  <a:lnTo>
                    <a:pt x="13714" y="14769"/>
                  </a:lnTo>
                  <a:lnTo>
                    <a:pt x="13200" y="15323"/>
                  </a:lnTo>
                  <a:lnTo>
                    <a:pt x="12000" y="15877"/>
                  </a:lnTo>
                  <a:lnTo>
                    <a:pt x="10971" y="16431"/>
                  </a:lnTo>
                  <a:lnTo>
                    <a:pt x="8914" y="16985"/>
                  </a:lnTo>
                  <a:lnTo>
                    <a:pt x="10457" y="16985"/>
                  </a:lnTo>
                  <a:lnTo>
                    <a:pt x="9429" y="15877"/>
                  </a:lnTo>
                  <a:lnTo>
                    <a:pt x="9429" y="16431"/>
                  </a:lnTo>
                  <a:lnTo>
                    <a:pt x="8914" y="15323"/>
                  </a:lnTo>
                  <a:lnTo>
                    <a:pt x="8400" y="14769"/>
                  </a:lnTo>
                  <a:lnTo>
                    <a:pt x="8400" y="14215"/>
                  </a:lnTo>
                  <a:lnTo>
                    <a:pt x="7886" y="13108"/>
                  </a:lnTo>
                  <a:lnTo>
                    <a:pt x="7371" y="12554"/>
                  </a:lnTo>
                  <a:lnTo>
                    <a:pt x="6857" y="12000"/>
                  </a:lnTo>
                  <a:lnTo>
                    <a:pt x="6343" y="10708"/>
                  </a:lnTo>
                  <a:lnTo>
                    <a:pt x="6343" y="10154"/>
                  </a:lnTo>
                  <a:lnTo>
                    <a:pt x="3600" y="7938"/>
                  </a:lnTo>
                  <a:lnTo>
                    <a:pt x="4629" y="8492"/>
                  </a:lnTo>
                  <a:lnTo>
                    <a:pt x="4114" y="7938"/>
                  </a:lnTo>
                  <a:lnTo>
                    <a:pt x="4114" y="7385"/>
                  </a:lnTo>
                  <a:lnTo>
                    <a:pt x="3600" y="7385"/>
                  </a:lnTo>
                  <a:lnTo>
                    <a:pt x="3086" y="6831"/>
                  </a:lnTo>
                  <a:lnTo>
                    <a:pt x="4114" y="9046"/>
                  </a:lnTo>
                  <a:lnTo>
                    <a:pt x="5143" y="8492"/>
                  </a:lnTo>
                  <a:lnTo>
                    <a:pt x="6343" y="7385"/>
                  </a:lnTo>
                  <a:lnTo>
                    <a:pt x="7886" y="6831"/>
                  </a:lnTo>
                  <a:lnTo>
                    <a:pt x="8914" y="6277"/>
                  </a:lnTo>
                  <a:lnTo>
                    <a:pt x="10457" y="5169"/>
                  </a:lnTo>
                  <a:lnTo>
                    <a:pt x="11486" y="4615"/>
                  </a:lnTo>
                  <a:lnTo>
                    <a:pt x="13200" y="3877"/>
                  </a:lnTo>
                  <a:lnTo>
                    <a:pt x="14229" y="3323"/>
                  </a:lnTo>
                  <a:lnTo>
                    <a:pt x="15771" y="2215"/>
                  </a:lnTo>
                  <a:lnTo>
                    <a:pt x="16286" y="1662"/>
                  </a:lnTo>
                  <a:lnTo>
                    <a:pt x="16286" y="1108"/>
                  </a:lnTo>
                  <a:lnTo>
                    <a:pt x="16286" y="554"/>
                  </a:lnTo>
                  <a:lnTo>
                    <a:pt x="15771" y="554"/>
                  </a:lnTo>
                  <a:lnTo>
                    <a:pt x="15771" y="0"/>
                  </a:lnTo>
                  <a:lnTo>
                    <a:pt x="15257" y="0"/>
                  </a:lnTo>
                  <a:lnTo>
                    <a:pt x="14743" y="0"/>
                  </a:lnTo>
                  <a:close/>
                  <a:moveTo>
                    <a:pt x="14743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7" name="Freeform 124"/>
            <p:cNvSpPr/>
            <p:nvPr/>
          </p:nvSpPr>
          <p:spPr>
            <a:xfrm>
              <a:off x="5688000" y="4201920"/>
              <a:ext cx="893880" cy="6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14" y="326"/>
                  </a:moveTo>
                  <a:lnTo>
                    <a:pt x="230" y="1850"/>
                  </a:lnTo>
                  <a:lnTo>
                    <a:pt x="115" y="3319"/>
                  </a:lnTo>
                  <a:lnTo>
                    <a:pt x="0" y="4842"/>
                  </a:lnTo>
                  <a:lnTo>
                    <a:pt x="115" y="6529"/>
                  </a:lnTo>
                  <a:lnTo>
                    <a:pt x="345" y="7998"/>
                  </a:lnTo>
                  <a:lnTo>
                    <a:pt x="729" y="9521"/>
                  </a:lnTo>
                  <a:lnTo>
                    <a:pt x="1074" y="11045"/>
                  </a:lnTo>
                  <a:lnTo>
                    <a:pt x="1535" y="12351"/>
                  </a:lnTo>
                  <a:lnTo>
                    <a:pt x="2379" y="14201"/>
                  </a:lnTo>
                  <a:lnTo>
                    <a:pt x="3184" y="15724"/>
                  </a:lnTo>
                  <a:lnTo>
                    <a:pt x="4259" y="17084"/>
                  </a:lnTo>
                  <a:lnTo>
                    <a:pt x="5333" y="18227"/>
                  </a:lnTo>
                  <a:lnTo>
                    <a:pt x="6484" y="19260"/>
                  </a:lnTo>
                  <a:lnTo>
                    <a:pt x="7788" y="20077"/>
                  </a:lnTo>
                  <a:lnTo>
                    <a:pt x="9093" y="20729"/>
                  </a:lnTo>
                  <a:lnTo>
                    <a:pt x="10397" y="21274"/>
                  </a:lnTo>
                  <a:lnTo>
                    <a:pt x="11817" y="21437"/>
                  </a:lnTo>
                  <a:lnTo>
                    <a:pt x="13236" y="21600"/>
                  </a:lnTo>
                  <a:lnTo>
                    <a:pt x="14656" y="21437"/>
                  </a:lnTo>
                  <a:lnTo>
                    <a:pt x="16075" y="21274"/>
                  </a:lnTo>
                  <a:lnTo>
                    <a:pt x="17495" y="20729"/>
                  </a:lnTo>
                  <a:lnTo>
                    <a:pt x="18761" y="20240"/>
                  </a:lnTo>
                  <a:lnTo>
                    <a:pt x="20065" y="19424"/>
                  </a:lnTo>
                  <a:lnTo>
                    <a:pt x="21370" y="18553"/>
                  </a:lnTo>
                  <a:lnTo>
                    <a:pt x="21370" y="18390"/>
                  </a:lnTo>
                  <a:lnTo>
                    <a:pt x="21485" y="18390"/>
                  </a:lnTo>
                  <a:lnTo>
                    <a:pt x="21485" y="18227"/>
                  </a:lnTo>
                  <a:lnTo>
                    <a:pt x="21600" y="18063"/>
                  </a:lnTo>
                  <a:lnTo>
                    <a:pt x="21600" y="17900"/>
                  </a:lnTo>
                  <a:lnTo>
                    <a:pt x="21600" y="17737"/>
                  </a:lnTo>
                  <a:lnTo>
                    <a:pt x="21600" y="17574"/>
                  </a:lnTo>
                  <a:lnTo>
                    <a:pt x="21485" y="17574"/>
                  </a:lnTo>
                  <a:lnTo>
                    <a:pt x="21485" y="17411"/>
                  </a:lnTo>
                  <a:lnTo>
                    <a:pt x="21370" y="17411"/>
                  </a:lnTo>
                  <a:lnTo>
                    <a:pt x="21255" y="17247"/>
                  </a:lnTo>
                  <a:lnTo>
                    <a:pt x="21140" y="17247"/>
                  </a:lnTo>
                  <a:lnTo>
                    <a:pt x="21025" y="17247"/>
                  </a:lnTo>
                  <a:lnTo>
                    <a:pt x="20909" y="17247"/>
                  </a:lnTo>
                  <a:lnTo>
                    <a:pt x="19835" y="17900"/>
                  </a:lnTo>
                  <a:lnTo>
                    <a:pt x="18914" y="18390"/>
                  </a:lnTo>
                  <a:lnTo>
                    <a:pt x="17840" y="18880"/>
                  </a:lnTo>
                  <a:lnTo>
                    <a:pt x="16766" y="19260"/>
                  </a:lnTo>
                  <a:lnTo>
                    <a:pt x="15692" y="19587"/>
                  </a:lnTo>
                  <a:lnTo>
                    <a:pt x="14656" y="19750"/>
                  </a:lnTo>
                  <a:lnTo>
                    <a:pt x="13466" y="19750"/>
                  </a:lnTo>
                  <a:lnTo>
                    <a:pt x="12392" y="19750"/>
                  </a:lnTo>
                  <a:lnTo>
                    <a:pt x="11356" y="19587"/>
                  </a:lnTo>
                  <a:lnTo>
                    <a:pt x="10282" y="19424"/>
                  </a:lnTo>
                  <a:lnTo>
                    <a:pt x="9208" y="19097"/>
                  </a:lnTo>
                  <a:lnTo>
                    <a:pt x="8134" y="18553"/>
                  </a:lnTo>
                  <a:lnTo>
                    <a:pt x="7213" y="17900"/>
                  </a:lnTo>
                  <a:lnTo>
                    <a:pt x="6254" y="17247"/>
                  </a:lnTo>
                  <a:lnTo>
                    <a:pt x="5333" y="16214"/>
                  </a:lnTo>
                  <a:lnTo>
                    <a:pt x="4489" y="15234"/>
                  </a:lnTo>
                  <a:lnTo>
                    <a:pt x="3415" y="13711"/>
                  </a:lnTo>
                  <a:lnTo>
                    <a:pt x="2609" y="12024"/>
                  </a:lnTo>
                  <a:lnTo>
                    <a:pt x="1995" y="10392"/>
                  </a:lnTo>
                  <a:lnTo>
                    <a:pt x="1535" y="8379"/>
                  </a:lnTo>
                  <a:lnTo>
                    <a:pt x="1189" y="6529"/>
                  </a:lnTo>
                  <a:lnTo>
                    <a:pt x="1074" y="4516"/>
                  </a:lnTo>
                  <a:lnTo>
                    <a:pt x="959" y="2503"/>
                  </a:lnTo>
                  <a:lnTo>
                    <a:pt x="1074" y="490"/>
                  </a:lnTo>
                  <a:lnTo>
                    <a:pt x="1074" y="326"/>
                  </a:lnTo>
                  <a:lnTo>
                    <a:pt x="959" y="163"/>
                  </a:lnTo>
                  <a:lnTo>
                    <a:pt x="959" y="0"/>
                  </a:lnTo>
                  <a:lnTo>
                    <a:pt x="844" y="0"/>
                  </a:lnTo>
                  <a:lnTo>
                    <a:pt x="729" y="0"/>
                  </a:lnTo>
                  <a:lnTo>
                    <a:pt x="614" y="0"/>
                  </a:lnTo>
                  <a:lnTo>
                    <a:pt x="614" y="163"/>
                  </a:lnTo>
                  <a:lnTo>
                    <a:pt x="460" y="326"/>
                  </a:lnTo>
                  <a:lnTo>
                    <a:pt x="614" y="326"/>
                  </a:lnTo>
                  <a:close/>
                  <a:moveTo>
                    <a:pt x="614" y="326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8" name="Freeform 125"/>
            <p:cNvSpPr/>
            <p:nvPr/>
          </p:nvSpPr>
          <p:spPr>
            <a:xfrm>
              <a:off x="6591600" y="3727440"/>
              <a:ext cx="288720" cy="84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5" y="530"/>
                  </a:moveTo>
                  <a:lnTo>
                    <a:pt x="2611" y="1141"/>
                  </a:lnTo>
                  <a:lnTo>
                    <a:pt x="4391" y="1752"/>
                  </a:lnTo>
                  <a:lnTo>
                    <a:pt x="6290" y="2405"/>
                  </a:lnTo>
                  <a:lnTo>
                    <a:pt x="8070" y="3016"/>
                  </a:lnTo>
                  <a:lnTo>
                    <a:pt x="9969" y="3790"/>
                  </a:lnTo>
                  <a:lnTo>
                    <a:pt x="11393" y="4524"/>
                  </a:lnTo>
                  <a:lnTo>
                    <a:pt x="12818" y="5420"/>
                  </a:lnTo>
                  <a:lnTo>
                    <a:pt x="13886" y="6154"/>
                  </a:lnTo>
                  <a:lnTo>
                    <a:pt x="15073" y="7051"/>
                  </a:lnTo>
                  <a:lnTo>
                    <a:pt x="15785" y="8029"/>
                  </a:lnTo>
                  <a:lnTo>
                    <a:pt x="16497" y="8925"/>
                  </a:lnTo>
                  <a:lnTo>
                    <a:pt x="17209" y="9781"/>
                  </a:lnTo>
                  <a:lnTo>
                    <a:pt x="17565" y="11656"/>
                  </a:lnTo>
                  <a:lnTo>
                    <a:pt x="17209" y="13571"/>
                  </a:lnTo>
                  <a:lnTo>
                    <a:pt x="16141" y="15446"/>
                  </a:lnTo>
                  <a:lnTo>
                    <a:pt x="14716" y="17198"/>
                  </a:lnTo>
                  <a:lnTo>
                    <a:pt x="12462" y="18951"/>
                  </a:lnTo>
                  <a:lnTo>
                    <a:pt x="9613" y="20703"/>
                  </a:lnTo>
                  <a:lnTo>
                    <a:pt x="9613" y="20826"/>
                  </a:lnTo>
                  <a:lnTo>
                    <a:pt x="9613" y="20948"/>
                  </a:lnTo>
                  <a:lnTo>
                    <a:pt x="9613" y="21070"/>
                  </a:lnTo>
                  <a:lnTo>
                    <a:pt x="9613" y="21192"/>
                  </a:lnTo>
                  <a:lnTo>
                    <a:pt x="9613" y="21315"/>
                  </a:lnTo>
                  <a:lnTo>
                    <a:pt x="9969" y="21315"/>
                  </a:lnTo>
                  <a:lnTo>
                    <a:pt x="10325" y="21437"/>
                  </a:lnTo>
                  <a:lnTo>
                    <a:pt x="10325" y="21600"/>
                  </a:lnTo>
                  <a:lnTo>
                    <a:pt x="10681" y="21600"/>
                  </a:lnTo>
                  <a:lnTo>
                    <a:pt x="11037" y="21600"/>
                  </a:lnTo>
                  <a:lnTo>
                    <a:pt x="11393" y="21600"/>
                  </a:lnTo>
                  <a:lnTo>
                    <a:pt x="11749" y="21600"/>
                  </a:lnTo>
                  <a:lnTo>
                    <a:pt x="12105" y="21437"/>
                  </a:lnTo>
                  <a:lnTo>
                    <a:pt x="12462" y="21315"/>
                  </a:lnTo>
                  <a:lnTo>
                    <a:pt x="14716" y="20092"/>
                  </a:lnTo>
                  <a:lnTo>
                    <a:pt x="16853" y="18829"/>
                  </a:lnTo>
                  <a:lnTo>
                    <a:pt x="18633" y="17565"/>
                  </a:lnTo>
                  <a:lnTo>
                    <a:pt x="20176" y="16180"/>
                  </a:lnTo>
                  <a:lnTo>
                    <a:pt x="20888" y="14672"/>
                  </a:lnTo>
                  <a:lnTo>
                    <a:pt x="21600" y="13164"/>
                  </a:lnTo>
                  <a:lnTo>
                    <a:pt x="21600" y="11819"/>
                  </a:lnTo>
                  <a:lnTo>
                    <a:pt x="21244" y="10311"/>
                  </a:lnTo>
                  <a:lnTo>
                    <a:pt x="20888" y="9292"/>
                  </a:lnTo>
                  <a:lnTo>
                    <a:pt x="20532" y="8395"/>
                  </a:lnTo>
                  <a:lnTo>
                    <a:pt x="19820" y="7540"/>
                  </a:lnTo>
                  <a:lnTo>
                    <a:pt x="19108" y="6643"/>
                  </a:lnTo>
                  <a:lnTo>
                    <a:pt x="17921" y="5787"/>
                  </a:lnTo>
                  <a:lnTo>
                    <a:pt x="16853" y="5013"/>
                  </a:lnTo>
                  <a:lnTo>
                    <a:pt x="15429" y="4157"/>
                  </a:lnTo>
                  <a:lnTo>
                    <a:pt x="13886" y="3383"/>
                  </a:lnTo>
                  <a:lnTo>
                    <a:pt x="12462" y="2894"/>
                  </a:lnTo>
                  <a:lnTo>
                    <a:pt x="11037" y="2282"/>
                  </a:lnTo>
                  <a:lnTo>
                    <a:pt x="9969" y="1752"/>
                  </a:lnTo>
                  <a:lnTo>
                    <a:pt x="8426" y="1263"/>
                  </a:lnTo>
                  <a:lnTo>
                    <a:pt x="6646" y="774"/>
                  </a:lnTo>
                  <a:lnTo>
                    <a:pt x="5222" y="408"/>
                  </a:lnTo>
                  <a:lnTo>
                    <a:pt x="3323" y="122"/>
                  </a:lnTo>
                  <a:lnTo>
                    <a:pt x="1187" y="0"/>
                  </a:lnTo>
                  <a:lnTo>
                    <a:pt x="831" y="0"/>
                  </a:lnTo>
                  <a:lnTo>
                    <a:pt x="475" y="0"/>
                  </a:lnTo>
                  <a:lnTo>
                    <a:pt x="0" y="122"/>
                  </a:lnTo>
                  <a:lnTo>
                    <a:pt x="0" y="245"/>
                  </a:lnTo>
                  <a:lnTo>
                    <a:pt x="0" y="408"/>
                  </a:lnTo>
                  <a:lnTo>
                    <a:pt x="475" y="408"/>
                  </a:lnTo>
                  <a:lnTo>
                    <a:pt x="475" y="530"/>
                  </a:lnTo>
                  <a:close/>
                  <a:moveTo>
                    <a:pt x="475" y="53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Freeform 126"/>
            <p:cNvSpPr/>
            <p:nvPr/>
          </p:nvSpPr>
          <p:spPr>
            <a:xfrm>
              <a:off x="6561360" y="4670280"/>
              <a:ext cx="214200" cy="1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60" y="1271"/>
                  </a:moveTo>
                  <a:lnTo>
                    <a:pt x="480" y="3388"/>
                  </a:lnTo>
                  <a:lnTo>
                    <a:pt x="0" y="5294"/>
                  </a:lnTo>
                  <a:lnTo>
                    <a:pt x="0" y="7200"/>
                  </a:lnTo>
                  <a:lnTo>
                    <a:pt x="0" y="9106"/>
                  </a:lnTo>
                  <a:lnTo>
                    <a:pt x="480" y="11012"/>
                  </a:lnTo>
                  <a:lnTo>
                    <a:pt x="1440" y="13129"/>
                  </a:lnTo>
                  <a:lnTo>
                    <a:pt x="2400" y="15035"/>
                  </a:lnTo>
                  <a:lnTo>
                    <a:pt x="4000" y="16306"/>
                  </a:lnTo>
                  <a:lnTo>
                    <a:pt x="5440" y="18212"/>
                  </a:lnTo>
                  <a:lnTo>
                    <a:pt x="7360" y="19482"/>
                  </a:lnTo>
                  <a:lnTo>
                    <a:pt x="9440" y="20329"/>
                  </a:lnTo>
                  <a:lnTo>
                    <a:pt x="11360" y="20965"/>
                  </a:lnTo>
                  <a:lnTo>
                    <a:pt x="13280" y="21600"/>
                  </a:lnTo>
                  <a:lnTo>
                    <a:pt x="15200" y="21600"/>
                  </a:lnTo>
                  <a:lnTo>
                    <a:pt x="17280" y="21600"/>
                  </a:lnTo>
                  <a:lnTo>
                    <a:pt x="19200" y="20965"/>
                  </a:lnTo>
                  <a:lnTo>
                    <a:pt x="19680" y="20965"/>
                  </a:lnTo>
                  <a:lnTo>
                    <a:pt x="20160" y="20965"/>
                  </a:lnTo>
                  <a:lnTo>
                    <a:pt x="20640" y="20329"/>
                  </a:lnTo>
                  <a:lnTo>
                    <a:pt x="21120" y="20329"/>
                  </a:lnTo>
                  <a:lnTo>
                    <a:pt x="21120" y="19482"/>
                  </a:lnTo>
                  <a:lnTo>
                    <a:pt x="21600" y="18847"/>
                  </a:lnTo>
                  <a:lnTo>
                    <a:pt x="21600" y="18212"/>
                  </a:lnTo>
                  <a:lnTo>
                    <a:pt x="21600" y="17576"/>
                  </a:lnTo>
                  <a:lnTo>
                    <a:pt x="21600" y="16941"/>
                  </a:lnTo>
                  <a:lnTo>
                    <a:pt x="21120" y="16306"/>
                  </a:lnTo>
                  <a:lnTo>
                    <a:pt x="20640" y="15671"/>
                  </a:lnTo>
                  <a:lnTo>
                    <a:pt x="20160" y="15035"/>
                  </a:lnTo>
                  <a:lnTo>
                    <a:pt x="19680" y="15035"/>
                  </a:lnTo>
                  <a:lnTo>
                    <a:pt x="19200" y="15035"/>
                  </a:lnTo>
                  <a:lnTo>
                    <a:pt x="17280" y="15035"/>
                  </a:lnTo>
                  <a:lnTo>
                    <a:pt x="15200" y="15035"/>
                  </a:lnTo>
                  <a:lnTo>
                    <a:pt x="13280" y="15035"/>
                  </a:lnTo>
                  <a:lnTo>
                    <a:pt x="11360" y="15035"/>
                  </a:lnTo>
                  <a:lnTo>
                    <a:pt x="9920" y="14400"/>
                  </a:lnTo>
                  <a:lnTo>
                    <a:pt x="7840" y="13765"/>
                  </a:lnTo>
                  <a:lnTo>
                    <a:pt x="6400" y="12494"/>
                  </a:lnTo>
                  <a:lnTo>
                    <a:pt x="4960" y="10376"/>
                  </a:lnTo>
                  <a:lnTo>
                    <a:pt x="4000" y="9741"/>
                  </a:lnTo>
                  <a:lnTo>
                    <a:pt x="3520" y="8471"/>
                  </a:lnTo>
                  <a:lnTo>
                    <a:pt x="2880" y="7835"/>
                  </a:lnTo>
                  <a:lnTo>
                    <a:pt x="2880" y="6565"/>
                  </a:lnTo>
                  <a:lnTo>
                    <a:pt x="2880" y="5294"/>
                  </a:lnTo>
                  <a:lnTo>
                    <a:pt x="2880" y="4024"/>
                  </a:lnTo>
                  <a:lnTo>
                    <a:pt x="2880" y="2541"/>
                  </a:lnTo>
                  <a:lnTo>
                    <a:pt x="2880" y="1906"/>
                  </a:lnTo>
                  <a:lnTo>
                    <a:pt x="2880" y="1271"/>
                  </a:lnTo>
                  <a:lnTo>
                    <a:pt x="2880" y="635"/>
                  </a:lnTo>
                  <a:lnTo>
                    <a:pt x="2400" y="635"/>
                  </a:lnTo>
                  <a:lnTo>
                    <a:pt x="2400" y="0"/>
                  </a:lnTo>
                  <a:lnTo>
                    <a:pt x="1920" y="0"/>
                  </a:lnTo>
                  <a:lnTo>
                    <a:pt x="1440" y="0"/>
                  </a:lnTo>
                  <a:lnTo>
                    <a:pt x="1440" y="635"/>
                  </a:lnTo>
                  <a:lnTo>
                    <a:pt x="960" y="635"/>
                  </a:lnTo>
                  <a:lnTo>
                    <a:pt x="960" y="1271"/>
                  </a:lnTo>
                  <a:close/>
                  <a:moveTo>
                    <a:pt x="960" y="127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0" name="Freeform 127"/>
            <p:cNvSpPr/>
            <p:nvPr/>
          </p:nvSpPr>
          <p:spPr>
            <a:xfrm>
              <a:off x="6539040" y="4478400"/>
              <a:ext cx="614520" cy="71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72" y="3271"/>
                  </a:moveTo>
                  <a:lnTo>
                    <a:pt x="5972" y="3560"/>
                  </a:lnTo>
                  <a:lnTo>
                    <a:pt x="5972" y="3993"/>
                  </a:lnTo>
                  <a:lnTo>
                    <a:pt x="6140" y="4282"/>
                  </a:lnTo>
                  <a:lnTo>
                    <a:pt x="6530" y="4426"/>
                  </a:lnTo>
                  <a:lnTo>
                    <a:pt x="6865" y="4763"/>
                  </a:lnTo>
                  <a:lnTo>
                    <a:pt x="7200" y="4907"/>
                  </a:lnTo>
                  <a:lnTo>
                    <a:pt x="7535" y="5051"/>
                  </a:lnTo>
                  <a:lnTo>
                    <a:pt x="7870" y="5196"/>
                  </a:lnTo>
                  <a:lnTo>
                    <a:pt x="9098" y="5340"/>
                  </a:lnTo>
                  <a:lnTo>
                    <a:pt x="10437" y="5196"/>
                  </a:lnTo>
                  <a:lnTo>
                    <a:pt x="11665" y="4907"/>
                  </a:lnTo>
                  <a:lnTo>
                    <a:pt x="12670" y="4426"/>
                  </a:lnTo>
                  <a:lnTo>
                    <a:pt x="13898" y="3849"/>
                  </a:lnTo>
                  <a:lnTo>
                    <a:pt x="14735" y="3127"/>
                  </a:lnTo>
                  <a:lnTo>
                    <a:pt x="15795" y="2357"/>
                  </a:lnTo>
                  <a:lnTo>
                    <a:pt x="16465" y="1491"/>
                  </a:lnTo>
                  <a:lnTo>
                    <a:pt x="16800" y="1203"/>
                  </a:lnTo>
                  <a:lnTo>
                    <a:pt x="16130" y="1491"/>
                  </a:lnTo>
                  <a:lnTo>
                    <a:pt x="16465" y="1491"/>
                  </a:lnTo>
                  <a:lnTo>
                    <a:pt x="17302" y="1636"/>
                  </a:lnTo>
                  <a:lnTo>
                    <a:pt x="18195" y="1924"/>
                  </a:lnTo>
                  <a:lnTo>
                    <a:pt x="18698" y="2502"/>
                  </a:lnTo>
                  <a:lnTo>
                    <a:pt x="19200" y="3127"/>
                  </a:lnTo>
                  <a:lnTo>
                    <a:pt x="19367" y="3704"/>
                  </a:lnTo>
                  <a:lnTo>
                    <a:pt x="19758" y="4426"/>
                  </a:lnTo>
                  <a:lnTo>
                    <a:pt x="19758" y="5196"/>
                  </a:lnTo>
                  <a:lnTo>
                    <a:pt x="19758" y="5917"/>
                  </a:lnTo>
                  <a:lnTo>
                    <a:pt x="19758" y="7264"/>
                  </a:lnTo>
                  <a:lnTo>
                    <a:pt x="19535" y="8611"/>
                  </a:lnTo>
                  <a:lnTo>
                    <a:pt x="19200" y="9910"/>
                  </a:lnTo>
                  <a:lnTo>
                    <a:pt x="18865" y="11113"/>
                  </a:lnTo>
                  <a:lnTo>
                    <a:pt x="18195" y="12460"/>
                  </a:lnTo>
                  <a:lnTo>
                    <a:pt x="17526" y="13614"/>
                  </a:lnTo>
                  <a:lnTo>
                    <a:pt x="16633" y="14817"/>
                  </a:lnTo>
                  <a:lnTo>
                    <a:pt x="15795" y="15827"/>
                  </a:lnTo>
                  <a:lnTo>
                    <a:pt x="14400" y="16886"/>
                  </a:lnTo>
                  <a:lnTo>
                    <a:pt x="13060" y="17896"/>
                  </a:lnTo>
                  <a:lnTo>
                    <a:pt x="11330" y="18810"/>
                  </a:lnTo>
                  <a:lnTo>
                    <a:pt x="9767" y="19387"/>
                  </a:lnTo>
                  <a:lnTo>
                    <a:pt x="7870" y="19820"/>
                  </a:lnTo>
                  <a:lnTo>
                    <a:pt x="6140" y="20012"/>
                  </a:lnTo>
                  <a:lnTo>
                    <a:pt x="5135" y="20012"/>
                  </a:lnTo>
                  <a:lnTo>
                    <a:pt x="4298" y="19820"/>
                  </a:lnTo>
                  <a:lnTo>
                    <a:pt x="3405" y="19676"/>
                  </a:lnTo>
                  <a:lnTo>
                    <a:pt x="2567" y="19531"/>
                  </a:lnTo>
                  <a:lnTo>
                    <a:pt x="2233" y="19098"/>
                  </a:lnTo>
                  <a:lnTo>
                    <a:pt x="1842" y="18521"/>
                  </a:lnTo>
                  <a:lnTo>
                    <a:pt x="1842" y="18088"/>
                  </a:lnTo>
                  <a:lnTo>
                    <a:pt x="1842" y="17463"/>
                  </a:lnTo>
                  <a:lnTo>
                    <a:pt x="1842" y="17030"/>
                  </a:lnTo>
                  <a:lnTo>
                    <a:pt x="2233" y="16453"/>
                  </a:lnTo>
                  <a:lnTo>
                    <a:pt x="2400" y="15971"/>
                  </a:lnTo>
                  <a:lnTo>
                    <a:pt x="2902" y="15539"/>
                  </a:lnTo>
                  <a:lnTo>
                    <a:pt x="3405" y="15106"/>
                  </a:lnTo>
                  <a:lnTo>
                    <a:pt x="4130" y="14528"/>
                  </a:lnTo>
                  <a:lnTo>
                    <a:pt x="4633" y="14047"/>
                  </a:lnTo>
                  <a:lnTo>
                    <a:pt x="5302" y="13759"/>
                  </a:lnTo>
                  <a:lnTo>
                    <a:pt x="5972" y="13326"/>
                  </a:lnTo>
                  <a:lnTo>
                    <a:pt x="6698" y="12893"/>
                  </a:lnTo>
                  <a:lnTo>
                    <a:pt x="7367" y="12604"/>
                  </a:lnTo>
                  <a:lnTo>
                    <a:pt x="8205" y="12123"/>
                  </a:lnTo>
                  <a:lnTo>
                    <a:pt x="8205" y="11979"/>
                  </a:lnTo>
                  <a:lnTo>
                    <a:pt x="8372" y="11979"/>
                  </a:lnTo>
                  <a:lnTo>
                    <a:pt x="8595" y="11834"/>
                  </a:lnTo>
                  <a:lnTo>
                    <a:pt x="8595" y="11690"/>
                  </a:lnTo>
                  <a:lnTo>
                    <a:pt x="8763" y="11690"/>
                  </a:lnTo>
                  <a:lnTo>
                    <a:pt x="8763" y="11546"/>
                  </a:lnTo>
                  <a:lnTo>
                    <a:pt x="8930" y="11401"/>
                  </a:lnTo>
                  <a:lnTo>
                    <a:pt x="9098" y="11257"/>
                  </a:lnTo>
                  <a:lnTo>
                    <a:pt x="9098" y="11113"/>
                  </a:lnTo>
                  <a:lnTo>
                    <a:pt x="9265" y="10968"/>
                  </a:lnTo>
                  <a:lnTo>
                    <a:pt x="9265" y="10824"/>
                  </a:lnTo>
                  <a:lnTo>
                    <a:pt x="9265" y="10680"/>
                  </a:lnTo>
                  <a:lnTo>
                    <a:pt x="9098" y="10680"/>
                  </a:lnTo>
                  <a:lnTo>
                    <a:pt x="9098" y="10535"/>
                  </a:lnTo>
                  <a:lnTo>
                    <a:pt x="8930" y="10391"/>
                  </a:lnTo>
                  <a:lnTo>
                    <a:pt x="8930" y="10199"/>
                  </a:lnTo>
                  <a:lnTo>
                    <a:pt x="8763" y="10199"/>
                  </a:lnTo>
                  <a:lnTo>
                    <a:pt x="8595" y="10199"/>
                  </a:lnTo>
                  <a:lnTo>
                    <a:pt x="8372" y="10199"/>
                  </a:lnTo>
                  <a:lnTo>
                    <a:pt x="8205" y="10199"/>
                  </a:lnTo>
                  <a:lnTo>
                    <a:pt x="8037" y="10199"/>
                  </a:lnTo>
                  <a:lnTo>
                    <a:pt x="7870" y="10391"/>
                  </a:lnTo>
                  <a:lnTo>
                    <a:pt x="6363" y="11113"/>
                  </a:lnTo>
                  <a:lnTo>
                    <a:pt x="4800" y="11979"/>
                  </a:lnTo>
                  <a:lnTo>
                    <a:pt x="3070" y="13037"/>
                  </a:lnTo>
                  <a:lnTo>
                    <a:pt x="1674" y="14240"/>
                  </a:lnTo>
                  <a:lnTo>
                    <a:pt x="1172" y="14817"/>
                  </a:lnTo>
                  <a:lnTo>
                    <a:pt x="670" y="15394"/>
                  </a:lnTo>
                  <a:lnTo>
                    <a:pt x="335" y="16164"/>
                  </a:lnTo>
                  <a:lnTo>
                    <a:pt x="0" y="16886"/>
                  </a:lnTo>
                  <a:lnTo>
                    <a:pt x="0" y="17607"/>
                  </a:lnTo>
                  <a:lnTo>
                    <a:pt x="0" y="18377"/>
                  </a:lnTo>
                  <a:lnTo>
                    <a:pt x="167" y="19098"/>
                  </a:lnTo>
                  <a:lnTo>
                    <a:pt x="670" y="20012"/>
                  </a:lnTo>
                  <a:lnTo>
                    <a:pt x="1005" y="20445"/>
                  </a:lnTo>
                  <a:lnTo>
                    <a:pt x="1507" y="20878"/>
                  </a:lnTo>
                  <a:lnTo>
                    <a:pt x="2233" y="21167"/>
                  </a:lnTo>
                  <a:lnTo>
                    <a:pt x="2735" y="21311"/>
                  </a:lnTo>
                  <a:lnTo>
                    <a:pt x="3405" y="21456"/>
                  </a:lnTo>
                  <a:lnTo>
                    <a:pt x="4130" y="21600"/>
                  </a:lnTo>
                  <a:lnTo>
                    <a:pt x="4633" y="21600"/>
                  </a:lnTo>
                  <a:lnTo>
                    <a:pt x="5302" y="21600"/>
                  </a:lnTo>
                  <a:lnTo>
                    <a:pt x="7033" y="21456"/>
                  </a:lnTo>
                  <a:lnTo>
                    <a:pt x="8595" y="21311"/>
                  </a:lnTo>
                  <a:lnTo>
                    <a:pt x="10102" y="20878"/>
                  </a:lnTo>
                  <a:lnTo>
                    <a:pt x="11665" y="20445"/>
                  </a:lnTo>
                  <a:lnTo>
                    <a:pt x="13060" y="19820"/>
                  </a:lnTo>
                  <a:lnTo>
                    <a:pt x="14400" y="19098"/>
                  </a:lnTo>
                  <a:lnTo>
                    <a:pt x="15628" y="18233"/>
                  </a:lnTo>
                  <a:lnTo>
                    <a:pt x="16800" y="17174"/>
                  </a:lnTo>
                  <a:lnTo>
                    <a:pt x="18028" y="15971"/>
                  </a:lnTo>
                  <a:lnTo>
                    <a:pt x="19033" y="14673"/>
                  </a:lnTo>
                  <a:lnTo>
                    <a:pt x="19926" y="13181"/>
                  </a:lnTo>
                  <a:lnTo>
                    <a:pt x="20428" y="11690"/>
                  </a:lnTo>
                  <a:lnTo>
                    <a:pt x="20930" y="10199"/>
                  </a:lnTo>
                  <a:lnTo>
                    <a:pt x="21265" y="8755"/>
                  </a:lnTo>
                  <a:lnTo>
                    <a:pt x="21433" y="7120"/>
                  </a:lnTo>
                  <a:lnTo>
                    <a:pt x="21600" y="5629"/>
                  </a:lnTo>
                  <a:lnTo>
                    <a:pt x="21433" y="4618"/>
                  </a:lnTo>
                  <a:lnTo>
                    <a:pt x="21265" y="3704"/>
                  </a:lnTo>
                  <a:lnTo>
                    <a:pt x="20930" y="2838"/>
                  </a:lnTo>
                  <a:lnTo>
                    <a:pt x="20428" y="1924"/>
                  </a:lnTo>
                  <a:lnTo>
                    <a:pt x="19758" y="1203"/>
                  </a:lnTo>
                  <a:lnTo>
                    <a:pt x="19033" y="577"/>
                  </a:lnTo>
                  <a:lnTo>
                    <a:pt x="18028" y="144"/>
                  </a:lnTo>
                  <a:lnTo>
                    <a:pt x="16967" y="0"/>
                  </a:lnTo>
                  <a:lnTo>
                    <a:pt x="16130" y="0"/>
                  </a:lnTo>
                  <a:lnTo>
                    <a:pt x="15963" y="0"/>
                  </a:lnTo>
                  <a:lnTo>
                    <a:pt x="15795" y="0"/>
                  </a:lnTo>
                  <a:lnTo>
                    <a:pt x="15628" y="144"/>
                  </a:lnTo>
                  <a:lnTo>
                    <a:pt x="15460" y="144"/>
                  </a:lnTo>
                  <a:lnTo>
                    <a:pt x="15070" y="577"/>
                  </a:lnTo>
                  <a:lnTo>
                    <a:pt x="14567" y="1347"/>
                  </a:lnTo>
                  <a:lnTo>
                    <a:pt x="13898" y="1924"/>
                  </a:lnTo>
                  <a:lnTo>
                    <a:pt x="13228" y="2502"/>
                  </a:lnTo>
                  <a:lnTo>
                    <a:pt x="12335" y="2983"/>
                  </a:lnTo>
                  <a:lnTo>
                    <a:pt x="11498" y="3416"/>
                  </a:lnTo>
                  <a:lnTo>
                    <a:pt x="10605" y="3849"/>
                  </a:lnTo>
                  <a:lnTo>
                    <a:pt x="9600" y="3993"/>
                  </a:lnTo>
                  <a:lnTo>
                    <a:pt x="8595" y="4137"/>
                  </a:lnTo>
                  <a:lnTo>
                    <a:pt x="8372" y="4137"/>
                  </a:lnTo>
                  <a:lnTo>
                    <a:pt x="8037" y="4137"/>
                  </a:lnTo>
                  <a:lnTo>
                    <a:pt x="7702" y="4137"/>
                  </a:lnTo>
                  <a:lnTo>
                    <a:pt x="7367" y="3993"/>
                  </a:lnTo>
                  <a:lnTo>
                    <a:pt x="7200" y="3849"/>
                  </a:lnTo>
                  <a:lnTo>
                    <a:pt x="7033" y="3704"/>
                  </a:lnTo>
                  <a:lnTo>
                    <a:pt x="6865" y="3416"/>
                  </a:lnTo>
                  <a:lnTo>
                    <a:pt x="6698" y="3127"/>
                  </a:lnTo>
                  <a:lnTo>
                    <a:pt x="6530" y="2983"/>
                  </a:lnTo>
                  <a:lnTo>
                    <a:pt x="6363" y="2983"/>
                  </a:lnTo>
                  <a:lnTo>
                    <a:pt x="6140" y="2983"/>
                  </a:lnTo>
                  <a:lnTo>
                    <a:pt x="5972" y="2983"/>
                  </a:lnTo>
                  <a:lnTo>
                    <a:pt x="5972" y="3127"/>
                  </a:lnTo>
                  <a:lnTo>
                    <a:pt x="5972" y="3271"/>
                  </a:lnTo>
                  <a:close/>
                  <a:moveTo>
                    <a:pt x="5972" y="327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1" name="Freeform 128"/>
            <p:cNvSpPr/>
            <p:nvPr/>
          </p:nvSpPr>
          <p:spPr>
            <a:xfrm>
              <a:off x="5349960" y="4329000"/>
              <a:ext cx="322200" cy="8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531"/>
                  </a:moveTo>
                  <a:lnTo>
                    <a:pt x="19259" y="8247"/>
                  </a:lnTo>
                  <a:lnTo>
                    <a:pt x="16705" y="3535"/>
                  </a:lnTo>
                  <a:lnTo>
                    <a:pt x="14045" y="1178"/>
                  </a:lnTo>
                  <a:lnTo>
                    <a:pt x="11385" y="0"/>
                  </a:lnTo>
                  <a:lnTo>
                    <a:pt x="8832" y="1178"/>
                  </a:lnTo>
                  <a:lnTo>
                    <a:pt x="5852" y="2356"/>
                  </a:lnTo>
                  <a:lnTo>
                    <a:pt x="3299" y="5891"/>
                  </a:lnTo>
                  <a:lnTo>
                    <a:pt x="958" y="9425"/>
                  </a:lnTo>
                  <a:lnTo>
                    <a:pt x="638" y="10604"/>
                  </a:lnTo>
                  <a:lnTo>
                    <a:pt x="319" y="10604"/>
                  </a:lnTo>
                  <a:lnTo>
                    <a:pt x="0" y="12175"/>
                  </a:lnTo>
                  <a:lnTo>
                    <a:pt x="0" y="13353"/>
                  </a:lnTo>
                  <a:lnTo>
                    <a:pt x="0" y="14531"/>
                  </a:lnTo>
                  <a:lnTo>
                    <a:pt x="0" y="15709"/>
                  </a:lnTo>
                  <a:lnTo>
                    <a:pt x="0" y="16887"/>
                  </a:lnTo>
                  <a:lnTo>
                    <a:pt x="0" y="18065"/>
                  </a:lnTo>
                  <a:lnTo>
                    <a:pt x="0" y="19244"/>
                  </a:lnTo>
                  <a:lnTo>
                    <a:pt x="319" y="19244"/>
                  </a:lnTo>
                  <a:lnTo>
                    <a:pt x="638" y="20422"/>
                  </a:lnTo>
                  <a:lnTo>
                    <a:pt x="958" y="20422"/>
                  </a:lnTo>
                  <a:lnTo>
                    <a:pt x="1277" y="21600"/>
                  </a:lnTo>
                  <a:lnTo>
                    <a:pt x="1596" y="21600"/>
                  </a:lnTo>
                  <a:lnTo>
                    <a:pt x="1915" y="21600"/>
                  </a:lnTo>
                  <a:lnTo>
                    <a:pt x="2234" y="20422"/>
                  </a:lnTo>
                  <a:lnTo>
                    <a:pt x="4256" y="16887"/>
                  </a:lnTo>
                  <a:lnTo>
                    <a:pt x="6491" y="14531"/>
                  </a:lnTo>
                  <a:lnTo>
                    <a:pt x="8832" y="12175"/>
                  </a:lnTo>
                  <a:lnTo>
                    <a:pt x="11385" y="12175"/>
                  </a:lnTo>
                  <a:lnTo>
                    <a:pt x="13726" y="12175"/>
                  </a:lnTo>
                  <a:lnTo>
                    <a:pt x="16067" y="13353"/>
                  </a:lnTo>
                  <a:lnTo>
                    <a:pt x="18301" y="15709"/>
                  </a:lnTo>
                  <a:lnTo>
                    <a:pt x="20642" y="18065"/>
                  </a:lnTo>
                  <a:lnTo>
                    <a:pt x="20962" y="18065"/>
                  </a:lnTo>
                  <a:lnTo>
                    <a:pt x="21281" y="18065"/>
                  </a:lnTo>
                  <a:lnTo>
                    <a:pt x="21600" y="18065"/>
                  </a:lnTo>
                  <a:lnTo>
                    <a:pt x="21600" y="16887"/>
                  </a:lnTo>
                  <a:lnTo>
                    <a:pt x="21600" y="15709"/>
                  </a:lnTo>
                  <a:lnTo>
                    <a:pt x="21600" y="14531"/>
                  </a:lnTo>
                  <a:close/>
                  <a:moveTo>
                    <a:pt x="21600" y="1453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2" name="Freeform 129"/>
            <p:cNvSpPr/>
            <p:nvPr/>
          </p:nvSpPr>
          <p:spPr>
            <a:xfrm>
              <a:off x="5392800" y="4483080"/>
              <a:ext cx="357120" cy="12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12" y="8370"/>
                  </a:moveTo>
                  <a:lnTo>
                    <a:pt x="18912" y="4320"/>
                  </a:lnTo>
                  <a:lnTo>
                    <a:pt x="16032" y="1620"/>
                  </a:lnTo>
                  <a:lnTo>
                    <a:pt x="13056" y="0"/>
                  </a:lnTo>
                  <a:lnTo>
                    <a:pt x="10080" y="0"/>
                  </a:lnTo>
                  <a:lnTo>
                    <a:pt x="8640" y="810"/>
                  </a:lnTo>
                  <a:lnTo>
                    <a:pt x="7104" y="1620"/>
                  </a:lnTo>
                  <a:lnTo>
                    <a:pt x="5952" y="2430"/>
                  </a:lnTo>
                  <a:lnTo>
                    <a:pt x="4512" y="4320"/>
                  </a:lnTo>
                  <a:lnTo>
                    <a:pt x="3264" y="6750"/>
                  </a:lnTo>
                  <a:lnTo>
                    <a:pt x="2112" y="9180"/>
                  </a:lnTo>
                  <a:lnTo>
                    <a:pt x="1248" y="12420"/>
                  </a:lnTo>
                  <a:lnTo>
                    <a:pt x="384" y="15930"/>
                  </a:lnTo>
                  <a:lnTo>
                    <a:pt x="0" y="16740"/>
                  </a:lnTo>
                  <a:lnTo>
                    <a:pt x="0" y="17550"/>
                  </a:lnTo>
                  <a:lnTo>
                    <a:pt x="0" y="18360"/>
                  </a:lnTo>
                  <a:lnTo>
                    <a:pt x="0" y="19170"/>
                  </a:lnTo>
                  <a:lnTo>
                    <a:pt x="0" y="19980"/>
                  </a:lnTo>
                  <a:lnTo>
                    <a:pt x="384" y="19980"/>
                  </a:lnTo>
                  <a:lnTo>
                    <a:pt x="384" y="20790"/>
                  </a:lnTo>
                  <a:lnTo>
                    <a:pt x="672" y="20790"/>
                  </a:lnTo>
                  <a:lnTo>
                    <a:pt x="960" y="21600"/>
                  </a:lnTo>
                  <a:lnTo>
                    <a:pt x="1248" y="21600"/>
                  </a:lnTo>
                  <a:lnTo>
                    <a:pt x="1536" y="21600"/>
                  </a:lnTo>
                  <a:lnTo>
                    <a:pt x="1824" y="21600"/>
                  </a:lnTo>
                  <a:lnTo>
                    <a:pt x="2112" y="20790"/>
                  </a:lnTo>
                  <a:lnTo>
                    <a:pt x="3264" y="18360"/>
                  </a:lnTo>
                  <a:lnTo>
                    <a:pt x="4224" y="15930"/>
                  </a:lnTo>
                  <a:lnTo>
                    <a:pt x="5088" y="13230"/>
                  </a:lnTo>
                  <a:lnTo>
                    <a:pt x="6240" y="11610"/>
                  </a:lnTo>
                  <a:lnTo>
                    <a:pt x="7392" y="9990"/>
                  </a:lnTo>
                  <a:lnTo>
                    <a:pt x="8640" y="9180"/>
                  </a:lnTo>
                  <a:lnTo>
                    <a:pt x="9792" y="8370"/>
                  </a:lnTo>
                  <a:lnTo>
                    <a:pt x="11232" y="7560"/>
                  </a:lnTo>
                  <a:lnTo>
                    <a:pt x="12480" y="7560"/>
                  </a:lnTo>
                  <a:lnTo>
                    <a:pt x="13632" y="7560"/>
                  </a:lnTo>
                  <a:lnTo>
                    <a:pt x="14784" y="8370"/>
                  </a:lnTo>
                  <a:lnTo>
                    <a:pt x="16032" y="8370"/>
                  </a:lnTo>
                  <a:lnTo>
                    <a:pt x="17184" y="9180"/>
                  </a:lnTo>
                  <a:lnTo>
                    <a:pt x="18336" y="9990"/>
                  </a:lnTo>
                  <a:lnTo>
                    <a:pt x="19584" y="10800"/>
                  </a:lnTo>
                  <a:lnTo>
                    <a:pt x="20448" y="11610"/>
                  </a:lnTo>
                  <a:lnTo>
                    <a:pt x="20736" y="11610"/>
                  </a:lnTo>
                  <a:lnTo>
                    <a:pt x="20736" y="12420"/>
                  </a:lnTo>
                  <a:lnTo>
                    <a:pt x="21024" y="12420"/>
                  </a:lnTo>
                  <a:lnTo>
                    <a:pt x="21312" y="11610"/>
                  </a:lnTo>
                  <a:lnTo>
                    <a:pt x="21600" y="11610"/>
                  </a:lnTo>
                  <a:lnTo>
                    <a:pt x="21600" y="10800"/>
                  </a:lnTo>
                  <a:lnTo>
                    <a:pt x="21600" y="9990"/>
                  </a:lnTo>
                  <a:lnTo>
                    <a:pt x="21600" y="9180"/>
                  </a:lnTo>
                  <a:lnTo>
                    <a:pt x="21312" y="9180"/>
                  </a:lnTo>
                  <a:lnTo>
                    <a:pt x="21312" y="8370"/>
                  </a:lnTo>
                  <a:close/>
                  <a:moveTo>
                    <a:pt x="21312" y="837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Freeform 130"/>
            <p:cNvSpPr/>
            <p:nvPr/>
          </p:nvSpPr>
          <p:spPr>
            <a:xfrm>
              <a:off x="4926240" y="4087800"/>
              <a:ext cx="606240" cy="79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910" y="7530"/>
                  </a:moveTo>
                  <a:lnTo>
                    <a:pt x="13231" y="6497"/>
                  </a:lnTo>
                  <a:lnTo>
                    <a:pt x="12383" y="5551"/>
                  </a:lnTo>
                  <a:lnTo>
                    <a:pt x="11479" y="4647"/>
                  </a:lnTo>
                  <a:lnTo>
                    <a:pt x="10630" y="3700"/>
                  </a:lnTo>
                  <a:lnTo>
                    <a:pt x="9556" y="2797"/>
                  </a:lnTo>
                  <a:lnTo>
                    <a:pt x="8538" y="1979"/>
                  </a:lnTo>
                  <a:lnTo>
                    <a:pt x="7294" y="1205"/>
                  </a:lnTo>
                  <a:lnTo>
                    <a:pt x="6107" y="387"/>
                  </a:lnTo>
                  <a:lnTo>
                    <a:pt x="5372" y="258"/>
                  </a:lnTo>
                  <a:lnTo>
                    <a:pt x="4863" y="0"/>
                  </a:lnTo>
                  <a:lnTo>
                    <a:pt x="4184" y="0"/>
                  </a:lnTo>
                  <a:lnTo>
                    <a:pt x="3675" y="0"/>
                  </a:lnTo>
                  <a:lnTo>
                    <a:pt x="2940" y="0"/>
                  </a:lnTo>
                  <a:lnTo>
                    <a:pt x="2431" y="129"/>
                  </a:lnTo>
                  <a:lnTo>
                    <a:pt x="1923" y="387"/>
                  </a:lnTo>
                  <a:lnTo>
                    <a:pt x="1414" y="645"/>
                  </a:lnTo>
                  <a:lnTo>
                    <a:pt x="848" y="947"/>
                  </a:lnTo>
                  <a:lnTo>
                    <a:pt x="679" y="1334"/>
                  </a:lnTo>
                  <a:lnTo>
                    <a:pt x="339" y="1592"/>
                  </a:lnTo>
                  <a:lnTo>
                    <a:pt x="170" y="1979"/>
                  </a:lnTo>
                  <a:lnTo>
                    <a:pt x="0" y="2367"/>
                  </a:lnTo>
                  <a:lnTo>
                    <a:pt x="0" y="2797"/>
                  </a:lnTo>
                  <a:lnTo>
                    <a:pt x="0" y="3184"/>
                  </a:lnTo>
                  <a:lnTo>
                    <a:pt x="170" y="3571"/>
                  </a:lnTo>
                  <a:lnTo>
                    <a:pt x="1018" y="6368"/>
                  </a:lnTo>
                  <a:lnTo>
                    <a:pt x="2262" y="9122"/>
                  </a:lnTo>
                  <a:lnTo>
                    <a:pt x="2940" y="10456"/>
                  </a:lnTo>
                  <a:lnTo>
                    <a:pt x="3845" y="11661"/>
                  </a:lnTo>
                  <a:lnTo>
                    <a:pt x="4693" y="12994"/>
                  </a:lnTo>
                  <a:lnTo>
                    <a:pt x="5541" y="14156"/>
                  </a:lnTo>
                  <a:lnTo>
                    <a:pt x="6616" y="15361"/>
                  </a:lnTo>
                  <a:lnTo>
                    <a:pt x="7860" y="16437"/>
                  </a:lnTo>
                  <a:lnTo>
                    <a:pt x="8877" y="17469"/>
                  </a:lnTo>
                  <a:lnTo>
                    <a:pt x="10291" y="18545"/>
                  </a:lnTo>
                  <a:lnTo>
                    <a:pt x="11648" y="19320"/>
                  </a:lnTo>
                  <a:lnTo>
                    <a:pt x="13231" y="20137"/>
                  </a:lnTo>
                  <a:lnTo>
                    <a:pt x="14815" y="20782"/>
                  </a:lnTo>
                  <a:lnTo>
                    <a:pt x="16511" y="21428"/>
                  </a:lnTo>
                  <a:lnTo>
                    <a:pt x="17076" y="21428"/>
                  </a:lnTo>
                  <a:lnTo>
                    <a:pt x="17416" y="21600"/>
                  </a:lnTo>
                  <a:lnTo>
                    <a:pt x="17925" y="21600"/>
                  </a:lnTo>
                  <a:lnTo>
                    <a:pt x="18434" y="21600"/>
                  </a:lnTo>
                  <a:lnTo>
                    <a:pt x="18773" y="21428"/>
                  </a:lnTo>
                  <a:lnTo>
                    <a:pt x="19338" y="21299"/>
                  </a:lnTo>
                  <a:lnTo>
                    <a:pt x="19677" y="21041"/>
                  </a:lnTo>
                  <a:lnTo>
                    <a:pt x="20017" y="20782"/>
                  </a:lnTo>
                  <a:lnTo>
                    <a:pt x="20695" y="20137"/>
                  </a:lnTo>
                  <a:lnTo>
                    <a:pt x="21035" y="19449"/>
                  </a:lnTo>
                  <a:lnTo>
                    <a:pt x="21430" y="18803"/>
                  </a:lnTo>
                  <a:lnTo>
                    <a:pt x="21600" y="17986"/>
                  </a:lnTo>
                  <a:lnTo>
                    <a:pt x="21600" y="17340"/>
                  </a:lnTo>
                  <a:lnTo>
                    <a:pt x="21600" y="16566"/>
                  </a:lnTo>
                  <a:lnTo>
                    <a:pt x="21204" y="15877"/>
                  </a:lnTo>
                  <a:lnTo>
                    <a:pt x="20865" y="15103"/>
                  </a:lnTo>
                  <a:lnTo>
                    <a:pt x="20865" y="14974"/>
                  </a:lnTo>
                  <a:lnTo>
                    <a:pt x="20695" y="14974"/>
                  </a:lnTo>
                  <a:lnTo>
                    <a:pt x="20695" y="14845"/>
                  </a:lnTo>
                  <a:lnTo>
                    <a:pt x="20526" y="14716"/>
                  </a:lnTo>
                  <a:lnTo>
                    <a:pt x="20356" y="14716"/>
                  </a:lnTo>
                  <a:lnTo>
                    <a:pt x="20186" y="14716"/>
                  </a:lnTo>
                  <a:lnTo>
                    <a:pt x="20017" y="14716"/>
                  </a:lnTo>
                  <a:lnTo>
                    <a:pt x="19847" y="14716"/>
                  </a:lnTo>
                  <a:lnTo>
                    <a:pt x="19677" y="14716"/>
                  </a:lnTo>
                  <a:lnTo>
                    <a:pt x="19508" y="14845"/>
                  </a:lnTo>
                  <a:lnTo>
                    <a:pt x="19338" y="14974"/>
                  </a:lnTo>
                  <a:lnTo>
                    <a:pt x="19338" y="15103"/>
                  </a:lnTo>
                  <a:lnTo>
                    <a:pt x="19169" y="15232"/>
                  </a:lnTo>
                  <a:lnTo>
                    <a:pt x="19169" y="15361"/>
                  </a:lnTo>
                  <a:lnTo>
                    <a:pt x="19169" y="15490"/>
                  </a:lnTo>
                  <a:lnTo>
                    <a:pt x="19338" y="15877"/>
                  </a:lnTo>
                  <a:lnTo>
                    <a:pt x="19508" y="16265"/>
                  </a:lnTo>
                  <a:lnTo>
                    <a:pt x="19508" y="16695"/>
                  </a:lnTo>
                  <a:lnTo>
                    <a:pt x="19677" y="16953"/>
                  </a:lnTo>
                  <a:lnTo>
                    <a:pt x="19677" y="17340"/>
                  </a:lnTo>
                  <a:lnTo>
                    <a:pt x="19677" y="17727"/>
                  </a:lnTo>
                  <a:lnTo>
                    <a:pt x="19677" y="18158"/>
                  </a:lnTo>
                  <a:lnTo>
                    <a:pt x="19508" y="18545"/>
                  </a:lnTo>
                  <a:lnTo>
                    <a:pt x="19508" y="18932"/>
                  </a:lnTo>
                  <a:lnTo>
                    <a:pt x="19169" y="19320"/>
                  </a:lnTo>
                  <a:lnTo>
                    <a:pt x="18942" y="19578"/>
                  </a:lnTo>
                  <a:lnTo>
                    <a:pt x="18603" y="19879"/>
                  </a:lnTo>
                  <a:lnTo>
                    <a:pt x="18094" y="20008"/>
                  </a:lnTo>
                  <a:lnTo>
                    <a:pt x="17755" y="20137"/>
                  </a:lnTo>
                  <a:lnTo>
                    <a:pt x="17246" y="20137"/>
                  </a:lnTo>
                  <a:lnTo>
                    <a:pt x="16681" y="20008"/>
                  </a:lnTo>
                  <a:lnTo>
                    <a:pt x="15832" y="19707"/>
                  </a:lnTo>
                  <a:lnTo>
                    <a:pt x="15154" y="19449"/>
                  </a:lnTo>
                  <a:lnTo>
                    <a:pt x="14419" y="19061"/>
                  </a:lnTo>
                  <a:lnTo>
                    <a:pt x="13571" y="18674"/>
                  </a:lnTo>
                  <a:lnTo>
                    <a:pt x="12892" y="18287"/>
                  </a:lnTo>
                  <a:lnTo>
                    <a:pt x="12157" y="17857"/>
                  </a:lnTo>
                  <a:lnTo>
                    <a:pt x="11648" y="17469"/>
                  </a:lnTo>
                  <a:lnTo>
                    <a:pt x="10970" y="16953"/>
                  </a:lnTo>
                  <a:lnTo>
                    <a:pt x="10121" y="16265"/>
                  </a:lnTo>
                  <a:lnTo>
                    <a:pt x="9217" y="15490"/>
                  </a:lnTo>
                  <a:lnTo>
                    <a:pt x="8369" y="14716"/>
                  </a:lnTo>
                  <a:lnTo>
                    <a:pt x="7634" y="13898"/>
                  </a:lnTo>
                  <a:lnTo>
                    <a:pt x="6955" y="12994"/>
                  </a:lnTo>
                  <a:lnTo>
                    <a:pt x="6276" y="12177"/>
                  </a:lnTo>
                  <a:lnTo>
                    <a:pt x="5768" y="11273"/>
                  </a:lnTo>
                  <a:lnTo>
                    <a:pt x="5032" y="10327"/>
                  </a:lnTo>
                  <a:lnTo>
                    <a:pt x="4524" y="9380"/>
                  </a:lnTo>
                  <a:lnTo>
                    <a:pt x="4015" y="8476"/>
                  </a:lnTo>
                  <a:lnTo>
                    <a:pt x="3506" y="7530"/>
                  </a:lnTo>
                  <a:lnTo>
                    <a:pt x="2940" y="6626"/>
                  </a:lnTo>
                  <a:lnTo>
                    <a:pt x="2601" y="5680"/>
                  </a:lnTo>
                  <a:lnTo>
                    <a:pt x="2262" y="4776"/>
                  </a:lnTo>
                  <a:lnTo>
                    <a:pt x="1923" y="3700"/>
                  </a:lnTo>
                  <a:lnTo>
                    <a:pt x="1923" y="2797"/>
                  </a:lnTo>
                  <a:lnTo>
                    <a:pt x="1923" y="2668"/>
                  </a:lnTo>
                  <a:lnTo>
                    <a:pt x="1923" y="2496"/>
                  </a:lnTo>
                  <a:lnTo>
                    <a:pt x="1923" y="2367"/>
                  </a:lnTo>
                  <a:lnTo>
                    <a:pt x="2092" y="2237"/>
                  </a:lnTo>
                  <a:lnTo>
                    <a:pt x="2092" y="2108"/>
                  </a:lnTo>
                  <a:lnTo>
                    <a:pt x="2262" y="1979"/>
                  </a:lnTo>
                  <a:lnTo>
                    <a:pt x="2431" y="1850"/>
                  </a:lnTo>
                  <a:lnTo>
                    <a:pt x="2601" y="1721"/>
                  </a:lnTo>
                  <a:lnTo>
                    <a:pt x="2771" y="1592"/>
                  </a:lnTo>
                  <a:lnTo>
                    <a:pt x="2940" y="1463"/>
                  </a:lnTo>
                  <a:lnTo>
                    <a:pt x="3280" y="1463"/>
                  </a:lnTo>
                  <a:lnTo>
                    <a:pt x="3506" y="1463"/>
                  </a:lnTo>
                  <a:lnTo>
                    <a:pt x="3675" y="1334"/>
                  </a:lnTo>
                  <a:lnTo>
                    <a:pt x="3845" y="1334"/>
                  </a:lnTo>
                  <a:lnTo>
                    <a:pt x="4184" y="1463"/>
                  </a:lnTo>
                  <a:lnTo>
                    <a:pt x="5541" y="1979"/>
                  </a:lnTo>
                  <a:lnTo>
                    <a:pt x="6955" y="2668"/>
                  </a:lnTo>
                  <a:lnTo>
                    <a:pt x="8199" y="3442"/>
                  </a:lnTo>
                  <a:lnTo>
                    <a:pt x="9217" y="4389"/>
                  </a:lnTo>
                  <a:lnTo>
                    <a:pt x="10291" y="5292"/>
                  </a:lnTo>
                  <a:lnTo>
                    <a:pt x="11309" y="6239"/>
                  </a:lnTo>
                  <a:lnTo>
                    <a:pt x="12383" y="7143"/>
                  </a:lnTo>
                  <a:lnTo>
                    <a:pt x="13571" y="7960"/>
                  </a:lnTo>
                  <a:lnTo>
                    <a:pt x="13571" y="8089"/>
                  </a:lnTo>
                  <a:lnTo>
                    <a:pt x="13740" y="8089"/>
                  </a:lnTo>
                  <a:lnTo>
                    <a:pt x="13910" y="8089"/>
                  </a:lnTo>
                  <a:lnTo>
                    <a:pt x="13910" y="7960"/>
                  </a:lnTo>
                  <a:lnTo>
                    <a:pt x="14080" y="7960"/>
                  </a:lnTo>
                  <a:lnTo>
                    <a:pt x="14080" y="7831"/>
                  </a:lnTo>
                  <a:lnTo>
                    <a:pt x="14080" y="7659"/>
                  </a:lnTo>
                  <a:lnTo>
                    <a:pt x="14080" y="7530"/>
                  </a:lnTo>
                  <a:lnTo>
                    <a:pt x="13910" y="7530"/>
                  </a:lnTo>
                  <a:close/>
                  <a:moveTo>
                    <a:pt x="13910" y="753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4" name="Freeform 131"/>
            <p:cNvSpPr/>
            <p:nvPr/>
          </p:nvSpPr>
          <p:spPr>
            <a:xfrm>
              <a:off x="5542200" y="1901880"/>
              <a:ext cx="503280" cy="395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726" y="20472"/>
                  </a:moveTo>
                  <a:lnTo>
                    <a:pt x="2317" y="19952"/>
                  </a:lnTo>
                  <a:lnTo>
                    <a:pt x="2112" y="19171"/>
                  </a:lnTo>
                  <a:lnTo>
                    <a:pt x="1840" y="18390"/>
                  </a:lnTo>
                  <a:lnTo>
                    <a:pt x="1635" y="17610"/>
                  </a:lnTo>
                  <a:lnTo>
                    <a:pt x="1431" y="16742"/>
                  </a:lnTo>
                  <a:lnTo>
                    <a:pt x="1431" y="15961"/>
                  </a:lnTo>
                  <a:lnTo>
                    <a:pt x="1431" y="15181"/>
                  </a:lnTo>
                  <a:lnTo>
                    <a:pt x="1635" y="14400"/>
                  </a:lnTo>
                  <a:lnTo>
                    <a:pt x="1840" y="12752"/>
                  </a:lnTo>
                  <a:lnTo>
                    <a:pt x="2317" y="11451"/>
                  </a:lnTo>
                  <a:lnTo>
                    <a:pt x="2726" y="10063"/>
                  </a:lnTo>
                  <a:lnTo>
                    <a:pt x="3339" y="8761"/>
                  </a:lnTo>
                  <a:lnTo>
                    <a:pt x="3952" y="7460"/>
                  </a:lnTo>
                  <a:lnTo>
                    <a:pt x="4838" y="6333"/>
                  </a:lnTo>
                  <a:lnTo>
                    <a:pt x="5656" y="5292"/>
                  </a:lnTo>
                  <a:lnTo>
                    <a:pt x="6473" y="4511"/>
                  </a:lnTo>
                  <a:lnTo>
                    <a:pt x="7563" y="3730"/>
                  </a:lnTo>
                  <a:lnTo>
                    <a:pt x="8585" y="3123"/>
                  </a:lnTo>
                  <a:lnTo>
                    <a:pt x="9608" y="2602"/>
                  </a:lnTo>
                  <a:lnTo>
                    <a:pt x="10698" y="2082"/>
                  </a:lnTo>
                  <a:lnTo>
                    <a:pt x="11924" y="2082"/>
                  </a:lnTo>
                  <a:lnTo>
                    <a:pt x="13015" y="2082"/>
                  </a:lnTo>
                  <a:lnTo>
                    <a:pt x="14241" y="2082"/>
                  </a:lnTo>
                  <a:lnTo>
                    <a:pt x="15536" y="2342"/>
                  </a:lnTo>
                  <a:lnTo>
                    <a:pt x="16558" y="3123"/>
                  </a:lnTo>
                  <a:lnTo>
                    <a:pt x="17784" y="3990"/>
                  </a:lnTo>
                  <a:lnTo>
                    <a:pt x="18670" y="5292"/>
                  </a:lnTo>
                  <a:lnTo>
                    <a:pt x="19283" y="6593"/>
                  </a:lnTo>
                  <a:lnTo>
                    <a:pt x="19692" y="8241"/>
                  </a:lnTo>
                  <a:lnTo>
                    <a:pt x="19897" y="9542"/>
                  </a:lnTo>
                  <a:lnTo>
                    <a:pt x="19692" y="11451"/>
                  </a:lnTo>
                  <a:lnTo>
                    <a:pt x="18874" y="12752"/>
                  </a:lnTo>
                  <a:lnTo>
                    <a:pt x="18874" y="13012"/>
                  </a:lnTo>
                  <a:lnTo>
                    <a:pt x="18874" y="13272"/>
                  </a:lnTo>
                  <a:lnTo>
                    <a:pt x="18874" y="13533"/>
                  </a:lnTo>
                  <a:lnTo>
                    <a:pt x="18874" y="13880"/>
                  </a:lnTo>
                  <a:lnTo>
                    <a:pt x="19079" y="14140"/>
                  </a:lnTo>
                  <a:lnTo>
                    <a:pt x="19283" y="14400"/>
                  </a:lnTo>
                  <a:lnTo>
                    <a:pt x="19488" y="14400"/>
                  </a:lnTo>
                  <a:lnTo>
                    <a:pt x="19692" y="14400"/>
                  </a:lnTo>
                  <a:lnTo>
                    <a:pt x="19897" y="14400"/>
                  </a:lnTo>
                  <a:lnTo>
                    <a:pt x="20101" y="14400"/>
                  </a:lnTo>
                  <a:lnTo>
                    <a:pt x="20101" y="14140"/>
                  </a:lnTo>
                  <a:lnTo>
                    <a:pt x="20305" y="14140"/>
                  </a:lnTo>
                  <a:lnTo>
                    <a:pt x="20305" y="13880"/>
                  </a:lnTo>
                  <a:lnTo>
                    <a:pt x="20714" y="13012"/>
                  </a:lnTo>
                  <a:lnTo>
                    <a:pt x="21191" y="11971"/>
                  </a:lnTo>
                  <a:lnTo>
                    <a:pt x="21396" y="10930"/>
                  </a:lnTo>
                  <a:lnTo>
                    <a:pt x="21600" y="9802"/>
                  </a:lnTo>
                  <a:lnTo>
                    <a:pt x="21600" y="8761"/>
                  </a:lnTo>
                  <a:lnTo>
                    <a:pt x="21396" y="7981"/>
                  </a:lnTo>
                  <a:lnTo>
                    <a:pt x="21191" y="6940"/>
                  </a:lnTo>
                  <a:lnTo>
                    <a:pt x="20987" y="5812"/>
                  </a:lnTo>
                  <a:lnTo>
                    <a:pt x="20305" y="4771"/>
                  </a:lnTo>
                  <a:lnTo>
                    <a:pt x="19692" y="3730"/>
                  </a:lnTo>
                  <a:lnTo>
                    <a:pt x="19079" y="2863"/>
                  </a:lnTo>
                  <a:lnTo>
                    <a:pt x="18261" y="1822"/>
                  </a:lnTo>
                  <a:lnTo>
                    <a:pt x="17375" y="1301"/>
                  </a:lnTo>
                  <a:lnTo>
                    <a:pt x="16558" y="781"/>
                  </a:lnTo>
                  <a:lnTo>
                    <a:pt x="15536" y="260"/>
                  </a:lnTo>
                  <a:lnTo>
                    <a:pt x="14650" y="0"/>
                  </a:lnTo>
                  <a:lnTo>
                    <a:pt x="13219" y="0"/>
                  </a:lnTo>
                  <a:lnTo>
                    <a:pt x="11924" y="0"/>
                  </a:lnTo>
                  <a:lnTo>
                    <a:pt x="10698" y="260"/>
                  </a:lnTo>
                  <a:lnTo>
                    <a:pt x="9403" y="520"/>
                  </a:lnTo>
                  <a:lnTo>
                    <a:pt x="8177" y="1041"/>
                  </a:lnTo>
                  <a:lnTo>
                    <a:pt x="7086" y="1822"/>
                  </a:lnTo>
                  <a:lnTo>
                    <a:pt x="6064" y="2602"/>
                  </a:lnTo>
                  <a:lnTo>
                    <a:pt x="5042" y="3470"/>
                  </a:lnTo>
                  <a:lnTo>
                    <a:pt x="3952" y="4511"/>
                  </a:lnTo>
                  <a:lnTo>
                    <a:pt x="3134" y="5552"/>
                  </a:lnTo>
                  <a:lnTo>
                    <a:pt x="2317" y="6940"/>
                  </a:lnTo>
                  <a:lnTo>
                    <a:pt x="1635" y="8241"/>
                  </a:lnTo>
                  <a:lnTo>
                    <a:pt x="1022" y="9542"/>
                  </a:lnTo>
                  <a:lnTo>
                    <a:pt x="613" y="11190"/>
                  </a:lnTo>
                  <a:lnTo>
                    <a:pt x="204" y="12752"/>
                  </a:lnTo>
                  <a:lnTo>
                    <a:pt x="0" y="14400"/>
                  </a:lnTo>
                  <a:lnTo>
                    <a:pt x="0" y="15441"/>
                  </a:lnTo>
                  <a:lnTo>
                    <a:pt x="0" y="16222"/>
                  </a:lnTo>
                  <a:lnTo>
                    <a:pt x="204" y="17349"/>
                  </a:lnTo>
                  <a:lnTo>
                    <a:pt x="409" y="18130"/>
                  </a:lnTo>
                  <a:lnTo>
                    <a:pt x="613" y="19171"/>
                  </a:lnTo>
                  <a:lnTo>
                    <a:pt x="1022" y="19952"/>
                  </a:lnTo>
                  <a:lnTo>
                    <a:pt x="1431" y="20472"/>
                  </a:lnTo>
                  <a:lnTo>
                    <a:pt x="2112" y="21340"/>
                  </a:lnTo>
                  <a:lnTo>
                    <a:pt x="2317" y="21340"/>
                  </a:lnTo>
                  <a:lnTo>
                    <a:pt x="2317" y="21600"/>
                  </a:lnTo>
                  <a:lnTo>
                    <a:pt x="2521" y="21600"/>
                  </a:lnTo>
                  <a:lnTo>
                    <a:pt x="2726" y="21340"/>
                  </a:lnTo>
                  <a:lnTo>
                    <a:pt x="2930" y="21080"/>
                  </a:lnTo>
                  <a:lnTo>
                    <a:pt x="2930" y="20819"/>
                  </a:lnTo>
                  <a:lnTo>
                    <a:pt x="2726" y="20819"/>
                  </a:lnTo>
                  <a:lnTo>
                    <a:pt x="2726" y="20472"/>
                  </a:lnTo>
                  <a:close/>
                  <a:moveTo>
                    <a:pt x="2726" y="20472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5" name="Freeform 132"/>
            <p:cNvSpPr/>
            <p:nvPr/>
          </p:nvSpPr>
          <p:spPr>
            <a:xfrm>
              <a:off x="6874200" y="2219400"/>
              <a:ext cx="512640" cy="54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3" y="8100"/>
                  </a:moveTo>
                  <a:lnTo>
                    <a:pt x="1471" y="7095"/>
                  </a:lnTo>
                  <a:lnTo>
                    <a:pt x="2073" y="5965"/>
                  </a:lnTo>
                  <a:lnTo>
                    <a:pt x="2675" y="5212"/>
                  </a:lnTo>
                  <a:lnTo>
                    <a:pt x="3477" y="4207"/>
                  </a:lnTo>
                  <a:lnTo>
                    <a:pt x="4547" y="3642"/>
                  </a:lnTo>
                  <a:lnTo>
                    <a:pt x="5550" y="2888"/>
                  </a:lnTo>
                  <a:lnTo>
                    <a:pt x="6554" y="2512"/>
                  </a:lnTo>
                  <a:lnTo>
                    <a:pt x="7824" y="2072"/>
                  </a:lnTo>
                  <a:lnTo>
                    <a:pt x="9496" y="1695"/>
                  </a:lnTo>
                  <a:lnTo>
                    <a:pt x="11302" y="1695"/>
                  </a:lnTo>
                  <a:lnTo>
                    <a:pt x="12973" y="1884"/>
                  </a:lnTo>
                  <a:lnTo>
                    <a:pt x="14645" y="2512"/>
                  </a:lnTo>
                  <a:lnTo>
                    <a:pt x="16250" y="3265"/>
                  </a:lnTo>
                  <a:lnTo>
                    <a:pt x="17521" y="4395"/>
                  </a:lnTo>
                  <a:lnTo>
                    <a:pt x="18123" y="5023"/>
                  </a:lnTo>
                  <a:lnTo>
                    <a:pt x="18524" y="5777"/>
                  </a:lnTo>
                  <a:lnTo>
                    <a:pt x="18925" y="6530"/>
                  </a:lnTo>
                  <a:lnTo>
                    <a:pt x="19126" y="7284"/>
                  </a:lnTo>
                  <a:lnTo>
                    <a:pt x="19326" y="8100"/>
                  </a:lnTo>
                  <a:lnTo>
                    <a:pt x="19527" y="8853"/>
                  </a:lnTo>
                  <a:lnTo>
                    <a:pt x="19728" y="9607"/>
                  </a:lnTo>
                  <a:lnTo>
                    <a:pt x="19728" y="10423"/>
                  </a:lnTo>
                  <a:lnTo>
                    <a:pt x="19728" y="10988"/>
                  </a:lnTo>
                  <a:lnTo>
                    <a:pt x="19728" y="11742"/>
                  </a:lnTo>
                  <a:lnTo>
                    <a:pt x="19527" y="12558"/>
                  </a:lnTo>
                  <a:lnTo>
                    <a:pt x="19326" y="13312"/>
                  </a:lnTo>
                  <a:lnTo>
                    <a:pt x="18925" y="14819"/>
                  </a:lnTo>
                  <a:lnTo>
                    <a:pt x="17922" y="16200"/>
                  </a:lnTo>
                  <a:lnTo>
                    <a:pt x="16651" y="17330"/>
                  </a:lnTo>
                  <a:lnTo>
                    <a:pt x="15448" y="18147"/>
                  </a:lnTo>
                  <a:lnTo>
                    <a:pt x="13776" y="18900"/>
                  </a:lnTo>
                  <a:lnTo>
                    <a:pt x="12171" y="19465"/>
                  </a:lnTo>
                  <a:lnTo>
                    <a:pt x="10499" y="19653"/>
                  </a:lnTo>
                  <a:lnTo>
                    <a:pt x="8627" y="19842"/>
                  </a:lnTo>
                  <a:lnTo>
                    <a:pt x="8426" y="19842"/>
                  </a:lnTo>
                  <a:lnTo>
                    <a:pt x="8426" y="20093"/>
                  </a:lnTo>
                  <a:lnTo>
                    <a:pt x="8225" y="20093"/>
                  </a:lnTo>
                  <a:lnTo>
                    <a:pt x="8025" y="20281"/>
                  </a:lnTo>
                  <a:lnTo>
                    <a:pt x="7824" y="20470"/>
                  </a:lnTo>
                  <a:lnTo>
                    <a:pt x="7824" y="20658"/>
                  </a:lnTo>
                  <a:lnTo>
                    <a:pt x="7824" y="20847"/>
                  </a:lnTo>
                  <a:lnTo>
                    <a:pt x="7824" y="21035"/>
                  </a:lnTo>
                  <a:lnTo>
                    <a:pt x="8025" y="21223"/>
                  </a:lnTo>
                  <a:lnTo>
                    <a:pt x="8225" y="21412"/>
                  </a:lnTo>
                  <a:lnTo>
                    <a:pt x="8426" y="21600"/>
                  </a:lnTo>
                  <a:lnTo>
                    <a:pt x="8627" y="21600"/>
                  </a:lnTo>
                  <a:lnTo>
                    <a:pt x="8827" y="21600"/>
                  </a:lnTo>
                  <a:lnTo>
                    <a:pt x="10900" y="21412"/>
                  </a:lnTo>
                  <a:lnTo>
                    <a:pt x="12973" y="21035"/>
                  </a:lnTo>
                  <a:lnTo>
                    <a:pt x="15046" y="20281"/>
                  </a:lnTo>
                  <a:lnTo>
                    <a:pt x="16651" y="19465"/>
                  </a:lnTo>
                  <a:lnTo>
                    <a:pt x="18323" y="18335"/>
                  </a:lnTo>
                  <a:lnTo>
                    <a:pt x="19728" y="16765"/>
                  </a:lnTo>
                  <a:lnTo>
                    <a:pt x="20396" y="16012"/>
                  </a:lnTo>
                  <a:lnTo>
                    <a:pt x="20798" y="15258"/>
                  </a:lnTo>
                  <a:lnTo>
                    <a:pt x="21199" y="14253"/>
                  </a:lnTo>
                  <a:lnTo>
                    <a:pt x="21399" y="13312"/>
                  </a:lnTo>
                  <a:lnTo>
                    <a:pt x="21600" y="11553"/>
                  </a:lnTo>
                  <a:lnTo>
                    <a:pt x="21600" y="9795"/>
                  </a:lnTo>
                  <a:lnTo>
                    <a:pt x="21199" y="8100"/>
                  </a:lnTo>
                  <a:lnTo>
                    <a:pt x="20798" y="6342"/>
                  </a:lnTo>
                  <a:lnTo>
                    <a:pt x="19995" y="4772"/>
                  </a:lnTo>
                  <a:lnTo>
                    <a:pt x="18925" y="3453"/>
                  </a:lnTo>
                  <a:lnTo>
                    <a:pt x="17721" y="2072"/>
                  </a:lnTo>
                  <a:lnTo>
                    <a:pt x="16050" y="1130"/>
                  </a:lnTo>
                  <a:lnTo>
                    <a:pt x="14846" y="753"/>
                  </a:lnTo>
                  <a:lnTo>
                    <a:pt x="13575" y="377"/>
                  </a:lnTo>
                  <a:lnTo>
                    <a:pt x="12372" y="188"/>
                  </a:lnTo>
                  <a:lnTo>
                    <a:pt x="11101" y="0"/>
                  </a:lnTo>
                  <a:lnTo>
                    <a:pt x="9897" y="188"/>
                  </a:lnTo>
                  <a:lnTo>
                    <a:pt x="8627" y="188"/>
                  </a:lnTo>
                  <a:lnTo>
                    <a:pt x="7423" y="565"/>
                  </a:lnTo>
                  <a:lnTo>
                    <a:pt x="6152" y="942"/>
                  </a:lnTo>
                  <a:lnTo>
                    <a:pt x="5149" y="1319"/>
                  </a:lnTo>
                  <a:lnTo>
                    <a:pt x="4146" y="2072"/>
                  </a:lnTo>
                  <a:lnTo>
                    <a:pt x="3076" y="2700"/>
                  </a:lnTo>
                  <a:lnTo>
                    <a:pt x="2274" y="3642"/>
                  </a:lnTo>
                  <a:lnTo>
                    <a:pt x="1471" y="4395"/>
                  </a:lnTo>
                  <a:lnTo>
                    <a:pt x="802" y="5588"/>
                  </a:lnTo>
                  <a:lnTo>
                    <a:pt x="401" y="6530"/>
                  </a:lnTo>
                  <a:lnTo>
                    <a:pt x="201" y="7912"/>
                  </a:lnTo>
                  <a:lnTo>
                    <a:pt x="0" y="7912"/>
                  </a:lnTo>
                  <a:lnTo>
                    <a:pt x="0" y="8100"/>
                  </a:lnTo>
                  <a:lnTo>
                    <a:pt x="201" y="8100"/>
                  </a:lnTo>
                  <a:lnTo>
                    <a:pt x="201" y="8288"/>
                  </a:lnTo>
                  <a:lnTo>
                    <a:pt x="401" y="8288"/>
                  </a:lnTo>
                  <a:lnTo>
                    <a:pt x="602" y="8288"/>
                  </a:lnTo>
                  <a:lnTo>
                    <a:pt x="802" y="8288"/>
                  </a:lnTo>
                  <a:lnTo>
                    <a:pt x="802" y="8100"/>
                  </a:lnTo>
                  <a:lnTo>
                    <a:pt x="1003" y="8100"/>
                  </a:lnTo>
                  <a:close/>
                  <a:moveTo>
                    <a:pt x="1003" y="81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526" name="D07E007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528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29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530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1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2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533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34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535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6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7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8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9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540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541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42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43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544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545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549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2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553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556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7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8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9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0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1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3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4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6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7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9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360" y="1295280"/>
            <a:ext cx="5807160" cy="4191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Don</a:t>
            </a:r>
            <a:r>
              <a:rPr b="0" lang="ja-JP" sz="5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t forget to put books in your bookbag!  (They are safer that way!)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71" name="Picture 45" descr=""/>
          <p:cNvPicPr/>
          <p:nvPr/>
        </p:nvPicPr>
        <p:blipFill>
          <a:blip r:embed="rId1"/>
          <a:stretch/>
        </p:blipFill>
        <p:spPr>
          <a:xfrm>
            <a:off x="5692680" y="2666880"/>
            <a:ext cx="3451320" cy="2849760"/>
          </a:xfrm>
          <a:prstGeom prst="rect">
            <a:avLst/>
          </a:prstGeom>
          <a:ln w="0">
            <a:noFill/>
          </a:ln>
        </p:spPr>
      </p:pic>
      <p:pic>
        <p:nvPicPr>
          <p:cNvPr id="572" name="BFCAC23B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nis Williams</dc:creator>
  <dc:description/>
  <cp:keywords/>
  <dc:language>en-US</dc:language>
  <cp:lastModifiedBy>Janice Conger</cp:lastModifiedBy>
  <dcterms:modified xsi:type="dcterms:W3CDTF">2011-03-12T22:41:45Z</dcterms:modified>
  <cp:revision>1</cp:revision>
  <dc:subject/>
  <dc:title>Animals Should Definitely Not Borrow Library Books!</dc:title>
</cp:coreProperties>
</file>